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371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49240" indent="-96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2880" y="6629400"/>
            <a:ext cx="2145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5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57200" y="657180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D04F148-1E7E-48F0-AC2C-DF0719252FB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638400"/>
            <a:ext cx="20574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IBIS Summit, DAC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38400"/>
            <a:ext cx="17524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Things in a V/I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3BCBFD2-D3CA-4BD2-85EF-760FC65557E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2680" y="6634080"/>
            <a:ext cx="2145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5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38400"/>
            <a:ext cx="12513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RTG-HSD-DAC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992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2384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3430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gs You Can Learn From V/I Curves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Summit / DAC 2005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d Westerhof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 Systems,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ing Edge Behavior, t=3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301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305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308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3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7760" y="46483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51055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4648320"/>
            <a:ext cx="114300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ing Edge Behavior, t=4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334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335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338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341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4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828800" y="464832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51055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4648320"/>
            <a:ext cx="335304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ing Edge Behavior, t=4.5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367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371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374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1480" y="5943600"/>
            <a:ext cx="1199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4.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51055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28800" y="46483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buffer output changes voltage only when the edge is launched and the reflection is receiv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: 0 to 0.5 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lection: 4 to 4.5 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buffer spends most of its time in the steady-state condition, where behavior is determined by the V/I cur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lection behavior is also determined by the V/I cur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vs. Steady State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401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402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0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60720" y="5943600"/>
            <a:ext cx="5781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3886200"/>
            <a:ext cx="145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905120" y="426672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vs. Steady State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431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435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438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616560" y="5943600"/>
            <a:ext cx="1271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500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5105520"/>
            <a:ext cx="1295280" cy="45720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28800" y="510552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02080" y="3886200"/>
            <a:ext cx="2164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0 to 0.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828800" y="42667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vs. Steady State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465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466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469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472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1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510552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5105520"/>
            <a:ext cx="1219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3886200"/>
            <a:ext cx="145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828800" y="42667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vs. Steady State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499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503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506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8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2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81480" y="51055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8800" y="5105520"/>
            <a:ext cx="335268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57400" y="3886200"/>
            <a:ext cx="145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828800" y="42667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vs. Steady State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533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534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540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2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51480" y="5943600"/>
            <a:ext cx="1199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2.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180760" y="46483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28800" y="51055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886200"/>
            <a:ext cx="145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28800" y="42667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vs. Steady State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567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568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571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574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6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3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037760" y="46483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51055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4648320"/>
            <a:ext cx="114300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057400" y="3886200"/>
            <a:ext cx="145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28800" y="42667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 [Model]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69080" y="4572000"/>
            <a:ext cx="2181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/T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90760" y="4572000"/>
            <a:ext cx="28378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/I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/Pull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R/GND C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573360" cy="252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565440" cy="254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vs. Steady State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602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603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606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609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1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4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828800" y="464832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51055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124080" y="4648320"/>
            <a:ext cx="335304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057400" y="3886200"/>
            <a:ext cx="145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1828800" y="42667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vs. Steady State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637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638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641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644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651480" y="5943600"/>
            <a:ext cx="1199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4.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828800" y="51055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28800" y="46483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07040" y="3886200"/>
            <a:ext cx="2355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4.0 to 4.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828800" y="4266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What Determines Steady-State Valu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400000">
            <a:off x="1685160" y="1972440"/>
            <a:ext cx="1905120" cy="146520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733920" y="2590560"/>
            <a:ext cx="627120" cy="228960"/>
            <a:chOff x="3733920" y="2590560"/>
            <a:chExt cx="627120" cy="228960"/>
          </a:xfrm>
        </p:grpSpPr>
        <p:grpSp>
          <p:nvGrpSpPr>
            <p:cNvPr id="669" name=""/>
            <p:cNvGrpSpPr/>
            <p:nvPr/>
          </p:nvGrpSpPr>
          <p:grpSpPr>
            <a:xfrm>
              <a:off x="3776760" y="2590560"/>
              <a:ext cx="533520" cy="228960"/>
              <a:chOff x="3776760" y="2590560"/>
              <a:chExt cx="533520" cy="228960"/>
            </a:xfrm>
          </p:grpSpPr>
          <p:sp>
            <p:nvSpPr>
              <p:cNvPr id="670" name=""/>
              <p:cNvSpPr/>
              <p:nvPr/>
            </p:nvSpPr>
            <p:spPr>
              <a:xfrm flipH="1">
                <a:off x="4221360" y="259092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flipV="1">
                <a:off x="4132440" y="259056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" name=""/>
              <p:cNvGrpSpPr/>
              <p:nvPr/>
            </p:nvGrpSpPr>
            <p:grpSpPr>
              <a:xfrm>
                <a:off x="3954600" y="2590560"/>
                <a:ext cx="177840" cy="228960"/>
                <a:chOff x="3954600" y="2590560"/>
                <a:chExt cx="177840" cy="228960"/>
              </a:xfrm>
            </p:grpSpPr>
            <p:sp>
              <p:nvSpPr>
                <p:cNvPr id="673" name=""/>
                <p:cNvSpPr/>
                <p:nvPr/>
              </p:nvSpPr>
              <p:spPr>
                <a:xfrm flipH="1">
                  <a:off x="4043520" y="259092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 flipV="1">
                  <a:off x="3954600" y="259056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3776760" y="2590560"/>
                <a:ext cx="177840" cy="228960"/>
                <a:chOff x="3776760" y="2590560"/>
                <a:chExt cx="177840" cy="228960"/>
              </a:xfrm>
            </p:grpSpPr>
            <p:sp>
              <p:nvSpPr>
                <p:cNvPr id="676" name=""/>
                <p:cNvSpPr/>
                <p:nvPr/>
              </p:nvSpPr>
              <p:spPr>
                <a:xfrm flipH="1">
                  <a:off x="3865680" y="259092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 flipV="1">
                  <a:off x="3776760" y="259056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8" name=""/>
            <p:cNvSpPr/>
            <p:nvPr/>
          </p:nvSpPr>
          <p:spPr>
            <a:xfrm flipH="1">
              <a:off x="3733920" y="259092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4318200" y="259344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209680" y="270504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7200360" y="1866600"/>
            <a:ext cx="380880" cy="1676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001000" y="2695680"/>
            <a:ext cx="5335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1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405480" y="177156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048120" y="510552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28800" y="5105520"/>
            <a:ext cx="1219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74720" y="3886200"/>
            <a:ext cx="4763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divider effect determines step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895480" y="42667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133720" y="2133720"/>
            <a:ext cx="172800" cy="474480"/>
            <a:chOff x="2133720" y="2133720"/>
            <a:chExt cx="172800" cy="474480"/>
          </a:xfrm>
        </p:grpSpPr>
        <p:grpSp>
          <p:nvGrpSpPr>
            <p:cNvPr id="697" name=""/>
            <p:cNvGrpSpPr/>
            <p:nvPr/>
          </p:nvGrpSpPr>
          <p:grpSpPr>
            <a:xfrm>
              <a:off x="2133720" y="2167200"/>
              <a:ext cx="172800" cy="402840"/>
              <a:chOff x="2133720" y="2167200"/>
              <a:chExt cx="172800" cy="402840"/>
            </a:xfrm>
          </p:grpSpPr>
          <p:sp>
            <p:nvSpPr>
              <p:cNvPr id="698" name=""/>
              <p:cNvSpPr/>
              <p:nvPr/>
            </p:nvSpPr>
            <p:spPr>
              <a:xfrm flipH="1" flipV="1">
                <a:off x="2133720" y="2503080"/>
                <a:ext cx="172800" cy="6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2133720" y="2436120"/>
                <a:ext cx="172800" cy="6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2133720" y="2301840"/>
                <a:ext cx="172800" cy="133920"/>
                <a:chOff x="2133720" y="2301840"/>
                <a:chExt cx="172800" cy="133920"/>
              </a:xfrm>
            </p:grpSpPr>
            <p:sp>
              <p:nvSpPr>
                <p:cNvPr id="701" name=""/>
                <p:cNvSpPr/>
                <p:nvPr/>
              </p:nvSpPr>
              <p:spPr>
                <a:xfrm flipH="1" flipV="1">
                  <a:off x="2133720" y="2368800"/>
                  <a:ext cx="172800" cy="6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2133720" y="2301840"/>
                  <a:ext cx="172800" cy="6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133720" y="2167200"/>
                <a:ext cx="172800" cy="133920"/>
                <a:chOff x="2133720" y="2167200"/>
                <a:chExt cx="172800" cy="133920"/>
              </a:xfrm>
            </p:grpSpPr>
            <p:sp>
              <p:nvSpPr>
                <p:cNvPr id="704" name=""/>
                <p:cNvSpPr/>
                <p:nvPr/>
              </p:nvSpPr>
              <p:spPr>
                <a:xfrm flipH="1" flipV="1">
                  <a:off x="2133720" y="2234160"/>
                  <a:ext cx="172800" cy="6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V="1">
                  <a:off x="2133720" y="2167200"/>
                  <a:ext cx="172800" cy="6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 flipH="1" flipV="1">
              <a:off x="2210760" y="213372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208600" y="257580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2212920" y="26226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216160" y="167652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1676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4400" y="1371600"/>
            <a:ext cx="587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362320" y="2286000"/>
            <a:ext cx="5522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582000" y="2819520"/>
            <a:ext cx="919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343400" y="270504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781680" y="2590560"/>
            <a:ext cx="627120" cy="228960"/>
            <a:chOff x="6781680" y="2590560"/>
            <a:chExt cx="627120" cy="228960"/>
          </a:xfrm>
        </p:grpSpPr>
        <p:grpSp>
          <p:nvGrpSpPr>
            <p:cNvPr id="716" name=""/>
            <p:cNvGrpSpPr/>
            <p:nvPr/>
          </p:nvGrpSpPr>
          <p:grpSpPr>
            <a:xfrm>
              <a:off x="6824520" y="2590560"/>
              <a:ext cx="533520" cy="228960"/>
              <a:chOff x="6824520" y="2590560"/>
              <a:chExt cx="533520" cy="228960"/>
            </a:xfrm>
          </p:grpSpPr>
          <p:sp>
            <p:nvSpPr>
              <p:cNvPr id="717" name=""/>
              <p:cNvSpPr/>
              <p:nvPr/>
            </p:nvSpPr>
            <p:spPr>
              <a:xfrm flipH="1">
                <a:off x="7269120" y="259092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flipV="1">
                <a:off x="7180200" y="259056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7002360" y="2590560"/>
                <a:ext cx="177840" cy="228960"/>
                <a:chOff x="7002360" y="2590560"/>
                <a:chExt cx="177840" cy="228960"/>
              </a:xfrm>
            </p:grpSpPr>
            <p:sp>
              <p:nvSpPr>
                <p:cNvPr id="720" name=""/>
                <p:cNvSpPr/>
                <p:nvPr/>
              </p:nvSpPr>
              <p:spPr>
                <a:xfrm flipH="1">
                  <a:off x="7091280" y="259092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 flipV="1">
                  <a:off x="7002360" y="259056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6824520" y="2590560"/>
                <a:ext cx="177840" cy="228960"/>
                <a:chOff x="6824520" y="2590560"/>
                <a:chExt cx="177840" cy="228960"/>
              </a:xfrm>
            </p:grpSpPr>
            <p:sp>
              <p:nvSpPr>
                <p:cNvPr id="723" name=""/>
                <p:cNvSpPr/>
                <p:nvPr/>
              </p:nvSpPr>
              <p:spPr>
                <a:xfrm flipH="1">
                  <a:off x="6913440" y="259092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flipV="1">
                  <a:off x="6824520" y="259056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5" name=""/>
            <p:cNvSpPr/>
            <p:nvPr/>
          </p:nvSpPr>
          <p:spPr>
            <a:xfrm flipH="1">
              <a:off x="6781680" y="259092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7365960" y="259344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7418520" y="271620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0"/>
                </a:moveTo>
                <a:lnTo>
                  <a:pt x="192" y="0"/>
                </a:lnTo>
                <a:lnTo>
                  <a:pt x="192" y="38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391520" y="3352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505640" y="3429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012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696080" y="3581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705400" y="1752480"/>
            <a:ext cx="2386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410080" y="2971800"/>
            <a:ext cx="184752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ine looks lik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ohms to G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038480" y="2814120"/>
            <a:ext cx="114300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Determine 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224920" cy="175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know 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can compute step vol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elect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ch that 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5400000">
            <a:off x="2066040" y="2810520"/>
            <a:ext cx="1904760" cy="146520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354348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400000">
            <a:off x="5676480" y="2705040"/>
            <a:ext cx="381240" cy="1676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477120" y="3533760"/>
            <a:ext cx="5331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881600" y="26100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2514240" y="2971440"/>
            <a:ext cx="173520" cy="474840"/>
            <a:chOff x="2514240" y="2971440"/>
            <a:chExt cx="173520" cy="474840"/>
          </a:xfrm>
        </p:grpSpPr>
        <p:grpSp>
          <p:nvGrpSpPr>
            <p:cNvPr id="743" name=""/>
            <p:cNvGrpSpPr/>
            <p:nvPr/>
          </p:nvGrpSpPr>
          <p:grpSpPr>
            <a:xfrm>
              <a:off x="2514240" y="3004200"/>
              <a:ext cx="173520" cy="403920"/>
              <a:chOff x="2514240" y="3004200"/>
              <a:chExt cx="173520" cy="403920"/>
            </a:xfrm>
          </p:grpSpPr>
          <p:sp>
            <p:nvSpPr>
              <p:cNvPr id="744" name=""/>
              <p:cNvSpPr/>
              <p:nvPr/>
            </p:nvSpPr>
            <p:spPr>
              <a:xfrm flipH="1" flipV="1">
                <a:off x="2514240" y="3340800"/>
                <a:ext cx="173160" cy="6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2514600" y="3273480"/>
                <a:ext cx="173160" cy="6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2514240" y="3138840"/>
                <a:ext cx="173520" cy="134640"/>
                <a:chOff x="2514240" y="3138840"/>
                <a:chExt cx="173520" cy="134640"/>
              </a:xfrm>
            </p:grpSpPr>
            <p:sp>
              <p:nvSpPr>
                <p:cNvPr id="747" name=""/>
                <p:cNvSpPr/>
                <p:nvPr/>
              </p:nvSpPr>
              <p:spPr>
                <a:xfrm flipH="1" flipV="1">
                  <a:off x="2514240" y="3206160"/>
                  <a:ext cx="17316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2514600" y="3138840"/>
                  <a:ext cx="17316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2514240" y="3004200"/>
                <a:ext cx="173520" cy="134640"/>
                <a:chOff x="2514240" y="3004200"/>
                <a:chExt cx="173520" cy="134640"/>
              </a:xfrm>
            </p:grpSpPr>
            <p:sp>
              <p:nvSpPr>
                <p:cNvPr id="750" name=""/>
                <p:cNvSpPr/>
                <p:nvPr/>
              </p:nvSpPr>
              <p:spPr>
                <a:xfrm flipH="1" flipV="1">
                  <a:off x="2514240" y="3071520"/>
                  <a:ext cx="17316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2514600" y="3004200"/>
                  <a:ext cx="17316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 flipV="1">
              <a:off x="2591640" y="297144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589480" y="3413880"/>
              <a:ext cx="9612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593800" y="34606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597040" y="251460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1460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285280" y="2209680"/>
            <a:ext cx="587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72520" y="266688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ut = 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038480" y="35434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mber Transistor Curves and Load Lin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4648320"/>
            <a:ext cx="8224920" cy="165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9000"/>
          </a:bodyPr>
          <a:p>
            <a:pPr marL="285840" indent="-28584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used them to find DC bias points for amplifier circuits back in col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’re equally valid for digital circuit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4880" indent="-1742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circuits simply operate with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tur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647960" cy="31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8V HSTL Class 1 Pulldown V/I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224920" cy="166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like a transistor curve?  That’s because it i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case where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VDD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line analysis will find the operating 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1972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8V HSTL Class 1 Pulldown Load 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224920" cy="166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188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nce this is a pull down, load line should be 50 ohms to VDDQ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88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ep voltage for unterminated line is 0.64V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88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buffer will overdrive a 50 ohm line in the nominal cas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419720" cy="314964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 flipH="1" flipV="1">
            <a:off x="1790640" y="2901600"/>
            <a:ext cx="3238560" cy="1266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1599840" y="3352680"/>
            <a:ext cx="1336680" cy="32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3120" bIns="-33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2951280" y="3363840"/>
            <a:ext cx="2880" cy="9590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794960" y="3125880"/>
            <a:ext cx="5263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23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71440" y="3886200"/>
            <a:ext cx="475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64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6546960" y="2514240"/>
            <a:ext cx="172800" cy="474840"/>
            <a:chOff x="6546960" y="2514240"/>
            <a:chExt cx="172800" cy="474840"/>
          </a:xfrm>
        </p:grpSpPr>
        <p:grpSp>
          <p:nvGrpSpPr>
            <p:cNvPr id="775" name=""/>
            <p:cNvGrpSpPr/>
            <p:nvPr/>
          </p:nvGrpSpPr>
          <p:grpSpPr>
            <a:xfrm>
              <a:off x="6546960" y="2547000"/>
              <a:ext cx="172800" cy="403920"/>
              <a:chOff x="6546960" y="2547000"/>
              <a:chExt cx="172800" cy="403920"/>
            </a:xfrm>
          </p:grpSpPr>
          <p:sp>
            <p:nvSpPr>
              <p:cNvPr id="776" name=""/>
              <p:cNvSpPr/>
              <p:nvPr/>
            </p:nvSpPr>
            <p:spPr>
              <a:xfrm flipH="1" flipV="1">
                <a:off x="6546960" y="2883600"/>
                <a:ext cx="172800" cy="6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6546960" y="2816280"/>
                <a:ext cx="172800" cy="6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6546960" y="2681640"/>
                <a:ext cx="172800" cy="134640"/>
                <a:chOff x="6546960" y="2681640"/>
                <a:chExt cx="172800" cy="134640"/>
              </a:xfrm>
            </p:grpSpPr>
            <p:sp>
              <p:nvSpPr>
                <p:cNvPr id="779" name=""/>
                <p:cNvSpPr/>
                <p:nvPr/>
              </p:nvSpPr>
              <p:spPr>
                <a:xfrm flipH="1" flipV="1">
                  <a:off x="6546960" y="274896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6546960" y="268164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6546960" y="2547000"/>
                <a:ext cx="172800" cy="134640"/>
                <a:chOff x="6546960" y="2547000"/>
                <a:chExt cx="172800" cy="13464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flipV="1">
                  <a:off x="6546960" y="261432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6546960" y="254700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 flipH="1" flipV="1">
              <a:off x="6624000" y="251424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6621840" y="295668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6626160" y="3003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29400" y="205740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546960" y="2057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81720" y="1752480"/>
            <a:ext cx="462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73040" y="2590920"/>
            <a:ext cx="733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o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4266720" y="3124080"/>
            <a:ext cx="2210040" cy="68580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47080" y="3886200"/>
            <a:ext cx="20444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volta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645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09720" y="5410080"/>
            <a:ext cx="28396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shoot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9mV below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516280" y="1600200"/>
            <a:ext cx="3385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mmy load has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; gives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171600" cy="163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3409920" cy="29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8" name=""/>
          <p:cNvSpPr/>
          <p:nvPr/>
        </p:nvSpPr>
        <p:spPr>
          <a:xfrm flipH="1">
            <a:off x="3809880" y="1828800"/>
            <a:ext cx="1828800" cy="106668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437920" y="4148280"/>
            <a:ext cx="3783240" cy="57600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2971800" y="5638680"/>
            <a:ext cx="2743200" cy="1908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Else Do We Kn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224920" cy="166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lldown will operate along the V/I curve from the origin to the load line inters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lope of the V/I curve corresponds to Z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f the curve is linear, the device will behave as a resis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rcRect l="0" t="40362" r="14223" b="0"/>
          <a:stretch/>
        </p:blipFill>
        <p:spPr>
          <a:xfrm>
            <a:off x="1600200" y="1752480"/>
            <a:ext cx="6172200" cy="306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al Termination Bas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76720" y="36194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5400000">
            <a:off x="1333440" y="323856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5400000">
            <a:off x="6666840" y="323820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666880" y="3504960"/>
            <a:ext cx="627120" cy="228960"/>
            <a:chOff x="2666880" y="3504960"/>
            <a:chExt cx="627120" cy="228960"/>
          </a:xfrm>
        </p:grpSpPr>
        <p:grpSp>
          <p:nvGrpSpPr>
            <p:cNvPr id="809" name=""/>
            <p:cNvGrpSpPr/>
            <p:nvPr/>
          </p:nvGrpSpPr>
          <p:grpSpPr>
            <a:xfrm>
              <a:off x="2709720" y="3504960"/>
              <a:ext cx="533520" cy="228960"/>
              <a:chOff x="2709720" y="3504960"/>
              <a:chExt cx="533520" cy="228960"/>
            </a:xfrm>
          </p:grpSpPr>
          <p:sp>
            <p:nvSpPr>
              <p:cNvPr id="810" name=""/>
              <p:cNvSpPr/>
              <p:nvPr/>
            </p:nvSpPr>
            <p:spPr>
              <a:xfrm flipH="1">
                <a:off x="3154320" y="350532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flipV="1">
                <a:off x="3065400" y="350496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2887560" y="3504960"/>
                <a:ext cx="177840" cy="228960"/>
                <a:chOff x="2887560" y="3504960"/>
                <a:chExt cx="177840" cy="228960"/>
              </a:xfrm>
            </p:grpSpPr>
            <p:sp>
              <p:nvSpPr>
                <p:cNvPr id="813" name=""/>
                <p:cNvSpPr/>
                <p:nvPr/>
              </p:nvSpPr>
              <p:spPr>
                <a:xfrm flipH="1">
                  <a:off x="2976480" y="350532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flipV="1">
                  <a:off x="2887560" y="350496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2709720" y="3504960"/>
                <a:ext cx="177840" cy="228960"/>
                <a:chOff x="2709720" y="3504960"/>
                <a:chExt cx="177840" cy="228960"/>
              </a:xfrm>
            </p:grpSpPr>
            <p:sp>
              <p:nvSpPr>
                <p:cNvPr id="816" name=""/>
                <p:cNvSpPr/>
                <p:nvPr/>
              </p:nvSpPr>
              <p:spPr>
                <a:xfrm flipH="1">
                  <a:off x="2798640" y="350532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flipV="1">
                  <a:off x="2709720" y="350496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 flipH="1">
              <a:off x="2666880" y="350532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3251160" y="350784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2209680" y="3619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5400000">
            <a:off x="4648320" y="297180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3610080"/>
            <a:ext cx="14475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15320" y="2514600"/>
            <a:ext cx="3476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voltage launched down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determines overshoot at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124080" y="3200400"/>
            <a:ext cx="236232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10040" y="4114800"/>
            <a:ext cx="42206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d value of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how well reflections are absorb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124080" y="4038480"/>
            <a:ext cx="236232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197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Purposes of this Presentation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9880" y="3333240"/>
            <a:ext cx="627120" cy="228960"/>
            <a:chOff x="3809880" y="3333240"/>
            <a:chExt cx="627120" cy="228960"/>
          </a:xfrm>
        </p:grpSpPr>
        <p:grpSp>
          <p:nvGrpSpPr>
            <p:cNvPr id="96" name=""/>
            <p:cNvGrpSpPr/>
            <p:nvPr/>
          </p:nvGrpSpPr>
          <p:grpSpPr>
            <a:xfrm>
              <a:off x="3852720" y="3333240"/>
              <a:ext cx="533520" cy="228960"/>
              <a:chOff x="3852720" y="3333240"/>
              <a:chExt cx="533520" cy="22896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42973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42084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4030560" y="3333240"/>
                <a:ext cx="177840" cy="228960"/>
                <a:chOff x="4030560" y="3333240"/>
                <a:chExt cx="177840" cy="228960"/>
              </a:xfrm>
            </p:grpSpPr>
            <p:sp>
              <p:nvSpPr>
                <p:cNvPr id="100" name=""/>
                <p:cNvSpPr/>
                <p:nvPr/>
              </p:nvSpPr>
              <p:spPr>
                <a:xfrm flipH="1">
                  <a:off x="41194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flipV="1">
                  <a:off x="40305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852720" y="3333240"/>
                <a:ext cx="177840" cy="228960"/>
                <a:chOff x="3852720" y="3333240"/>
                <a:chExt cx="177840" cy="228960"/>
              </a:xfrm>
            </p:grpSpPr>
            <p:sp>
              <p:nvSpPr>
                <p:cNvPr id="103" name=""/>
                <p:cNvSpPr/>
                <p:nvPr/>
              </p:nvSpPr>
              <p:spPr>
                <a:xfrm flipH="1">
                  <a:off x="39416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flipV="1">
                  <a:off x="38527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 flipH="1">
              <a:off x="38098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3941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2578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2666520" y="2800080"/>
            <a:ext cx="380880" cy="129564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44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896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6208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040" y="4114800"/>
            <a:ext cx="18964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pS edg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7960" y="4114800"/>
            <a:ext cx="12772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69840" y="3657600"/>
            <a:ext cx="294192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ptional) = ???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 Current Thing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8224920" cy="273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al step voltage is VDDQ/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Ohm’s law: E=IR, I=E/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= VDDQ/2, R=50 o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 (VDDQ/2)/50 = VDDQ/10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r 1.8V receiver requires 1.8/100 = 18mA of line current for ideal reflection behavi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81280" y="270504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5400000">
            <a:off x="6971760" y="232380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5400000">
            <a:off x="4952520" y="2057040"/>
            <a:ext cx="380880" cy="129564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638680" y="269568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078720" y="1600200"/>
            <a:ext cx="29923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current gives us the ide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 at the receiver inpu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348080" y="2971800"/>
            <a:ext cx="14968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Strong Is Our HSTL Outpu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4876920"/>
            <a:ext cx="8224920" cy="166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87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t 50 ohm operating point, R=E/I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 = 0.64V, I = 23 m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87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ffective output impedance = 28 ohm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rcRect l="0" t="40362" r="14223" b="0"/>
          <a:stretch/>
        </p:blipFill>
        <p:spPr>
          <a:xfrm>
            <a:off x="1600200" y="1752480"/>
            <a:ext cx="6172200" cy="306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, What Value of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ser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4648320"/>
            <a:ext cx="8224920" cy="166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8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ffective Output Impedance, R=E/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17244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 = 0.9V, I = 18mA, so R = 50 oh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= 50,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= 22 oh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343400" y="30862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3733920" y="2971440"/>
            <a:ext cx="627120" cy="228960"/>
            <a:chOff x="3733920" y="2971440"/>
            <a:chExt cx="627120" cy="228960"/>
          </a:xfrm>
        </p:grpSpPr>
        <p:grpSp>
          <p:nvGrpSpPr>
            <p:cNvPr id="843" name=""/>
            <p:cNvGrpSpPr/>
            <p:nvPr/>
          </p:nvGrpSpPr>
          <p:grpSpPr>
            <a:xfrm>
              <a:off x="3776760" y="2971440"/>
              <a:ext cx="533520" cy="228960"/>
              <a:chOff x="3776760" y="2971440"/>
              <a:chExt cx="533520" cy="228960"/>
            </a:xfrm>
          </p:grpSpPr>
          <p:sp>
            <p:nvSpPr>
              <p:cNvPr id="844" name=""/>
              <p:cNvSpPr/>
              <p:nvPr/>
            </p:nvSpPr>
            <p:spPr>
              <a:xfrm flipH="1">
                <a:off x="4221360" y="29718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4132440" y="29714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3954600" y="2971440"/>
                <a:ext cx="177840" cy="228960"/>
                <a:chOff x="3954600" y="2971440"/>
                <a:chExt cx="177840" cy="228960"/>
              </a:xfrm>
            </p:grpSpPr>
            <p:sp>
              <p:nvSpPr>
                <p:cNvPr id="847" name=""/>
                <p:cNvSpPr/>
                <p:nvPr/>
              </p:nvSpPr>
              <p:spPr>
                <a:xfrm flipH="1">
                  <a:off x="4043520" y="29718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flipV="1">
                  <a:off x="3954600" y="29714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3776760" y="2971440"/>
                <a:ext cx="177840" cy="228960"/>
                <a:chOff x="3776760" y="2971440"/>
                <a:chExt cx="177840" cy="228960"/>
              </a:xfrm>
            </p:grpSpPr>
            <p:sp>
              <p:nvSpPr>
                <p:cNvPr id="850" name=""/>
                <p:cNvSpPr/>
                <p:nvPr/>
              </p:nvSpPr>
              <p:spPr>
                <a:xfrm flipH="1">
                  <a:off x="3865680" y="29718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flipV="1">
                  <a:off x="3776760" y="29714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"/>
            <p:cNvSpPr/>
            <p:nvPr/>
          </p:nvSpPr>
          <p:spPr>
            <a:xfrm flipH="1">
              <a:off x="3733920" y="29718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4318200" y="29743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3276720" y="3086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rot="5400000">
            <a:off x="1456560" y="2353320"/>
            <a:ext cx="1904760" cy="146520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81080" y="308628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905120" y="3200040"/>
            <a:ext cx="172800" cy="474840"/>
            <a:chOff x="1905120" y="3200040"/>
            <a:chExt cx="172800" cy="474840"/>
          </a:xfrm>
        </p:grpSpPr>
        <p:grpSp>
          <p:nvGrpSpPr>
            <p:cNvPr id="858" name=""/>
            <p:cNvGrpSpPr/>
            <p:nvPr/>
          </p:nvGrpSpPr>
          <p:grpSpPr>
            <a:xfrm>
              <a:off x="1905120" y="3232800"/>
              <a:ext cx="172800" cy="403920"/>
              <a:chOff x="1905120" y="3232800"/>
              <a:chExt cx="172800" cy="403920"/>
            </a:xfrm>
          </p:grpSpPr>
          <p:sp>
            <p:nvSpPr>
              <p:cNvPr id="859" name=""/>
              <p:cNvSpPr/>
              <p:nvPr/>
            </p:nvSpPr>
            <p:spPr>
              <a:xfrm flipH="1" flipV="1">
                <a:off x="1905120" y="3569400"/>
                <a:ext cx="172800" cy="6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1905120" y="3502080"/>
                <a:ext cx="172800" cy="6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1905120" y="3367440"/>
                <a:ext cx="172800" cy="134640"/>
                <a:chOff x="1905120" y="3367440"/>
                <a:chExt cx="172800" cy="134640"/>
              </a:xfrm>
            </p:grpSpPr>
            <p:sp>
              <p:nvSpPr>
                <p:cNvPr id="862" name=""/>
                <p:cNvSpPr/>
                <p:nvPr/>
              </p:nvSpPr>
              <p:spPr>
                <a:xfrm flipH="1" flipV="1">
                  <a:off x="1905120" y="343476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905120" y="336744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05120" y="3232800"/>
                <a:ext cx="172800" cy="134640"/>
                <a:chOff x="1905120" y="3232800"/>
                <a:chExt cx="172800" cy="134640"/>
              </a:xfrm>
            </p:grpSpPr>
            <p:sp>
              <p:nvSpPr>
                <p:cNvPr id="865" name=""/>
                <p:cNvSpPr/>
                <p:nvPr/>
              </p:nvSpPr>
              <p:spPr>
                <a:xfrm flipH="1" flipV="1">
                  <a:off x="1905120" y="330012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1905120" y="323280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7" name=""/>
            <p:cNvSpPr/>
            <p:nvPr/>
          </p:nvSpPr>
          <p:spPr>
            <a:xfrm flipH="1" flipV="1">
              <a:off x="1982160" y="320004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1980000" y="364248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981080" y="3095640"/>
            <a:ext cx="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367668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145960" y="3657600"/>
            <a:ext cx="15627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ut = 28 o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752480" y="4181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66960" y="4257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43280" y="433404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365280" y="2514600"/>
            <a:ext cx="1405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eries = 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3200400"/>
            <a:ext cx="236232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64520" y="2819520"/>
            <a:ext cx="2431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know current = 18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257800" y="3276720"/>
            <a:ext cx="32130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lso know step voltage = 0.9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725080" y="3886200"/>
            <a:ext cx="3112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 driver’s C_CO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54480" y="5410080"/>
            <a:ext cx="33519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slight overshoo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mV below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962520" cy="177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3429000" cy="29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4" name=""/>
          <p:cNvSpPr/>
          <p:nvPr/>
        </p:nvSpPr>
        <p:spPr>
          <a:xfrm flipH="1" flipV="1">
            <a:off x="2209680" y="5409720"/>
            <a:ext cx="2895840" cy="22860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362320" y="4114800"/>
            <a:ext cx="3504960" cy="68580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There Still Overshoo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91120" cy="370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ries resistor changes the transistor’s operating 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line is now 72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0 + 22) ohms to VDD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V/I curve isn’t linear between the new and old operating points, 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ll 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.47V/18m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26 o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1"/>
          <a:srcRect l="0" t="40362" r="43128" b="0"/>
          <a:stretch/>
        </p:blipFill>
        <p:spPr>
          <a:xfrm>
            <a:off x="304920" y="2057400"/>
            <a:ext cx="4343400" cy="324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335268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 For New Load 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725080" y="3886200"/>
            <a:ext cx="3112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 driver’s C_CO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725080" y="5410080"/>
            <a:ext cx="2247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shoot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ally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1981080" y="5409720"/>
            <a:ext cx="3733920" cy="22860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2209680" y="4114800"/>
            <a:ext cx="3657600" cy="99072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4022640" cy="17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Determine 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ser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51920" y="4114800"/>
            <a:ext cx="8224920" cy="166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5000"/>
          </a:bodyPr>
          <a:p>
            <a:pPr marL="542880" indent="-542880">
              <a:lnSpc>
                <a:spcPct val="85000"/>
              </a:lnSpc>
              <a:spcBef>
                <a:spcPts val="1312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termine ideal current from I=VDDQ/10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85000"/>
              </a:lnSpc>
              <a:spcBef>
                <a:spcPts val="1312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nd corresponding current point on V/I cur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85000"/>
              </a:lnSpc>
              <a:spcBef>
                <a:spcPts val="1312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ute Z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out,eff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curv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cur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85000"/>
              </a:lnSpc>
              <a:spcBef>
                <a:spcPts val="1312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sign 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ch that Z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out,eff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86200" y="25527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3276720" y="2437920"/>
            <a:ext cx="627120" cy="228960"/>
            <a:chOff x="3276720" y="2437920"/>
            <a:chExt cx="627120" cy="228960"/>
          </a:xfrm>
        </p:grpSpPr>
        <p:grpSp>
          <p:nvGrpSpPr>
            <p:cNvPr id="900" name=""/>
            <p:cNvGrpSpPr/>
            <p:nvPr/>
          </p:nvGrpSpPr>
          <p:grpSpPr>
            <a:xfrm>
              <a:off x="3319560" y="2437920"/>
              <a:ext cx="533520" cy="228960"/>
              <a:chOff x="3319560" y="2437920"/>
              <a:chExt cx="533520" cy="228960"/>
            </a:xfrm>
          </p:grpSpPr>
          <p:sp>
            <p:nvSpPr>
              <p:cNvPr id="901" name=""/>
              <p:cNvSpPr/>
              <p:nvPr/>
            </p:nvSpPr>
            <p:spPr>
              <a:xfrm flipH="1">
                <a:off x="3764160" y="243828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flipV="1">
                <a:off x="3675240" y="243792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3497400" y="2437920"/>
                <a:ext cx="177840" cy="228960"/>
                <a:chOff x="3497400" y="2437920"/>
                <a:chExt cx="177840" cy="228960"/>
              </a:xfrm>
            </p:grpSpPr>
            <p:sp>
              <p:nvSpPr>
                <p:cNvPr id="904" name=""/>
                <p:cNvSpPr/>
                <p:nvPr/>
              </p:nvSpPr>
              <p:spPr>
                <a:xfrm flipH="1">
                  <a:off x="3586320" y="243828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flipV="1">
                  <a:off x="3497400" y="243792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3319560" y="2437920"/>
                <a:ext cx="177840" cy="228960"/>
                <a:chOff x="3319560" y="2437920"/>
                <a:chExt cx="177840" cy="228960"/>
              </a:xfrm>
            </p:grpSpPr>
            <p:sp>
              <p:nvSpPr>
                <p:cNvPr id="907" name=""/>
                <p:cNvSpPr/>
                <p:nvPr/>
              </p:nvSpPr>
              <p:spPr>
                <a:xfrm flipH="1">
                  <a:off x="3408480" y="243828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flipV="1">
                  <a:off x="3319560" y="243792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9" name=""/>
            <p:cNvSpPr/>
            <p:nvPr/>
          </p:nvSpPr>
          <p:spPr>
            <a:xfrm flipH="1">
              <a:off x="3276720" y="243828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3861000" y="244080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819520" y="2552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999360" y="1820160"/>
            <a:ext cx="1905120" cy="146520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523880" y="255276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1447920" y="2666520"/>
            <a:ext cx="172800" cy="474840"/>
            <a:chOff x="1447920" y="2666520"/>
            <a:chExt cx="172800" cy="474840"/>
          </a:xfrm>
        </p:grpSpPr>
        <p:grpSp>
          <p:nvGrpSpPr>
            <p:cNvPr id="915" name=""/>
            <p:cNvGrpSpPr/>
            <p:nvPr/>
          </p:nvGrpSpPr>
          <p:grpSpPr>
            <a:xfrm>
              <a:off x="1447920" y="2699280"/>
              <a:ext cx="172800" cy="403920"/>
              <a:chOff x="1447920" y="2699280"/>
              <a:chExt cx="172800" cy="403920"/>
            </a:xfrm>
          </p:grpSpPr>
          <p:sp>
            <p:nvSpPr>
              <p:cNvPr id="916" name=""/>
              <p:cNvSpPr/>
              <p:nvPr/>
            </p:nvSpPr>
            <p:spPr>
              <a:xfrm flipH="1" flipV="1">
                <a:off x="1447920" y="3035880"/>
                <a:ext cx="172800" cy="6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447920" y="2968560"/>
                <a:ext cx="172800" cy="6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8" name=""/>
              <p:cNvGrpSpPr/>
              <p:nvPr/>
            </p:nvGrpSpPr>
            <p:grpSpPr>
              <a:xfrm>
                <a:off x="1447920" y="2833920"/>
                <a:ext cx="172800" cy="134640"/>
                <a:chOff x="1447920" y="2833920"/>
                <a:chExt cx="172800" cy="134640"/>
              </a:xfrm>
            </p:grpSpPr>
            <p:sp>
              <p:nvSpPr>
                <p:cNvPr id="919" name=""/>
                <p:cNvSpPr/>
                <p:nvPr/>
              </p:nvSpPr>
              <p:spPr>
                <a:xfrm flipH="1" flipV="1">
                  <a:off x="1447920" y="290124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1447920" y="283392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1447920" y="2699280"/>
                <a:ext cx="172800" cy="134640"/>
                <a:chOff x="1447920" y="2699280"/>
                <a:chExt cx="172800" cy="134640"/>
              </a:xfrm>
            </p:grpSpPr>
            <p:sp>
              <p:nvSpPr>
                <p:cNvPr id="922" name=""/>
                <p:cNvSpPr/>
                <p:nvPr/>
              </p:nvSpPr>
              <p:spPr>
                <a:xfrm flipH="1" flipV="1">
                  <a:off x="1447920" y="276660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1447920" y="2699280"/>
                  <a:ext cx="17280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 flipH="1" flipV="1">
              <a:off x="1524960" y="266652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1522800" y="3108960"/>
              <a:ext cx="95760" cy="3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1523880" y="2562120"/>
            <a:ext cx="0" cy="10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523880" y="314316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910520" y="312408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ut = 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295280" y="36482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9760" y="3724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486080" y="380052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08080" y="1981080"/>
            <a:ext cx="1405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eries = 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Our 1.8V HSTL Buffer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272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571680" indent="-5716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= 1.8V/100 = 18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pulldown curve, E=470mV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=18 m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ut,ef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47/0.0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6.1 o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23.9 o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419360" cy="31194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846000" y="4079880"/>
            <a:ext cx="898560" cy="744480"/>
          </a:xfrm>
          <a:prstGeom prst="rect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019160" y="3809880"/>
            <a:ext cx="5112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18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22320" y="4419720"/>
            <a:ext cx="5814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47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267440" cy="303372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lup Curves Work The Same W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4272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571680" indent="-5716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= 1.8V/100 = -18m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BIS conven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pullup curve, E=371mV at I=-18 m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ut,ef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371/0.0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0.6 o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29.4 o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2160" y="2470320"/>
            <a:ext cx="765360" cy="669600"/>
          </a:xfrm>
          <a:prstGeom prst="rect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62120" y="3200400"/>
            <a:ext cx="553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-18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523880" y="2666880"/>
            <a:ext cx="5814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371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94956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lup/Pulldown 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41800" y="3886200"/>
            <a:ext cx="22132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shoot 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555520" y="5410080"/>
            <a:ext cx="2966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ll match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all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3809520" y="5333760"/>
            <a:ext cx="1600200" cy="22860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3124080" y="3885840"/>
            <a:ext cx="2743200" cy="22860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4022640" cy="17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8120" y="34480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ally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38280" y="3333240"/>
            <a:ext cx="627120" cy="228960"/>
            <a:chOff x="2438280" y="3333240"/>
            <a:chExt cx="627120" cy="228960"/>
          </a:xfrm>
        </p:grpSpPr>
        <p:grpSp>
          <p:nvGrpSpPr>
            <p:cNvPr id="122" name=""/>
            <p:cNvGrpSpPr/>
            <p:nvPr/>
          </p:nvGrpSpPr>
          <p:grpSpPr>
            <a:xfrm>
              <a:off x="2481120" y="3333240"/>
              <a:ext cx="533520" cy="228960"/>
              <a:chOff x="2481120" y="3333240"/>
              <a:chExt cx="533520" cy="2289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9257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28368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2658960" y="3333240"/>
                <a:ext cx="177840" cy="228960"/>
                <a:chOff x="2658960" y="3333240"/>
                <a:chExt cx="177840" cy="22896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27478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>
                  <a:off x="26589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481120" y="3333240"/>
                <a:ext cx="177840" cy="228960"/>
                <a:chOff x="2481120" y="3333240"/>
                <a:chExt cx="177840" cy="228960"/>
              </a:xfrm>
            </p:grpSpPr>
            <p:sp>
              <p:nvSpPr>
                <p:cNvPr id="129" name=""/>
                <p:cNvSpPr/>
                <p:nvPr/>
              </p:nvSpPr>
              <p:spPr>
                <a:xfrm flipH="1">
                  <a:off x="25700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24811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 flipH="1">
              <a:off x="24382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0225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905120" y="344808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040" y="4114800"/>
            <a:ext cx="18964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pS edg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7960" y="4114800"/>
            <a:ext cx="12772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79120" y="3657600"/>
            <a:ext cx="294192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ptional) = ???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5400" y="1965240"/>
            <a:ext cx="8459640" cy="3749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7000"/>
          </a:bodyPr>
          <a:p>
            <a:pPr marL="280080" indent="-280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s is a HSTL Class 1 buffer; we’d expect it to be designed for point to point operation without termination (50 ohm Z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out,ef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ranges from 21-26 ohms, requiring a series resistor to avoid overshoo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lup/Pulldown are not well matched (21 vs. 26 ohm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s could either be a buffer design issue or a modeling iss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On V/I Cur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638680" cy="2320920"/>
          </a:xfrm>
          <a:prstGeom prst="rect">
            <a:avLst/>
          </a:prstGeom>
          <a:ln w="0">
            <a:noFill/>
          </a:ln>
        </p:spPr>
      </p:pic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5760" y="5029200"/>
            <a:ext cx="822456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the load line intersects the V/I curve says a lot about how the device will beh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07320" y="1714680"/>
            <a:ext cx="17334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177520" y="1714680"/>
            <a:ext cx="21279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ed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41040" y="1714680"/>
            <a:ext cx="2115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linear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905120" y="2133720"/>
            <a:ext cx="914400" cy="129528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657600" y="2057400"/>
            <a:ext cx="380880" cy="91440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95880" y="2133720"/>
            <a:ext cx="76320" cy="68580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3V, 4mA LVTTL Buffer Pulldown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639040" cy="368928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190520" y="1611360"/>
            <a:ext cx="4934160" cy="275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512040" y="1495440"/>
            <a:ext cx="1770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ohm, 3.3V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3165480" y="1676520"/>
            <a:ext cx="3387600" cy="99036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28240" y="5409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evice can’t drive a 50 ohm line; we need 30 mA, the output can only supply 17 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22920" y="2590920"/>
            <a:ext cx="1806480" cy="97632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473880" y="2362320"/>
            <a:ext cx="22669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at th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determin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shoot /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hoo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439680" y="4343400"/>
            <a:ext cx="24955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lope of the V/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e at th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determin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he driv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bs 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844880" y="3733920"/>
            <a:ext cx="1632240" cy="838080"/>
          </a:xfrm>
          <a:custGeom>
            <a:avLst/>
            <a:gdLst/>
            <a:ahLst/>
            <a:rect l="l" t="t" r="r" b="b"/>
            <a:pathLst>
              <a:path w="1104" h="528">
                <a:moveTo>
                  <a:pt x="1104" y="528"/>
                </a:moveTo>
                <a:lnTo>
                  <a:pt x="48" y="2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, 4mA Buf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expected, the driver cannot drive the line or adequately control the reflec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546360" cy="19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4114800" cy="28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3V Clock Output Buffer Pulldow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455760" y="2438280"/>
            <a:ext cx="4035240" cy="3098880"/>
            <a:chOff x="455760" y="2438280"/>
            <a:chExt cx="4035240" cy="3098880"/>
          </a:xfrm>
        </p:grpSpPr>
        <p:pic>
          <p:nvPicPr>
            <p:cNvPr id="979" name="" descr=""/>
            <p:cNvPicPr/>
            <p:nvPr/>
          </p:nvPicPr>
          <p:blipFill>
            <a:blip r:embed="rId1"/>
            <a:stretch/>
          </p:blipFill>
          <p:spPr>
            <a:xfrm>
              <a:off x="455760" y="2438280"/>
              <a:ext cx="40352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 txBox="1"/>
            <p:nvPr/>
          </p:nvSpPr>
          <p:spPr>
            <a:xfrm>
              <a:off x="455760" y="2438280"/>
              <a:ext cx="4035240" cy="309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82080" rIns="82080" tIns="41040" bIns="41040" anchor="ctr" anchorCtr="1">
              <a:normAutofit/>
            </a:bodyPr>
            <a:p>
              <a:pPr marL="289080" indent="-289080">
                <a:lnSpc>
                  <a:spcPct val="75000"/>
                </a:lnSpc>
                <a:spcBef>
                  <a:spcPts val="1250"/>
                </a:spcBef>
                <a:buClr>
                  <a:srgbClr val="33cccc"/>
                </a:buClr>
                <a:buFont typeface="Arial"/>
                <a:buChar char="•"/>
                <a:tabLst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643280" y="196524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ad line suggests buffer  will drive about 42mA into a 50 ohm line; we only need 30m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voltage E=IR, 42 mA*50 ohms = 2.1V, s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expect about 900 mV overshoo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lope of V/I curve at load line is very high; expect very poor absorption of reflections by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041480" y="4194000"/>
            <a:ext cx="3349440" cy="78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 – Falling Ed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643280" y="196524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shoot slightly exceeds expect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nging” occurs because of slope of V/I curve at the load li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267080" cy="12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4038480" cy="33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Simulation Results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643280" y="196524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nging” amplifies over time; the model essentially spins out of contro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609720" cy="105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0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343400" cy="29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minate Reflections And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643280" y="196524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al termination at the end of the line eliminates reflections off the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w we have a voltage threshold probl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ay be a modeling problem anyway; should be investigated furt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58164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4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962520" cy="24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3160" cy="380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0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ending on the ratio of edge rate to line length, drivers can spend much of their time in “steady state” condi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ady state” behavior is driven by V/I cur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erstanding the details behind V/I curve can provide valuable insight in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ffer behavi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el qua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rmination se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da Says 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643280" y="196524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nd your V/I curves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t, they are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ve you, they can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91120" cy="315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ing Edge Behavior, t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145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149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152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0720" y="5943600"/>
            <a:ext cx="5781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ing Edge Behavior, t=500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173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174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180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16560" y="5943600"/>
            <a:ext cx="1271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500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5105520"/>
            <a:ext cx="1295280" cy="45720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510552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ing Edge Behavior, t=1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205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209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1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510552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105520"/>
            <a:ext cx="1219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ing Edge Behavior, t=2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237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241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244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56600" y="5943600"/>
            <a:ext cx="988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2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51055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5105520"/>
            <a:ext cx="335268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505320" y="3448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ing Edge Behavior, t=2.5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1028160" y="306684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6362640" y="3067200"/>
            <a:ext cx="990720" cy="76176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95480" y="3333240"/>
            <a:ext cx="627120" cy="228960"/>
            <a:chOff x="2895480" y="3333240"/>
            <a:chExt cx="627120" cy="228960"/>
          </a:xfrm>
        </p:grpSpPr>
        <p:grpSp>
          <p:nvGrpSpPr>
            <p:cNvPr id="269" name=""/>
            <p:cNvGrpSpPr/>
            <p:nvPr/>
          </p:nvGrpSpPr>
          <p:grpSpPr>
            <a:xfrm>
              <a:off x="2938320" y="3333240"/>
              <a:ext cx="533520" cy="228960"/>
              <a:chOff x="2938320" y="3333240"/>
              <a:chExt cx="533520" cy="228960"/>
            </a:xfrm>
          </p:grpSpPr>
          <p:sp>
            <p:nvSpPr>
              <p:cNvPr id="270" name=""/>
              <p:cNvSpPr/>
              <p:nvPr/>
            </p:nvSpPr>
            <p:spPr>
              <a:xfrm flipH="1">
                <a:off x="3382920" y="333360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3294000" y="3333240"/>
                <a:ext cx="889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116160" y="3333240"/>
                <a:ext cx="177840" cy="228960"/>
                <a:chOff x="3116160" y="3333240"/>
                <a:chExt cx="177840" cy="228960"/>
              </a:xfrm>
            </p:grpSpPr>
            <p:sp>
              <p:nvSpPr>
                <p:cNvPr id="273" name=""/>
                <p:cNvSpPr/>
                <p:nvPr/>
              </p:nvSpPr>
              <p:spPr>
                <a:xfrm flipH="1">
                  <a:off x="320508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>
                  <a:off x="311616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938320" y="3333240"/>
                <a:ext cx="177840" cy="228960"/>
                <a:chOff x="2938320" y="3333240"/>
                <a:chExt cx="177840" cy="228960"/>
              </a:xfrm>
            </p:grpSpPr>
            <p:sp>
              <p:nvSpPr>
                <p:cNvPr id="276" name=""/>
                <p:cNvSpPr/>
                <p:nvPr/>
              </p:nvSpPr>
              <p:spPr>
                <a:xfrm flipH="1">
                  <a:off x="3027240" y="333360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2938320" y="3333240"/>
                  <a:ext cx="8892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"/>
            <p:cNvSpPr/>
            <p:nvPr/>
          </p:nvSpPr>
          <p:spPr>
            <a:xfrm flipH="1">
              <a:off x="2895480" y="3333600"/>
              <a:ext cx="4284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3479760" y="3336120"/>
              <a:ext cx="428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905120" y="3448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4343400" y="2800440"/>
            <a:ext cx="380880" cy="12952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3438360"/>
            <a:ext cx="14479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5791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94920" y="5410080"/>
            <a:ext cx="457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3320" y="4419720"/>
            <a:ext cx="883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1908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51480" y="5943600"/>
            <a:ext cx="1199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2.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8600" y="2514600"/>
            <a:ext cx="1496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96800" y="2514600"/>
            <a:ext cx="180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 o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4720" y="4952880"/>
            <a:ext cx="109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180760" y="46483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0" y="288"/>
                </a:lnTo>
                <a:lnTo>
                  <a:pt x="816" y="288"/>
                </a:lnTo>
                <a:lnTo>
                  <a:pt x="0" y="0"/>
                </a:lnTo>
                <a:close/>
              </a:path>
            </a:pathLst>
          </a:custGeom>
          <a:solidFill>
            <a:srgbClr val="004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5105520"/>
            <a:ext cx="4648320" cy="457200"/>
          </a:xfrm>
          <a:prstGeom prst="rect">
            <a:avLst/>
          </a:prstGeom>
          <a:solidFill>
            <a:srgbClr val="004fec"/>
          </a:solidFill>
          <a:ln w="9360">
            <a:solidFill>
              <a:srgbClr val="004f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38400" y="4038480"/>
            <a:ext cx="20898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pf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22:59:28Z</dcterms:created>
  <dc:creator>Todd Westerhoff</dc:creator>
  <dc:description/>
  <cp:keywords/>
  <dc:language>en-US</dc:language>
  <cp:lastModifiedBy>Cisco Systems, Inc.</cp:lastModifiedBy>
  <cp:lastPrinted>1999-01-27T00:54:54Z</cp:lastPrinted>
  <dcterms:modified xsi:type="dcterms:W3CDTF">2005-06-09T04:29:12Z</dcterms:modified>
  <cp:revision>1245</cp:revision>
  <dc:subject/>
  <dc:title>Things in an an IBIS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06889913</vt:r8>
  </property>
  <property fmtid="{D5CDD505-2E9C-101B-9397-08002B2CF9AE}" pid="3" name="_AuthorEmail">
    <vt:lpwstr>twesterh@cisco.com</vt:lpwstr>
  </property>
  <property fmtid="{D5CDD505-2E9C-101B-9397-08002B2CF9AE}" pid="4" name="_AuthorEmailDisplayName">
    <vt:lpwstr>Todd Westerhoff (twesterh)</vt:lpwstr>
  </property>
  <property fmtid="{D5CDD505-2E9C-101B-9397-08002B2CF9AE}" pid="5" name="_EmailSubject">
    <vt:lpwstr>IBIS Summit DAC 2005 - tweaked presentation </vt:lpwstr>
  </property>
  <property fmtid="{D5CDD505-2E9C-101B-9397-08002B2CF9AE}" pid="6" name="_NewReviewCycle">
    <vt:lpwstr/>
  </property>
</Properties>
</file>