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5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83BB41E-4B01-4D5E-9006-7B95F92607C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sian IBIS Summit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heim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ne 14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Jump on the Opportunity!!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ccessful JEITA-IBIS meeting in Toky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oposed years ago by Atsuji Ito, EDA-WG Chai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osted by JEITA with 40+ attende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Great feedback from Takeshi Watanab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itive response from Huawei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inancial support for two days and 200 people!!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lus other company co-sponsorship and suppor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ps into Asian commun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interest and new ideas, like European IBIS Summi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sian and international Asian opera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lans and More So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enzhen China in early December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ecial economic zone next to Hong Ko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ocal companies and US branches (Huawei, Intel, Cadence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ewer, modern city with major theme park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days at hotel conference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utorial or hot topics for Chinese/Asian commun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ndor-neutral open IBIS Summit per IBIS rules (open attendance, public presentation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motion via SI/IBIS reflectors &amp; Chinese/Asian conta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ittee (more may joi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fficers: Michael Mirmak, Syed Huq, Bob Ross, Lance Wa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uawei: Jiang Xiang Zho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citing Posibilities!!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ld be largest IBIS Summit ever!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everal key US “experts” to participat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hould attract Asian IBIS exper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ulti-company support and visibilit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ew ideas, new concerns, new exposur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ticipating future Asian DesignC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Keeping DesignCon inform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-located Asian IBIS Summi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challenges and 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5-06-10T14:31:40Z</dcterms:modified>
  <cp:revision>478</cp:revision>
  <dc:subject/>
  <dc:title>IBIS</dc:title>
</cp:coreProperties>
</file>