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132-7468-4924-B37E-B28771D7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71A-BE50-4D73-ADE5-D84C05E5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B7E-2CFB-451B-84FF-67B3A776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206-DC79-4722-A30D-EDF9FEDB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B37B-1E27-4E55-8F4E-29C1B8C4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E914-3833-4E01-A642-7588B86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D24-0524-426B-8A8F-A9B82B7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423-830A-4CDA-9892-93AD19A0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52EF-20B2-432E-A279-89E7C164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45A-73FE-4074-9591-47DE5846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E275-AA83-42C9-B5D4-DF1794A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018-23E8-42A7-88E5-56C84BC7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1256-E066-407E-A064-6D3EAD3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4C7-ED92-4722-9418-22719ED5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0C86-2D25-47AE-8FD2-6142FA55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BF2-D1EB-407D-8280-21F4AF84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2F6-1B03-4E58-B1B3-2C218E53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3E7-AECF-4AB4-979B-FDBA205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907-061B-45B3-8B33-2E4077E7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F86-4FE0-4409-BF2A-F66BD483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72B-59C7-4E0C-984D-0AB10BA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AAA-11A0-4F2B-8B77-B91D0E2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F80-514F-4FB3-9706-8E71F16C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948-58B4-4283-863D-8F1B5FB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84E-9859-4C42-8EAF-03555CF25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05680" y="181080"/>
            <a:ext cx="18334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a.org/ibis/" TargetMode="External"/><Relationship Id="rId2" Type="http://schemas.openxmlformats.org/officeDocument/2006/relationships/hyperlink" Target="http://www.eigroup.org/ibis/" TargetMode="External"/><Relationship Id="rId3" Type="http://schemas.openxmlformats.org/officeDocument/2006/relationships/hyperlink" Target="http://www.eigroup.org/ibis/" TargetMode="External"/><Relationship Id="rId4" Type="http://schemas.openxmlformats.org/officeDocument/2006/relationships/hyperlink" Target="http://www.eigroup.org/ibis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 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igroup.org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E0FB-E33C-4A79-9144-AAC0B10DD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16000" y="920520"/>
            <a:ext cx="822168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1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community needs guidance on                  behavioral modeling with 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4.1 keywords can be conf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e recent IBIS Reflector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next revision of IBIS incl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power delivery (BIRD95, BIRD97/98)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ICM-IBIS links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1 specification actually implies ICM without nam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ser-defined measurements for [Ext. Circuit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Many tools need these for SI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changes will increase cost of a new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087-2520-4DB0-9BF2-CD16909DC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61516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h under discus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2 wou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Remove implied IC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ean up” language to save pars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BIRD94, BIRD99 and bug fix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5.0 wou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dd BIRD95, BIRD97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dd explicit support for I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clude user-defined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upport [External Circuit] with [Mod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need these features earlier that 5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need syntax for BIRD95, BIRD97/98 outside of AMS, macromodel langu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B83-DE36-444F-AB44-3945A863D9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767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CE Macro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at is the new synt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n a proposal be developed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ow does it relate to 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n it be more successful than transistor SP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BIS 5.0 be “revolutionar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1.1-4.0 syntax is very li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xamples: Package format, [Diff Pin], no pad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hould IBIS 5.0 support all 1.1 – 4.0 fe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70080" y="5002200"/>
            <a:ext cx="6702480" cy="122724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IBIS baseline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next five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live with our choi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495-46E9-48D9-A9E2-A44ED32F06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Key Player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5640" y="819000"/>
            <a:ext cx="8445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arser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55200" y="1324080"/>
            <a:ext cx="3935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LSI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v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Mentor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nasonic (Matsushit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m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gnal Integrity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l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ilvac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ynop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raspeed Consult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exas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ili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Zu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2160" y="1362240"/>
            <a:ext cx="420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gilent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nsof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pla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pplied Simul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adence Desig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ee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tachi ULSI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egend Design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47040" y="6234120"/>
            <a:ext cx="3234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* non-member parser licen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E43-9754-458B-BEE3-37C2BE1E3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Key Player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board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ＭＳ Ｐゴシック"/>
              </a:rPr>
              <a:t>Syed Huq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especially for coverage during the Chair’s ab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ＭＳ Ｐゴシック"/>
              </a:rPr>
              <a:t>Randy Wolff – 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handling official documents plus EIA/ANSI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ＭＳ Ｐゴシック"/>
              </a:rPr>
              <a:t>Lance Wang – Model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keeping our external IBIS model library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ＭＳ Ｐゴシック"/>
              </a:rPr>
              <a:t>Bob Ross – Postmaster/”Parliamentari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maintaining reflectors and our institution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280" y="4960800"/>
            <a:ext cx="8321760" cy="12081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of course to you, the IBIS Communit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for another great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B4F-619D-43B4-965E-FEA953CB9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6040" y="234360"/>
            <a:ext cx="73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5680" y="2471760"/>
            <a:ext cx="7204320" cy="33670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54F-70EE-4A03-9C9F-2BA5831F13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3801600"/>
            <a:ext cx="8267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BACKUP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109160"/>
            <a:ext cx="7759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FC4-7D3E-403E-80E3-9AC5C2B61D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10916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handle these four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–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17920" y="29653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7920" y="39877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17920" y="497844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330984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552760"/>
            <a:ext cx="21463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24360" y="263376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11400" y="36370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11400" y="46530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8280" y="33019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450880" y="4343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450880" y="533412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92440" y="292572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17640" y="39798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79480" y="495792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65720" y="314964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298920" y="3314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35360" y="4338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3120" y="417816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286320" y="4343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35360" y="5316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3120" y="5156280"/>
            <a:ext cx="121896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286320" y="53211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98360" y="265896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34360" y="312912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45880" y="4170240"/>
            <a:ext cx="779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47680" y="5148360"/>
            <a:ext cx="7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378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CM &amp; IB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555-75C1-465B-B84D-8C2ACAFB6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7480" y="116064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– Wired-or or “mu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ultiple pins, single [Mode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84400" y="39495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13200" y="3271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65560" y="2514600"/>
            <a:ext cx="302256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36680" y="35798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71520" y="39924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30960" y="311148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464160" y="327672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430056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18000" y="414036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451200" y="43052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527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8000" y="51181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451200" y="52833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63600" y="26208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99240" y="309096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11120" y="4132440"/>
            <a:ext cx="779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12560" y="5110200"/>
            <a:ext cx="7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82960" y="431316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3246480"/>
            <a:ext cx="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165560"/>
            <a:ext cx="2919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78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E84-C195-4BA8-ABAA-659DA77EA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6400" y="10717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3 – Powe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gle model, single signal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19520" y="41403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19480" y="3449520"/>
            <a:ext cx="2381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75120" y="2692440"/>
            <a:ext cx="30859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58920" y="365616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752480" y="44704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9240" y="410688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03880" y="32893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337080" y="34545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49560" y="4478400"/>
            <a:ext cx="163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91280" y="431784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324480" y="44830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32080" y="5456160"/>
            <a:ext cx="235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91280" y="5295960"/>
            <a:ext cx="121896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4480" y="546084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7480" y="279864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72880" y="3268800"/>
            <a:ext cx="889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85120" y="430992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52360" y="5288040"/>
            <a:ext cx="63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63760" y="483228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51160" y="3441600"/>
            <a:ext cx="0" cy="69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B9C-4847-49A8-8E88-F1AE8186F0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Rec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IB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Direction of I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Key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– Linking ICM and I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1A3-257C-4E3D-964F-491869E8F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Four Ca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54160" y="104580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4 – Wired-or or “mu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ngle pin, multiple [Model]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92360" y="29145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92360" y="39369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92360" y="49276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760" y="3259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51360" y="2502000"/>
            <a:ext cx="214632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98800" y="25830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86200" y="358632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6200" y="46022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External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412720" y="32511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425320" y="42926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425320" y="528336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6880" y="287496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2440" y="392904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4280" y="4906800"/>
            <a:ext cx="1250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gita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40160" y="309888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73720" y="326376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10160" y="428796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27560" y="412740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260760" y="429264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10160" y="52657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27560" y="510552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60760" y="5270400"/>
            <a:ext cx="55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573160" y="26082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21400" y="411948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in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75560" y="3251160"/>
            <a:ext cx="6120" cy="201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61080" y="4203720"/>
            <a:ext cx="2286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0CE-7430-485D-872A-859A068081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Packages Toda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79000" y="11347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3.2 &amp; 4.0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7800" y="27748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5200" y="467352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49600" y="295920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48160" y="4869000"/>
            <a:ext cx="1219320" cy="30456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92240" y="5013360"/>
            <a:ext cx="243864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78200" y="31194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99000" y="311472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9920" y="501984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0280" y="2362320"/>
            <a:ext cx="5435640" cy="31114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70200" y="29512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1 name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36000" y="486900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1 name iob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81280" y="24940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26160" y="250668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ackage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960" y="2417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3600" y="43480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 io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30440" y="311616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43400" y="50720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05840" y="182088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 Number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41960" y="2082960"/>
            <a:ext cx="1612800" cy="203040"/>
          </a:xfrm>
          <a:custGeom>
            <a:avLst/>
            <a:gdLst>
              <a:gd name="textAreaLeft" fmla="*/ 282240 w 1612800"/>
              <a:gd name="textAreaRight" fmla="*/ 1169280 w 1612800"/>
              <a:gd name="textAreaTop" fmla="*/ 27000 h 203040"/>
              <a:gd name="textAreaBottom" fmla="*/ 176040 h 203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33600" y="346716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33600" y="3919680"/>
            <a:ext cx="28828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52560" y="37638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2 name 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45920" y="3421080"/>
            <a:ext cx="22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 &amp; [Pin Mapp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49600" y="3759120"/>
            <a:ext cx="1219320" cy="304920"/>
          </a:xfrm>
          <a:prstGeom prst="flowChartMagneticDrum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24560" y="3914640"/>
            <a:ext cx="712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56000" y="39416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i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68F-37CD-4B9C-BBEA-58F6F7EA7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3783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at do we nee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40840" y="1020240"/>
            <a:ext cx="7836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Ca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26859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370836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00200" y="469908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51400" y="301320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82680" y="2273400"/>
            <a:ext cx="5435640" cy="33526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09280" y="2773440"/>
            <a:ext cx="4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10000" y="48560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33680" y="240516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P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32240" y="232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32240" y="3382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32240" y="439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[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33760" y="3890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784680" y="2666880"/>
            <a:ext cx="1854000" cy="2705040"/>
            <a:chOff x="3784680" y="2666880"/>
            <a:chExt cx="1854000" cy="2705040"/>
          </a:xfrm>
        </p:grpSpPr>
        <p:sp>
          <p:nvSpPr>
            <p:cNvPr id="490" name=""/>
            <p:cNvSpPr/>
            <p:nvPr/>
          </p:nvSpPr>
          <p:spPr>
            <a:xfrm>
              <a:off x="4084200" y="2857320"/>
              <a:ext cx="1218960" cy="30456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95360" y="3890520"/>
              <a:ext cx="1218960" cy="30492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05080" y="4870080"/>
              <a:ext cx="1218600" cy="30492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84680" y="2666880"/>
              <a:ext cx="1854000" cy="2705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 flipH="1">
            <a:off x="4584600" y="5219640"/>
            <a:ext cx="787680" cy="67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911760" y="2006280"/>
            <a:ext cx="914400" cy="8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61080" y="1643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07600" y="163044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eed explicit link to [Model]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76800" y="58975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eed explicit link to [Pin]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30600" y="3022560"/>
            <a:ext cx="134604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55800" y="4051440"/>
            <a:ext cx="134640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68760" y="5029200"/>
            <a:ext cx="134604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18120" y="300996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30720" y="405144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32680" y="4054320"/>
            <a:ext cx="731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30720" y="5016600"/>
            <a:ext cx="1181160" cy="0"/>
          </a:xfrm>
          <a:prstGeom prst="line">
            <a:avLst/>
          </a:prstGeom>
          <a:ln cap="rnd" w="3816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32680" y="5019840"/>
            <a:ext cx="71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7F2-FF51-40B5-AA24-EE4C582E21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2800" y="1143000"/>
            <a:ext cx="897084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 Open Forum has 27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our renewals are und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Renewal window clos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une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 and IBIS 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New ICM licensing policy: US$1000 per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evious GPL license highly restrictive for EDA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ntent now is to maintain consistency with IBISCHK parser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CHK parser fee now US$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ncome: US$20,168 from members, US$1024 from par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utlays: US$27,828 (expected for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on-GEIA outlays: parser development ($7600), Sum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 Heal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23960" y="5308560"/>
            <a:ext cx="7620120" cy="8762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ship trend is good, but addi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ser purchase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B41-C49D-4BC9-8C74-793F1D3234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1.1 Draft completed January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1 Parser released March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1.1 Parser released March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ill be officially announced at specificatio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ITA IBIS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eld in Tokyo at JEITA Headquarters March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Very successful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~40 attendees from many parts of Japanes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US delegates S. Huq, M. Mirmak and L.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ank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suji Ito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keshi Watanabe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rio Matsui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for strong suppo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Key Recent Ev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0AE-AC50-4496-AD5F-60BF32B51E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15880" y="1155600"/>
            <a:ext cx="83232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CHK4 now at version 4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upports IBIS 4.1 plus one bug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anks to Jon Powell for parser development and suppo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ree executables are now available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 Quality Subcommittee now assembling list of parser improvements to be proposed for next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CM 1.1 draft specification undergoing “readin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ncludes frequency-dependent RL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ird “reading” at June 24 Open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pproval vote scheduled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uly 15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Open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CM 1.1 parser now available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Unofficially” supports ICM 1.1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anks to Kelly Green for parser development and suppo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licenses for both parsers may be purchased from the IBIS Open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atus of IBIS &amp; IC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23-8DFA-4609-AC86-80B87A7D8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5640" y="920880"/>
            <a:ext cx="844524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next six month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ICM 1.1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fter approval vote, EIA and ANSI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stribute IBIS 4.0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re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guide to making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mproves on IBIS 2.1 Cookbook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scribes extraction of differential buffer data             (examples: Serial ATA, PCI Express®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dds details on use of 3.2, 4.0 keywords  (examples: [Diff Pin], [Driver Schedul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imated ready for Open Forum revi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July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draft of IBIS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at should it include?  See “Long Term 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884-2FEC-42E2-8875-142F6EFDE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H="1">
            <a:off x="2705040" y="2336760"/>
            <a:ext cx="7920" cy="12891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10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27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56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58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73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75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03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1054080" y="1046160"/>
            <a:ext cx="399888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., 2004: IBIS 4.1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15640" y="22068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55880" y="232092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160" y="55879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7680" y="58896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280" y="426708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94400" y="2624040"/>
            <a:ext cx="669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450880" y="3125520"/>
            <a:ext cx="12600" cy="65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7480" y="3071880"/>
            <a:ext cx="657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19160" y="3492000"/>
            <a:ext cx="0" cy="27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13080" y="427032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776760" y="30067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3400" y="3090960"/>
            <a:ext cx="746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562200" y="35100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96080" y="306720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270480" y="3471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3400" y="266400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78840" y="3082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89600" y="4268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81200" y="37656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94040" y="42624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8680" y="42480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7440" y="462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31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33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48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50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`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72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74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64480" y="42656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2000" y="3770280"/>
            <a:ext cx="288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83360" y="428796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9480" y="424512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044680" y="3093840"/>
            <a:ext cx="1800" cy="67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10240" y="4946760"/>
            <a:ext cx="2091960" cy="13136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gular sum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Asia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’06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king lik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57320" y="2697120"/>
            <a:ext cx="615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632040" y="2349360"/>
            <a:ext cx="7920" cy="12891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79680" y="2610000"/>
            <a:ext cx="803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6280" y="3090960"/>
            <a:ext cx="74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032360" y="3497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424188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18480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320" y="618156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EITA IBIS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2400" y="4229280"/>
            <a:ext cx="241200" cy="266400"/>
          </a:xfrm>
          <a:custGeom>
            <a:avLst/>
            <a:gdLst>
              <a:gd name="textAreaLeft" fmla="*/ 99360 w 241200"/>
              <a:gd name="textAreaRight" fmla="*/ 141840 w 24120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42D-13EE-405B-AE71-CB4463A45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2544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94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Clarifications on [Diff Pin]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rrects text, examples for [Diff Pin]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t this point, technical changes are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95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Power Integrity Analysis Using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ds table for current from source through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ds RLGC values to describe buffer power-groun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97/98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Gate Modulation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ew parameters change I-V tables as supply voltages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ample: Power_coeff_typ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-V table reduced by 8% for a 10% change in supply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RD98 is table-based; BIRD97 is equation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63C-9CA3-44BF-9FC6-E47A45ABD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6533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ICM and I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ICM for best description of power rail             current data (BIRD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any users want ICM for packag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reating new syntax for ICM link is </a:t>
            </a:r>
            <a:r>
              <a:rPr b="0" i="1" lang="en-US" sz="2400" spc="-1" strike="noStrike" u="sng">
                <a:solidFill>
                  <a:srgbClr val="663300"/>
                </a:solidFill>
                <a:uFillTx/>
                <a:latin typeface="Arial"/>
              </a:rPr>
              <a:t>very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difficu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BIS 4.0 assumptions are very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ach [Model] has ONLY one pin – no pad n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utures Committee developing work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33440" y="4013280"/>
            <a:ext cx="6364800" cy="2273040"/>
            <a:chOff x="1333440" y="4013280"/>
            <a:chExt cx="6364800" cy="2273040"/>
          </a:xfrm>
        </p:grpSpPr>
        <p:sp>
          <p:nvSpPr>
            <p:cNvPr id="310" name=""/>
            <p:cNvSpPr/>
            <p:nvPr/>
          </p:nvSpPr>
          <p:spPr>
            <a:xfrm>
              <a:off x="1650960" y="4425840"/>
              <a:ext cx="1143000" cy="6858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0960" y="5448240"/>
              <a:ext cx="1143000" cy="6858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3120" y="4610160"/>
              <a:ext cx="1219320" cy="304560"/>
            </a:xfrm>
            <a:prstGeom prst="flowChartMagneticDrum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35440" y="5788080"/>
              <a:ext cx="23875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81360" y="477036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02520" y="4765680"/>
              <a:ext cx="712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4013280"/>
              <a:ext cx="5435640" cy="2273040"/>
            </a:xfrm>
            <a:prstGeom prst="rect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60040" y="4513320"/>
              <a:ext cx="42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4800" y="4145040"/>
              <a:ext cx="6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Pi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29680" y="4157640"/>
              <a:ext cx="176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Package 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83000" y="4068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83000" y="51228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[Model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33960" y="4767120"/>
              <a:ext cx="94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implie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68880" y="4775040"/>
              <a:ext cx="0" cy="101592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3678480" y="5352840"/>
              <a:ext cx="593640" cy="76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BA6-89CB-445B-9144-9B07F234A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5-06-10T00:08:20Z</dcterms:modified>
  <cp:revision>295</cp:revision>
  <dc:subject>Update to JEITA</dc:subject>
  <dc:title>IBIS Status and Future Direction</dc:title>
</cp:coreProperties>
</file>