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08C-BC09-46F5-ABCD-B25A76E3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13C-D4BB-43B6-9FD2-99970728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61D-927D-41C1-AEAC-EE087F51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BF1-E339-49B8-A585-8D990863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5DF-2444-488B-8970-5E75577F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63B-5601-4DBA-9B96-478B7FE0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F45-4673-4ED6-A92A-32C11EF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9FA-94D9-45B8-8522-86090D8E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713-0234-4C2F-8A8B-9F6B4C80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1A0-10C9-46FF-9004-60062E1D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C7A-FF06-4557-90BF-C6D4977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779-2700-425E-B097-63E9A4D7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1D31-4868-4E43-96EB-F4204F177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emiconductor Mode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y Leventhal and Lynne Gre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1.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2: Generating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3: Selecting Components and Their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4: About the IBI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5: Managing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6: Model Accuracy and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7: Future Directions in 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 20: The Challenges to IB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 21: Feedback to the Model Provi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s Model Accu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 22: Future Trends in 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reen</cp:lastModifiedBy>
  <dcterms:modified xsi:type="dcterms:W3CDTF">2005-06-06T19:04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