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142640" y="126720"/>
            <a:ext cx="73659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63312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12396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14264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63312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12396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142640" y="126720"/>
            <a:ext cx="73659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3312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396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264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3312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396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63312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396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14264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63312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2396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142640" y="126720"/>
            <a:ext cx="73659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3312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12396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14264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63312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12396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42640" y="126720"/>
            <a:ext cx="73659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312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396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4264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312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2396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2640" y="126720"/>
            <a:ext cx="73659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3312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396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4264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3312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2396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142640" y="126720"/>
            <a:ext cx="73659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3312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2396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14264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3312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2396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142640" y="126720"/>
            <a:ext cx="73659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2640" y="126720"/>
            <a:ext cx="73659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312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396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14264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312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396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142640" y="126720"/>
            <a:ext cx="73659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3312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2396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14264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3312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2396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42640" y="126720"/>
            <a:ext cx="73659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3312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396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14264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3312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396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142640" y="126720"/>
            <a:ext cx="73659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142640" y="3772440"/>
            <a:ext cx="736596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16880" y="167616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264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16880" y="3772440"/>
            <a:ext cx="359424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63312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3960" y="167616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14264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63312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23960" y="3772440"/>
            <a:ext cx="2371680" cy="191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587240"/>
            <a:ext cx="7353360" cy="2679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5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52280" y="6054840"/>
            <a:ext cx="901800" cy="67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560" indent="0"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0760" indent="0"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76320" algn="ctr">
              <a:spcBef>
                <a:spcPts val="99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1520" algn="ctr">
              <a:spcBef>
                <a:spcPts val="99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27080" algn="ctr">
              <a:spcBef>
                <a:spcPts val="99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27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27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1638360" y="2095560"/>
            <a:ext cx="5727600" cy="4051080"/>
            <a:chOff x="1638360" y="2095560"/>
            <a:chExt cx="5727600" cy="4051080"/>
          </a:xfrm>
        </p:grpSpPr>
        <p:sp>
          <p:nvSpPr>
            <p:cNvPr id="349" name=""/>
            <p:cNvSpPr/>
            <p:nvPr/>
          </p:nvSpPr>
          <p:spPr>
            <a:xfrm>
              <a:off x="1638360" y="2095560"/>
              <a:ext cx="1908000" cy="13489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190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46360" y="2095560"/>
              <a:ext cx="1909800" cy="13489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190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56160" y="2095560"/>
              <a:ext cx="1909800" cy="13489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190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38360" y="3444480"/>
              <a:ext cx="1908000" cy="135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190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46360" y="3444480"/>
              <a:ext cx="1909800" cy="135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190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56160" y="3444480"/>
              <a:ext cx="1909800" cy="135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190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38360" y="4795560"/>
              <a:ext cx="1908000" cy="135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190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46360" y="4795560"/>
              <a:ext cx="1909800" cy="135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190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6160" y="4795560"/>
              <a:ext cx="1909800" cy="135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190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56160" y="3444480"/>
              <a:ext cx="190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46360" y="4795560"/>
              <a:ext cx="190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56160" y="4795560"/>
              <a:ext cx="190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46360" y="2095560"/>
              <a:ext cx="0" cy="1348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46360" y="3444480"/>
              <a:ext cx="0" cy="135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6360" y="4795560"/>
              <a:ext cx="0" cy="135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56160" y="2095560"/>
              <a:ext cx="0" cy="1348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56160" y="3444480"/>
              <a:ext cx="0" cy="135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56160" y="4795560"/>
              <a:ext cx="0" cy="135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38360" y="3444480"/>
              <a:ext cx="1908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46360" y="3444480"/>
              <a:ext cx="190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38360" y="4795560"/>
              <a:ext cx="1908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65960" y="4795560"/>
              <a:ext cx="0" cy="135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46360" y="2095560"/>
              <a:ext cx="190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56160" y="2095560"/>
              <a:ext cx="190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38360" y="6146640"/>
              <a:ext cx="1908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46360" y="6146640"/>
              <a:ext cx="190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56160" y="6146640"/>
              <a:ext cx="1909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38360" y="2095560"/>
              <a:ext cx="0" cy="1348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38360" y="3444480"/>
              <a:ext cx="0" cy="135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38360" y="4795560"/>
              <a:ext cx="0" cy="135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65960" y="2095560"/>
              <a:ext cx="0" cy="1348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65960" y="3444480"/>
              <a:ext cx="0" cy="135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38360" y="2095560"/>
              <a:ext cx="1908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876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152280" y="6054840"/>
            <a:ext cx="901800" cy="67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152280" y="6054840"/>
            <a:ext cx="901800" cy="67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601560" indent="-419040">
              <a:spcBef>
                <a:spcPts val="1800"/>
              </a:spcBef>
              <a:buClr>
                <a:srgbClr val="000000"/>
              </a:buClr>
              <a:buSzPct val="19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19040">
              <a:spcBef>
                <a:spcPts val="1800"/>
              </a:spcBef>
              <a:buClr>
                <a:srgbClr val="000000"/>
              </a:buClr>
              <a:buSzPct val="19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419040">
              <a:spcBef>
                <a:spcPts val="1800"/>
              </a:spcBef>
              <a:buClr>
                <a:srgbClr val="000000"/>
              </a:buClr>
              <a:buSzPct val="19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419040">
              <a:spcBef>
                <a:spcPts val="1800"/>
              </a:spcBef>
              <a:buClr>
                <a:srgbClr val="000000"/>
              </a:buClr>
              <a:buSzPct val="19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59040" indent="-419040">
              <a:spcBef>
                <a:spcPts val="1800"/>
              </a:spcBef>
              <a:buClr>
                <a:srgbClr val="000000"/>
              </a:buClr>
              <a:buSzPct val="19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59040" indent="-419040">
              <a:spcBef>
                <a:spcPts val="1800"/>
              </a:spcBef>
              <a:buClr>
                <a:srgbClr val="000000"/>
              </a:buClr>
              <a:buSzPct val="19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59040" indent="-419040">
              <a:spcBef>
                <a:spcPts val="1800"/>
              </a:spcBef>
              <a:buClr>
                <a:srgbClr val="000000"/>
              </a:buClr>
              <a:buSzPct val="19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"/>
          <p:cNvSpPr/>
          <p:nvPr/>
        </p:nvSpPr>
        <p:spPr>
          <a:xfrm flipH="1" rot="10800000">
            <a:off x="2070000" y="1079280"/>
            <a:ext cx="6718320" cy="8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f77c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52280" y="6054840"/>
            <a:ext cx="901800" cy="67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126720"/>
            <a:ext cx="736596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"/>
          <p:cNvSpPr/>
          <p:nvPr/>
        </p:nvSpPr>
        <p:spPr>
          <a:xfrm flipH="1" rot="10800000">
            <a:off x="2070000" y="1079280"/>
            <a:ext cx="6718320" cy="8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f77c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52280" y="6054840"/>
            <a:ext cx="901800" cy="676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6440" indent="-1846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4240" indent="-1846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22400" indent="-1846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7960" indent="-1846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26120" indent="-1846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26120" indent="-184680">
              <a:spcBef>
                <a:spcPts val="7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26120" indent="-184680">
              <a:spcBef>
                <a:spcPts val="7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53360" cy="5067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 fontScale="89000"/>
          </a:bodyPr>
          <a:p>
            <a:pPr marL="535320" indent="-372600">
              <a:spcBef>
                <a:spcPts val="35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817920" indent="-372600">
              <a:spcBef>
                <a:spcPts val="35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00520" indent="-372600">
              <a:spcBef>
                <a:spcPts val="35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371600" indent="-372600">
              <a:spcBef>
                <a:spcPts val="35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4" marL="1654200" indent="-372600">
              <a:spcBef>
                <a:spcPts val="35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5" marL="1654200" indent="-372600">
              <a:spcBef>
                <a:spcPts val="35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6" marL="1654200" indent="-372600">
              <a:spcBef>
                <a:spcPts val="35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88840" y="1841040"/>
            <a:ext cx="7353360" cy="939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b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5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88840" y="3022200"/>
            <a:ext cx="7353360" cy="800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t">
            <a:normAutofit fontScale="30000"/>
          </a:bodyPr>
          <a:p>
            <a:pPr indent="0"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560" indent="7560" algn="ctr"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5120" indent="7560" algn="ctr"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22680" indent="7560" algn="ctr"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30240" indent="7560" algn="ctr"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30240" indent="7560" algn="ctr"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30240" indent="7560" algn="ctr"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52280" y="6054840"/>
            <a:ext cx="901800" cy="67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5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683160" cy="4368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 fontScale="83000"/>
          </a:bodyPr>
          <a:p>
            <a:pPr marL="498960" indent="-34776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62480" indent="-34776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26360" indent="-34776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3" marL="1279440" indent="-34776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indent="-34776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 indent="-34776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 indent="-34776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52280" y="6054840"/>
            <a:ext cx="901800" cy="67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5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152600" y="1942920"/>
            <a:ext cx="4102200" cy="4012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 fontScale="82000"/>
          </a:bodyPr>
          <a:p>
            <a:pPr marL="493200" indent="-34344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53480" indent="-34344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13760" indent="-34344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3" marL="1263960" indent="-34344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4" marL="1524240" indent="-34344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5" marL="1524240" indent="-34344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6" marL="1524240" indent="-343440">
              <a:spcBef>
                <a:spcPts val="2801"/>
              </a:spcBef>
              <a:buClr>
                <a:srgbClr val="000000"/>
              </a:buClr>
              <a:buSzPct val="19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152280" y="6054840"/>
            <a:ext cx="901800" cy="67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53360" cy="17143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1" lang="en-US" sz="5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1968480" y="1886040"/>
            <a:ext cx="4965840" cy="4462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52280" y="6054840"/>
            <a:ext cx="901800" cy="67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961320" cy="3162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-50760" tIns="0" bIns="0" anchor="ctr">
            <a:noAutofit/>
          </a:bodyPr>
          <a:p>
            <a:pPr marL="158760" indent="0" algn="ctr">
              <a:lnSpc>
                <a:spcPct val="93000"/>
              </a:lnSpc>
              <a:spcBef>
                <a:spcPts val="99"/>
              </a:spcBef>
              <a:buNone/>
              <a:tabLst>
                <a:tab algn="l" pos="0"/>
                <a:tab algn="l" pos="291960"/>
                <a:tab algn="l" pos="749160"/>
                <a:tab algn="l" pos="1206360"/>
                <a:tab algn="l" pos="1663560"/>
                <a:tab algn="l" pos="2120760"/>
                <a:tab algn="l" pos="2577960"/>
                <a:tab algn="l" pos="3035160"/>
                <a:tab algn="l" pos="3492360"/>
                <a:tab algn="l" pos="3949560"/>
                <a:tab algn="l" pos="4406760"/>
                <a:tab algn="l" pos="4863960"/>
                <a:tab algn="l" pos="5321160"/>
                <a:tab algn="l" pos="5778360"/>
                <a:tab algn="l" pos="6235560"/>
                <a:tab algn="l" pos="6692760"/>
                <a:tab algn="l" pos="7149960"/>
                <a:tab algn="l" pos="7607160"/>
                <a:tab algn="l" pos="8064360"/>
                <a:tab algn="l" pos="8521560"/>
                <a:tab algn="l" pos="8978760"/>
                <a:tab algn="l" pos="9435960"/>
                <a:tab algn="l" pos="955044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BIS Summit @ DAC 2005: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Library Characterization &amp; Modeling: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Issues, Recommendations and Possible Solu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June 14, 2005</a:t>
            </a:r>
            <a:endParaRPr b="1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8" name=""/>
          <p:cNvSpPr/>
          <p:nvPr/>
        </p:nvSpPr>
        <p:spPr>
          <a:xfrm>
            <a:off x="2438280" y="4952880"/>
            <a:ext cx="2895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mit DasGupta, Ph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ce President, Technolog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Integration Initiative (Si2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stin, TX, US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5638680" y="4952880"/>
            <a:ext cx="289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. John Beatt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ior Technical Staff Memb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BM Corporat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opewell Junction, NY, US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736596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Library Format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65960" cy="4012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601560" indent="-419040">
              <a:spcBef>
                <a:spcPts val="1800"/>
              </a:spcBef>
              <a:buSzPct val="196429"/>
              <a:buBlip>
                <a:blip r:embed="rId2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mbiguous syntax and semant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3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ed by popular industry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4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pendent of any specific t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5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ty control / ev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044800" y="1244520"/>
            <a:ext cx="306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736596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Tool “Linkage”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31560" y="1676160"/>
            <a:ext cx="7683480" cy="4012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601560" indent="-419040">
              <a:spcBef>
                <a:spcPts val="1800"/>
              </a:spcBef>
              <a:buSzPct val="196429"/>
              <a:buBlip>
                <a:blip r:embed="rId2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ion of tools from timing data /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3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I interface to modeling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4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ent results across all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5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licon calculations defined by library prov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20760" y="1244520"/>
            <a:ext cx="306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126720"/>
            <a:ext cx="561312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Roadmap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31560" y="1828440"/>
            <a:ext cx="7149960" cy="414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601560" indent="-419040">
              <a:spcBef>
                <a:spcPts val="1800"/>
              </a:spcBef>
              <a:buSzPct val="196429"/>
              <a:buBlip>
                <a:blip r:embed="rId2"/>
              </a:buBlip>
              <a:tabLst>
                <a:tab algn="l" pos="52056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cal tim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3"/>
              </a:buBlip>
              <a:tabLst>
                <a:tab algn="l" pos="52056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d accura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6360">
              <a:spcBef>
                <a:spcPts val="1001"/>
              </a:spcBef>
              <a:buClr>
                <a:srgbClr val="000000"/>
              </a:buClr>
              <a:buSzPct val="191000"/>
              <a:buFont typeface="Helvetica"/>
              <a:buChar char="•"/>
              <a:tabLst>
                <a:tab algn="l" pos="52056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ing and no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6360">
              <a:spcBef>
                <a:spcPts val="1001"/>
              </a:spcBef>
              <a:buClr>
                <a:srgbClr val="000000"/>
              </a:buClr>
              <a:buSzPct val="191000"/>
              <a:buFont typeface="Helvetica"/>
              <a:buChar char="•"/>
              <a:tabLst>
                <a:tab algn="l" pos="52056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kage and total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4"/>
              </a:buBlip>
              <a:tabLst>
                <a:tab algn="l" pos="52056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 var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045880" y="1279440"/>
            <a:ext cx="3960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"/>
              </a:rPr>
              <a:t>Library support for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286000" y="6248520"/>
            <a:ext cx="6553080" cy="609480"/>
          </a:xfrm>
          <a:prstGeom prst="rightArrow">
            <a:avLst>
              <a:gd name="adj1" fmla="val 61981"/>
              <a:gd name="adj2" fmla="val 75014"/>
            </a:avLst>
          </a:prstGeom>
          <a:gradFill rotWithShape="0">
            <a:gsLst>
              <a:gs pos="0">
                <a:srgbClr val="78987a">
                  <a:alpha val="75294"/>
                </a:srgbClr>
              </a:gs>
              <a:gs pos="100000">
                <a:srgbClr val="c3dec5">
                  <a:alpha val="7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7086600" y="6019920"/>
            <a:ext cx="533520" cy="457200"/>
          </a:xfrm>
          <a:prstGeom prst="downArrow">
            <a:avLst>
              <a:gd name="adj1" fmla="val 50000"/>
              <a:gd name="adj2" fmla="val 41407"/>
            </a:avLst>
          </a:prstGeom>
          <a:solidFill>
            <a:srgbClr val="fff6a2"/>
          </a:solidFill>
          <a:ln w="9360">
            <a:solidFill>
              <a:srgbClr val="ffb4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19320" y="126720"/>
            <a:ext cx="632448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Modeling System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0" y="2590920"/>
            <a:ext cx="6553080" cy="1600200"/>
          </a:xfrm>
          <a:prstGeom prst="rect">
            <a:avLst/>
          </a:prstGeom>
          <a:solidFill>
            <a:srgbClr val="c3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25588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ization System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2892600"/>
            <a:ext cx="1219320" cy="1066680"/>
          </a:xfrm>
          <a:prstGeom prst="can">
            <a:avLst>
              <a:gd name="adj" fmla="val 25000"/>
            </a:avLst>
          </a:prstGeom>
          <a:solidFill>
            <a:srgbClr val="dbd8ff"/>
          </a:solidFill>
          <a:ln w="9360">
            <a:solidFill>
              <a:srgbClr val="8080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5943600" y="2892600"/>
            <a:ext cx="1104840" cy="1143000"/>
          </a:xfrm>
          <a:prstGeom prst="rect">
            <a:avLst/>
          </a:prstGeom>
          <a:solidFill>
            <a:srgbClr val="fff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7581960" y="2892600"/>
            <a:ext cx="1104840" cy="1143000"/>
          </a:xfrm>
          <a:prstGeom prst="rect">
            <a:avLst/>
          </a:prstGeom>
          <a:solidFill>
            <a:srgbClr val="fff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4191120" y="322596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Result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30448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ve fit &amp; model gen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7620120" y="296856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ro block model gen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6324480" y="4572000"/>
            <a:ext cx="2057400" cy="457200"/>
          </a:xfrm>
          <a:prstGeom prst="rect">
            <a:avLst/>
          </a:prstGeom>
          <a:solidFill>
            <a:srgbClr val="fff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6313320" y="4648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Compilatio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172200" y="5257800"/>
            <a:ext cx="2286000" cy="838080"/>
            <a:chOff x="6172200" y="5257800"/>
            <a:chExt cx="2286000" cy="838080"/>
          </a:xfrm>
        </p:grpSpPr>
        <p:sp>
          <p:nvSpPr>
            <p:cNvPr id="503" name=""/>
            <p:cNvSpPr/>
            <p:nvPr/>
          </p:nvSpPr>
          <p:spPr>
            <a:xfrm>
              <a:off x="6172200" y="5257800"/>
              <a:ext cx="2057400" cy="609480"/>
            </a:xfrm>
            <a:prstGeom prst="rect">
              <a:avLst/>
            </a:prstGeom>
            <a:solidFill>
              <a:srgbClr val="fff6a2"/>
            </a:solidFill>
            <a:ln w="9360">
              <a:solidFill>
                <a:srgbClr val="ffb4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8520" y="5333760"/>
              <a:ext cx="2057400" cy="609840"/>
            </a:xfrm>
            <a:prstGeom prst="rect">
              <a:avLst/>
            </a:prstGeom>
            <a:solidFill>
              <a:srgbClr val="fff6a2"/>
            </a:solidFill>
            <a:ln w="9360">
              <a:solidFill>
                <a:srgbClr val="ffb4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24480" y="5410080"/>
              <a:ext cx="2057400" cy="609480"/>
            </a:xfrm>
            <a:prstGeom prst="rect">
              <a:avLst/>
            </a:prstGeom>
            <a:solidFill>
              <a:srgbClr val="fff6a2"/>
            </a:solidFill>
            <a:ln w="9360">
              <a:solidFill>
                <a:srgbClr val="ffb4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00800" y="5486400"/>
              <a:ext cx="2057400" cy="609480"/>
            </a:xfrm>
            <a:prstGeom prst="rect">
              <a:avLst/>
            </a:prstGeom>
            <a:solidFill>
              <a:srgbClr val="fff6a2"/>
            </a:solidFill>
            <a:ln w="9360">
              <a:solidFill>
                <a:srgbClr val="ffb4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6400800" y="5683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EE 1481v2 Ru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7086600" y="4191120"/>
            <a:ext cx="533520" cy="457200"/>
          </a:xfrm>
          <a:prstGeom prst="downArrow">
            <a:avLst>
              <a:gd name="adj1" fmla="val 50000"/>
              <a:gd name="adj2" fmla="val 41407"/>
            </a:avLst>
          </a:prstGeom>
          <a:solidFill>
            <a:srgbClr val="fff6a2"/>
          </a:solidFill>
          <a:ln w="9360">
            <a:solidFill>
              <a:srgbClr val="ffb4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5029200"/>
            <a:ext cx="533520" cy="380880"/>
          </a:xfrm>
          <a:prstGeom prst="downArrow">
            <a:avLst>
              <a:gd name="adj1" fmla="val 50000"/>
              <a:gd name="adj2" fmla="val 41407"/>
            </a:avLst>
          </a:prstGeom>
          <a:solidFill>
            <a:srgbClr val="fff6a2"/>
          </a:solidFill>
          <a:ln w="9360">
            <a:solidFill>
              <a:srgbClr val="ffb4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>
            <a:off x="3886200" y="6400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ol Flow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3124080" y="5791320"/>
            <a:ext cx="533520" cy="685800"/>
          </a:xfrm>
          <a:prstGeom prst="downArrow">
            <a:avLst>
              <a:gd name="adj1" fmla="val 50000"/>
              <a:gd name="adj2" fmla="val 53226"/>
            </a:avLst>
          </a:prstGeom>
          <a:solidFill>
            <a:srgbClr val="fff6a2"/>
          </a:solidFill>
          <a:ln w="9360">
            <a:solidFill>
              <a:srgbClr val="ffb4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4267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2057400" y="4267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c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962520"/>
            <a:ext cx="1905120" cy="1143000"/>
          </a:xfrm>
          <a:prstGeom prst="rect">
            <a:avLst/>
          </a:prstGeom>
          <a:solidFill>
            <a:srgbClr val="1b659b">
              <a:alpha val="34000"/>
            </a:srgbClr>
          </a:solidFill>
          <a:ln w="9360">
            <a:solidFill>
              <a:srgbClr val="a6a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152280" y="4343400"/>
            <a:ext cx="228600" cy="228600"/>
          </a:xfrm>
          <a:prstGeom prst="rect">
            <a:avLst/>
          </a:prstGeom>
          <a:solidFill>
            <a:srgbClr val="fff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152280" y="4724280"/>
            <a:ext cx="228600" cy="228600"/>
          </a:xfrm>
          <a:prstGeom prst="rect">
            <a:avLst/>
          </a:prstGeom>
          <a:solidFill>
            <a:srgbClr val="db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9625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380880" y="431784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-Scop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380880" y="468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3505320" y="3352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a6a7c9"/>
          </a:solidFill>
          <a:ln w="9360">
            <a:solidFill>
              <a:srgbClr val="dbd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5334120" y="3352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e584"/>
          </a:solidFill>
          <a:ln w="9360">
            <a:solidFill>
              <a:srgbClr val="ffb4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7848720" y="2133720"/>
            <a:ext cx="533160" cy="533160"/>
          </a:xfrm>
          <a:prstGeom prst="downArrow">
            <a:avLst>
              <a:gd name="adj1" fmla="val 50000"/>
              <a:gd name="adj2" fmla="val 41407"/>
            </a:avLst>
          </a:prstGeom>
          <a:solidFill>
            <a:srgbClr val="fff6a2"/>
          </a:solidFill>
          <a:ln w="9360">
            <a:solidFill>
              <a:srgbClr val="ffb4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7467480" y="1219320"/>
            <a:ext cx="1219320" cy="914400"/>
          </a:xfrm>
          <a:prstGeom prst="can">
            <a:avLst>
              <a:gd name="adj" fmla="val 25000"/>
            </a:avLst>
          </a:prstGeom>
          <a:solidFill>
            <a:srgbClr val="dbd8ff"/>
          </a:solidFill>
          <a:ln w="9360">
            <a:solidFill>
              <a:srgbClr val="8080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7499520" y="1447920"/>
            <a:ext cx="11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3657600" y="2133720"/>
            <a:ext cx="533520" cy="533160"/>
          </a:xfrm>
          <a:prstGeom prst="downArrow">
            <a:avLst>
              <a:gd name="adj1" fmla="val 50000"/>
              <a:gd name="adj2" fmla="val 41407"/>
            </a:avLst>
          </a:prstGeom>
          <a:solidFill>
            <a:srgbClr val="dbd8ff"/>
          </a:solidFill>
          <a:ln w="9360">
            <a:solidFill>
              <a:srgbClr val="a6a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2284560" y="1371600"/>
            <a:ext cx="3278160" cy="838080"/>
          </a:xfrm>
          <a:prstGeom prst="flowChartDocument">
            <a:avLst/>
          </a:prstGeom>
          <a:solidFill>
            <a:srgbClr val="db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2241720" y="1415880"/>
            <a:ext cx="33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Technology, BSim, and Spice Deck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437560" y="5105520"/>
            <a:ext cx="2057400" cy="838080"/>
          </a:xfrm>
          <a:prstGeom prst="flowChartMultidocument">
            <a:avLst/>
          </a:prstGeom>
          <a:solidFill>
            <a:srgbClr val="fff6a2"/>
          </a:solidFill>
          <a:ln w="9360">
            <a:solidFill>
              <a:srgbClr val="ffb4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2590920" y="52704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SM/CCS/.lib format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3048120" y="4191120"/>
            <a:ext cx="685800" cy="1023840"/>
          </a:xfrm>
          <a:prstGeom prst="downArrow">
            <a:avLst>
              <a:gd name="adj1" fmla="val 50000"/>
              <a:gd name="adj2" fmla="val 37323"/>
            </a:avLst>
          </a:prstGeom>
          <a:solidFill>
            <a:srgbClr val="fff6a2"/>
          </a:solidFill>
          <a:ln w="9360">
            <a:solidFill>
              <a:srgbClr val="ffb4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2438280" y="2892600"/>
            <a:ext cx="1105200" cy="1143000"/>
          </a:xfrm>
          <a:prstGeom prst="rect">
            <a:avLst/>
          </a:prstGeom>
          <a:solidFill>
            <a:srgbClr val="db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2438280" y="3044880"/>
            <a:ext cx="10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control system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 flipV="1">
            <a:off x="3731400" y="2285640"/>
            <a:ext cx="1800" cy="36831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400480" y="2247480"/>
            <a:ext cx="144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647712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Grande"/>
              </a:rPr>
              <a:t>  </a:t>
            </a: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Create New Coalition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844720" y="3174840"/>
            <a:ext cx="1676520" cy="533520"/>
            <a:chOff x="2844720" y="3174840"/>
            <a:chExt cx="1676520" cy="533520"/>
          </a:xfrm>
        </p:grpSpPr>
        <p:sp>
          <p:nvSpPr>
            <p:cNvPr id="537" name=""/>
            <p:cNvSpPr/>
            <p:nvPr/>
          </p:nvSpPr>
          <p:spPr>
            <a:xfrm>
              <a:off x="2844720" y="3174840"/>
              <a:ext cx="1676520" cy="533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75200" y="3228480"/>
              <a:ext cx="1014120" cy="4266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ion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530520" y="3784680"/>
            <a:ext cx="1600200" cy="533160"/>
            <a:chOff x="3530520" y="3784680"/>
            <a:chExt cx="1600200" cy="533160"/>
          </a:xfrm>
        </p:grpSpPr>
        <p:sp>
          <p:nvSpPr>
            <p:cNvPr id="540" name=""/>
            <p:cNvSpPr/>
            <p:nvPr/>
          </p:nvSpPr>
          <p:spPr>
            <a:xfrm>
              <a:off x="3530520" y="3784680"/>
              <a:ext cx="1600200" cy="533160"/>
            </a:xfrm>
            <a:prstGeom prst="rect">
              <a:avLst/>
            </a:prstGeom>
            <a:solidFill>
              <a:srgbClr val="f5c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69040" y="3837960"/>
              <a:ext cx="1521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 interfac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835440" y="4394160"/>
            <a:ext cx="2286000" cy="533520"/>
            <a:chOff x="3835440" y="4394160"/>
            <a:chExt cx="2286000" cy="533520"/>
          </a:xfrm>
        </p:grpSpPr>
        <p:sp>
          <p:nvSpPr>
            <p:cNvPr id="543" name=""/>
            <p:cNvSpPr/>
            <p:nvPr/>
          </p:nvSpPr>
          <p:spPr>
            <a:xfrm>
              <a:off x="3835440" y="4394160"/>
              <a:ext cx="2286000" cy="533520"/>
            </a:xfrm>
            <a:prstGeom prst="rect">
              <a:avLst/>
            </a:prstGeom>
            <a:solidFill>
              <a:srgbClr val="f5c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69000" y="4447440"/>
              <a:ext cx="20170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 characterization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130720" y="5003640"/>
            <a:ext cx="1600200" cy="533520"/>
            <a:chOff x="5130720" y="5003640"/>
            <a:chExt cx="1600200" cy="533520"/>
          </a:xfrm>
        </p:grpSpPr>
        <p:sp>
          <p:nvSpPr>
            <p:cNvPr id="546" name=""/>
            <p:cNvSpPr/>
            <p:nvPr/>
          </p:nvSpPr>
          <p:spPr>
            <a:xfrm>
              <a:off x="5130720" y="5003640"/>
              <a:ext cx="1600200" cy="533520"/>
            </a:xfrm>
            <a:prstGeom prst="rect">
              <a:avLst/>
            </a:prstGeom>
            <a:solidFill>
              <a:srgbClr val="f5c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85800" y="5057280"/>
              <a:ext cx="14882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 migration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197760" y="5613480"/>
            <a:ext cx="2057400" cy="533160"/>
            <a:chOff x="6197760" y="5613480"/>
            <a:chExt cx="2057400" cy="533160"/>
          </a:xfrm>
        </p:grpSpPr>
        <p:sp>
          <p:nvSpPr>
            <p:cNvPr id="549" name=""/>
            <p:cNvSpPr/>
            <p:nvPr/>
          </p:nvSpPr>
          <p:spPr>
            <a:xfrm>
              <a:off x="6197760" y="5613480"/>
              <a:ext cx="2057400" cy="533160"/>
            </a:xfrm>
            <a:prstGeom prst="rect">
              <a:avLst/>
            </a:prstGeom>
            <a:solidFill>
              <a:srgbClr val="f5c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19040" y="5666760"/>
              <a:ext cx="10126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A vendor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optio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51" name=""/>
          <p:cNvSpPr/>
          <p:nvPr/>
        </p:nvSpPr>
        <p:spPr>
          <a:xfrm flipV="1">
            <a:off x="2386800" y="6222600"/>
            <a:ext cx="63248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5034960" y="6207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311560" y="2565360"/>
            <a:ext cx="1676160" cy="533520"/>
            <a:chOff x="2311560" y="2565360"/>
            <a:chExt cx="1676160" cy="533520"/>
          </a:xfrm>
        </p:grpSpPr>
        <p:sp>
          <p:nvSpPr>
            <p:cNvPr id="554" name=""/>
            <p:cNvSpPr/>
            <p:nvPr/>
          </p:nvSpPr>
          <p:spPr>
            <a:xfrm>
              <a:off x="2311560" y="2565360"/>
              <a:ext cx="1676160" cy="533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93800" y="2619000"/>
              <a:ext cx="1110240" cy="4266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uirement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56" name=""/>
          <p:cNvSpPr/>
          <p:nvPr/>
        </p:nvSpPr>
        <p:spPr>
          <a:xfrm rot="16200000">
            <a:off x="2831400" y="5049720"/>
            <a:ext cx="138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  <a:ea typeface="Arial"/>
              </a:rPr>
              <a:t>Start Coalitio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1775880" y="1219320"/>
            <a:ext cx="634500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2600" indent="-2826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2793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eled after OpenAccess Coali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126720"/>
            <a:ext cx="645156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OMC Structure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9" name=""/>
          <p:cNvSpPr/>
          <p:nvPr/>
        </p:nvSpPr>
        <p:spPr>
          <a:xfrm>
            <a:off x="2057400" y="1447920"/>
            <a:ext cx="6934320" cy="5105160"/>
          </a:xfrm>
          <a:prstGeom prst="rect">
            <a:avLst/>
          </a:prstGeom>
          <a:solidFill>
            <a:srgbClr val="ccff99"/>
          </a:solidFill>
          <a:ln w="255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2133720" y="1523880"/>
            <a:ext cx="213336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spcBef>
                <a:spcPts val="876"/>
              </a:spcBef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"/>
              </a:rPr>
              <a:t>Open Modeling Coalit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Si2 members in good stand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Chair, Vice-Chair, Secretar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Owners of reference flow and overall implementat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Majority voting for decision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600200"/>
            <a:ext cx="4572000" cy="4724280"/>
          </a:xfrm>
          <a:prstGeom prst="rect">
            <a:avLst/>
          </a:prstGeom>
          <a:solidFill>
            <a:srgbClr val="ccccff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1676520"/>
            <a:ext cx="19051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spcBef>
                <a:spcPts val="876"/>
              </a:spcBef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"/>
              </a:rPr>
              <a:t>Technical Steering Grou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to 12 member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Led by 2 chief architect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2/3 super-majority vot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Owns roadmap, implementation plan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Charters working group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Appoints champions for working group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>
            <a:off x="6477120" y="1752480"/>
            <a:ext cx="2209680" cy="43434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>
            <a:off x="6553080" y="1828800"/>
            <a:ext cx="2057400" cy="42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spcBef>
                <a:spcPts val="876"/>
              </a:spcBef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"/>
              </a:rPr>
              <a:t>Working Group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ed and disbanded by TS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Champion from TSG is a memb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Participants are from coalit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Chair appointed by TS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115920" indent="-115920">
              <a:spcBef>
                <a:spcPts val="876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Initial list of WG’s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347760" indent="-115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nterface to modeling subsyste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347760" indent="-115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nterface for foundry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347760" indent="-115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tatistical tim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347760" indent="-115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ill Sans"/>
              <a:buChar char="•"/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tatic forma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600200" y="126720"/>
            <a:ext cx="640080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Targeted Participants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365960" cy="4012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652320" indent="-469800">
              <a:lnSpc>
                <a:spcPct val="100000"/>
              </a:lnSpc>
              <a:spcBef>
                <a:spcPts val="1800"/>
              </a:spcBef>
              <a:buSzPct val="196429"/>
              <a:buBlip>
                <a:blip r:embed="rId2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egrated device manufactur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52320" indent="-469800">
              <a:lnSpc>
                <a:spcPct val="100000"/>
              </a:lnSpc>
              <a:spcBef>
                <a:spcPts val="1800"/>
              </a:spcBef>
              <a:buSzPct val="196429"/>
              <a:buBlip>
                <a:blip r:embed="rId3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licon found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52320" indent="-469800">
              <a:lnSpc>
                <a:spcPct val="100000"/>
              </a:lnSpc>
              <a:spcBef>
                <a:spcPts val="1800"/>
              </a:spcBef>
              <a:buSzPct val="196429"/>
              <a:buBlip>
                <a:blip r:embed="rId4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sign automation vend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52320" indent="-469800">
              <a:lnSpc>
                <a:spcPct val="100000"/>
              </a:lnSpc>
              <a:spcBef>
                <a:spcPts val="1800"/>
              </a:spcBef>
              <a:buSzPct val="196429"/>
              <a:buBlip>
                <a:blip r:embed="rId5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d user compan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52320" indent="-469800">
              <a:lnSpc>
                <a:spcPct val="100000"/>
              </a:lnSpc>
              <a:spcBef>
                <a:spcPts val="1800"/>
              </a:spcBef>
              <a:buSzPct val="196429"/>
              <a:buBlip>
                <a:blip r:embed="rId6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P or library vend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47560" y="126720"/>
            <a:ext cx="845820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Open Library Modeling Meeting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8" name=""/>
          <p:cNvSpPr/>
          <p:nvPr/>
        </p:nvSpPr>
        <p:spPr>
          <a:xfrm>
            <a:off x="1600200" y="2147760"/>
            <a:ext cx="7162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>
              <a:spcBef>
                <a:spcPts val="1375"/>
              </a:spcBef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Date: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June 15, 2005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347760">
              <a:spcBef>
                <a:spcPts val="1375"/>
              </a:spcBef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Time: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10:00 – 11:30AM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347760">
              <a:spcBef>
                <a:spcPts val="1375"/>
              </a:spcBef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Place: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naheim Convention Center, Room 202A     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126720"/>
            <a:ext cx="449568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365960" cy="28195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601560" indent="-419040">
              <a:spcBef>
                <a:spcPts val="1800"/>
              </a:spcBef>
              <a:buSzPct val="196356"/>
              <a:buBlip>
                <a:blip r:embed="rId2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8 Letters of intent from DTC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356"/>
              <a:buBlip>
                <a:blip r:embed="rId3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4 companies have submitte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356"/>
              <a:buBlip>
                <a:blip r:embed="rId4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BOD approval at April 7th mee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20840" y="3454560"/>
            <a:ext cx="7442280" cy="3022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rmAutofit/>
          </a:bodyPr>
          <a:p>
            <a:pPr marL="25560">
              <a:lnSpc>
                <a:spcPct val="100000"/>
              </a:lnSpc>
              <a:spcBef>
                <a:spcPts val="1800"/>
              </a:spcBef>
              <a:buSzPct val="196356"/>
              <a:buBlip>
                <a:blip r:embed="rId5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gaging industry play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560">
              <a:lnSpc>
                <a:spcPct val="100000"/>
              </a:lnSpc>
              <a:spcBef>
                <a:spcPts val="1800"/>
              </a:spcBef>
              <a:buSzPct val="196356"/>
              <a:buBlip>
                <a:blip r:embed="rId6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forward with formation of coali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560">
              <a:lnSpc>
                <a:spcPct val="100000"/>
              </a:lnSpc>
              <a:spcBef>
                <a:spcPts val="1800"/>
              </a:spcBef>
              <a:buSzPct val="196356"/>
              <a:buBlip>
                <a:blip r:embed="rId7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 Modeling Meeting at DAC on 06/15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568944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Sponsors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133720" y="2057400"/>
          <a:ext cx="6705360" cy="3632040"/>
        </p:xfrm>
        <a:graphic>
          <a:graphicData uri="http://schemas.openxmlformats.org/drawingml/2006/table">
            <a:tbl>
              <a:tblPr/>
              <a:tblGrid>
                <a:gridCol w="2179440"/>
                <a:gridCol w="2263680"/>
                <a:gridCol w="2262240"/>
              </a:tblGrid>
              <a:tr h="730080">
                <a:tc gridSpan="3"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2’s Design Technology Council (D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380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s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M Corp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lips Semicondu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106200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scale Semicon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ineon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 Micro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7761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wlett Pack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SI 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49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23888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Reality: 90nm onwards!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696080" cy="2438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465120" indent="-406440">
              <a:spcBef>
                <a:spcPts val="1800"/>
              </a:spcBef>
              <a:buSzPct val="196323"/>
              <a:buBlip>
                <a:blip r:embed="rId2"/>
              </a:buBlip>
              <a:tabLst>
                <a:tab algn="l" pos="520560"/>
                <a:tab algn="l" pos="56664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ough problems at 130nm are still here,… and there are some new ones at 90n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560" y="126720"/>
            <a:ext cx="838188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Challenges: 90nm onwards!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696080" cy="46483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380880" indent="-380880">
              <a:lnSpc>
                <a:spcPct val="90000"/>
              </a:lnSpc>
              <a:spcBef>
                <a:spcPts val="1800"/>
              </a:spcBef>
              <a:buSzPct val="196429"/>
              <a:buBlip>
                <a:blip r:embed="rId2"/>
              </a:buBlip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ficant divergence between predicted &amp; measured performance due to variability in process &amp;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444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160000"/>
              <a:buFont typeface="Helvetica"/>
              <a:buChar char="•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more complex and accurate libraries, including models for interconn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SzPct val="196429"/>
              <a:buBlip>
                <a:blip r:embed="rId3"/>
              </a:buBlip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ps designed with multi-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multi-voltage reg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444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160000"/>
              <a:buFont typeface="Helvetica"/>
              <a:buChar char="•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multiple libr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SzPct val="196429"/>
              <a:buBlip>
                <a:blip r:embed="rId4"/>
              </a:buBlip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conductor processes will get more complex at 65nm…and beyond… which will lead to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444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160000"/>
              <a:buFont typeface="Helvetica"/>
              <a:buChar char="•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more complex libr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126720"/>
            <a:ext cx="637560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Objective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65960" cy="4012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601560" indent="-419040">
              <a:spcBef>
                <a:spcPts val="1800"/>
              </a:spcBef>
              <a:buSzPct val="196429"/>
              <a:buBlip>
                <a:blip r:embed="rId2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accuracy to silicon at 90nm and 65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3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able to future technology n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4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new capabilities (e.g. statistical ti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5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 consistent modeling method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1244520"/>
            <a:ext cx="7391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eling &amp; characterization environment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26720"/>
            <a:ext cx="515628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Issues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365960" cy="386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601560" indent="-419040">
              <a:spcBef>
                <a:spcPts val="1800"/>
              </a:spcBef>
              <a:buSzPct val="196429"/>
              <a:buBlip>
                <a:blip r:embed="rId2"/>
              </a:buBlip>
              <a:tabLst>
                <a:tab algn="l" pos="520560"/>
                <a:tab algn="l" pos="56664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/consistency of library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3"/>
              </a:buBlip>
              <a:tabLst>
                <a:tab algn="l" pos="520560"/>
                <a:tab algn="l" pos="56664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p between requirements and 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4"/>
              </a:buBlip>
              <a:tabLst>
                <a:tab algn="l" pos="520560"/>
                <a:tab algn="l" pos="56664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/Expertise needed to build accurate libr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5"/>
              </a:buBlip>
              <a:tabLst>
                <a:tab algn="l" pos="520560"/>
                <a:tab algn="l" pos="56664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formats cannot express modeling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6"/>
              </a:buBlip>
              <a:tabLst>
                <a:tab algn="l" pos="520560"/>
                <a:tab algn="l" pos="56664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tools closely “linked” to libr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126720"/>
            <a:ext cx="736596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Model Accuracy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65960" cy="4012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601560" indent="-419040">
              <a:spcBef>
                <a:spcPts val="1800"/>
              </a:spcBef>
              <a:buSzPct val="196429"/>
              <a:buBlip>
                <a:blip r:embed="rId2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le lookup (piecewise linea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3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bitrary polynom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4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 source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5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definable equations /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6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ency across libr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1244520"/>
            <a:ext cx="306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160" y="126720"/>
            <a:ext cx="736596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Capability Gap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65960" cy="4012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601560" indent="-419040">
              <a:spcBef>
                <a:spcPts val="1800"/>
              </a:spcBef>
              <a:buSzPct val="196429"/>
              <a:buBlip>
                <a:blip r:embed="rId2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ay, power &amp; signal integrity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3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voltage libr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4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cal modeling of process &amp; other var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5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44800" y="1244520"/>
            <a:ext cx="306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126720"/>
            <a:ext cx="7365960" cy="82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Lucida Grande"/>
              </a:rPr>
              <a:t>Library Cost…</a:t>
            </a:r>
            <a:endParaRPr b="1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65960" cy="4012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45720" rIns="45720" tIns="0" bIns="0" anchor="ctr">
            <a:normAutofit/>
          </a:bodyPr>
          <a:p>
            <a:pPr marL="601560" indent="-419040">
              <a:spcBef>
                <a:spcPts val="1800"/>
              </a:spcBef>
              <a:buSzPct val="196429"/>
              <a:buBlip>
                <a:blip r:embed="rId2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e characterization &amp; modeling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3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manu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4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e curve-fitting &amp; model gen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1560" indent="-419040">
              <a:spcBef>
                <a:spcPts val="1800"/>
              </a:spcBef>
              <a:buSzPct val="196429"/>
              <a:buBlip>
                <a:blip r:embed="rId5"/>
              </a:buBlip>
              <a:tabLst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hierarchical character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044800" y="1244520"/>
            <a:ext cx="306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Carver</dc:creator>
  <dc:description/>
  <dc:language>en-US</dc:language>
  <cp:lastModifiedBy> </cp:lastModifiedBy>
  <dcterms:modified xsi:type="dcterms:W3CDTF">2005-06-10T19:18:15Z</dcterms:modified>
  <cp:revision>25</cp:revision>
  <dc:subject/>
  <dc:title> IC Design Library Modelling: Library System Approa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69566685</vt:r8>
  </property>
  <property fmtid="{D5CDD505-2E9C-101B-9397-08002B2CF9AE}" pid="3" name="_AuthorEmail">
    <vt:lpwstr>dasgupta@si2.org</vt:lpwstr>
  </property>
  <property fmtid="{D5CDD505-2E9C-101B-9397-08002B2CF9AE}" pid="4" name="_AuthorEmailDisplayName">
    <vt:lpwstr>Sumit Dasgupta</vt:lpwstr>
  </property>
  <property fmtid="{D5CDD505-2E9C-101B-9397-08002B2CF9AE}" pid="5" name="_EmailSubject">
    <vt:lpwstr>Due apologies</vt:lpwstr>
  </property>
</Properties>
</file>