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9FB-0362-4C54-997D-62C257D7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325-5AB4-4BBC-9F2A-B3ADAD41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C00-DBFE-4D62-B05D-FEB8147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BC4-F4B2-494D-A2A2-B01CA47B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B389-179B-4508-B6F7-63A0423E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0D30-4C1E-4B9F-85D6-1FB5E363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2CC4-25C1-4FCE-B989-2C75D48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68C3-A1B7-4A67-A7A5-60AA8F1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9FCB-15BD-4CB8-8EED-30123F8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FF47-BC6C-4A31-8E08-32289BB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D80-516C-4884-A82E-7F7EFE2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935-349A-4E1F-A7C9-0EB5A408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120B-BC20-4FD0-95BD-CBD6E734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618A-CB2C-4175-8256-DB8C42C4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2AAC-D5E2-45E5-888B-93D5BF0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076-9A71-433C-A7D7-24B35223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96A8-8BBC-4A9F-82CF-6EC09FCC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1C1-F42C-4DFC-8447-B8A704A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926-3865-4B31-96B6-30F9071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2F6-7E8D-4AE5-B620-EFCCA77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B4B-22ED-4929-861A-43E76516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502-6C62-437A-8A7B-4978A17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56B-2BDA-453E-886F-C209E93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474-5AE6-4CE0-A547-7E96A98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BDAF-0C9E-444B-BD76-ED104F310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E2B-C770-45C3-A0AC-47A2915F98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209680" cy="334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920-2B0C-4B9D-8206-E0C95002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1A29-5555-413E-AB7E-C9852AD525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71800" y="4172040"/>
            <a:ext cx="313704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kvarma@ncs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taneous Switching Noise in IBIS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kvarma@ncsu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Paul Franzon, Prof. Michael St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6668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ign and Automation Conferenc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une 8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Updated on June 28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and Finite Difference Approximation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76201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ACK BOX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wledge of Internal circuitry not necess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load independen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tic Characteristic Modeling + Dynamic Characteristics (by capturing the previous time instances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080" y="5977080"/>
            <a:ext cx="859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cro-Modeling of Non-Linear I/O drivers using Spline Functions and Finite Time Difference Approximation, B Mutnur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im Liibous and Madhavan Swaminathan, EPEP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(cont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n-Linear relation is drawn between driver O/P current and voltage.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re submodels relating O/P currents and voltages when driver is set high(f1) and low(f2) and have both static and dynamic information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atic values can be obtained using DC sweep and using n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order cubic spline.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0" y="1752480"/>
                <a:ext cx="4343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648320" y="3048120"/>
                <a:ext cx="3757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879080" y="4038480"/>
            <a:ext cx="356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=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m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) +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Functions (cont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ynamic values can be obtained by including the previous time instances of the driver output current.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and W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are used for transitioning from 1 logic state to the other. They are obtained by estimating submodel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 for 2 loads and by linearly inverting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nd are represented as PWL    voltage source. </a:t>
            </a: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1280" y="2465280"/>
                <a:ext cx="271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6400800" y="2209680"/>
            <a:ext cx="2285640" cy="1067040"/>
            <a:chOff x="6400800" y="2209680"/>
            <a:chExt cx="2285640" cy="1067040"/>
          </a:xfrm>
        </p:grpSpPr>
        <p:sp>
          <p:nvSpPr>
            <p:cNvPr id="222" name=""/>
            <p:cNvSpPr/>
            <p:nvPr/>
          </p:nvSpPr>
          <p:spPr>
            <a:xfrm>
              <a:off x="6524280" y="234540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2661120"/>
              <a:ext cx="226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24280" y="294228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24280" y="234540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24280" y="3276720"/>
              <a:ext cx="20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211520" y="221148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8080" y="2209680"/>
              <a:ext cx="11448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4329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463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6597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120" y="2224800"/>
              <a:ext cx="11304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86160" y="236124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6920" y="236124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53520" y="270432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60000" y="2843640"/>
              <a:ext cx="22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66920" y="2844720"/>
              <a:ext cx="0" cy="42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67320" y="2687760"/>
              <a:ext cx="3160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08080" y="2421720"/>
              <a:ext cx="5061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 =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5120" y="2687760"/>
              <a:ext cx="253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648320" y="3962520"/>
            <a:ext cx="4198680" cy="1193760"/>
            <a:chOff x="4648320" y="3962520"/>
            <a:chExt cx="4198680" cy="119376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4648320" y="4114800"/>
                  <a:ext cx="698400" cy="103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>
              <a:off x="5457600" y="426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6127560" y="4084920"/>
                  <a:ext cx="64476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a</m:t>
                              </m:r>
                            </m:sub>
                          </m:sSub>
                        </m:e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7164360" y="4008600"/>
                  <a:ext cx="725400" cy="11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sub>
                          </m:sSub>
                        </m:e>
                        <m:e>
                          <m:r>
                            <m:t xml:space="preserve">]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b</m:t>
                              </m:r>
                            </m:sub>
                          </m:sSub>
                        </m:e>
                        <m:e/>
                      </m:eqAr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8231040" y="4084920"/>
                  <a:ext cx="61596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7657920" y="396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520" y="5105520"/>
                <a:ext cx="43434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ic Modeling Using Spline</a:t>
            </a:r>
            <a:br>
              <a:rPr sz="36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river Output Current Vs Tim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0785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057400" y="3047760"/>
            <a:ext cx="1905120" cy="1676520"/>
            <a:chOff x="2057400" y="3047760"/>
            <a:chExt cx="1905120" cy="167652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rcRect l="29724" t="35720" r="26535" b="26956"/>
            <a:stretch/>
          </p:blipFill>
          <p:spPr>
            <a:xfrm>
              <a:off x="2057400" y="3657600"/>
              <a:ext cx="1905120" cy="106668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253" name=""/>
            <p:cNvSpPr/>
            <p:nvPr/>
          </p:nvSpPr>
          <p:spPr>
            <a:xfrm flipV="1">
              <a:off x="2057400" y="304776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809880" y="320040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3048120"/>
              <a:ext cx="3808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735000" y="60958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7840" y="6400800"/>
            <a:ext cx="22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ing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der Cubic Sp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pturing Dynamic Behavi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499932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2362320" y="3017520"/>
            <a:ext cx="1679400" cy="2127600"/>
            <a:chOff x="2362320" y="3017520"/>
            <a:chExt cx="1679400" cy="212760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rcRect l="44538" t="48867" r="38255" b="27434"/>
            <a:stretch/>
          </p:blipFill>
          <p:spPr>
            <a:xfrm>
              <a:off x="2362320" y="3627360"/>
              <a:ext cx="1679400" cy="15177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62" name=""/>
            <p:cNvSpPr/>
            <p:nvPr/>
          </p:nvSpPr>
          <p:spPr>
            <a:xfrm flipV="1">
              <a:off x="2362320" y="30175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885840" y="317016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3017880"/>
              <a:ext cx="3808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671560" y="59943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ne Function with Finite Time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1000" y="6337440"/>
            <a:ext cx="23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ing 1 previous time in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ne Modeling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ice Netli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pice Macromodel generated using VCVSs (E elements) and CCCs (F elements).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Characteristics can be represented using VC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Characteristics represented using stat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Linear relation between driver o/p current and voltage is now a sub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05120" y="3352680"/>
                <a:ext cx="4343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666880" y="4572000"/>
            <a:ext cx="3581640" cy="13716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ubckt driver1 out1 g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nds (driver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pline method is complex and no IBIS like automation exists.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odels resulting from IBIS, and SPLINE are compared with SPICE simulation of the transistor model.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nd Bou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3483" t="7927" r="0" b="45556"/>
          <a:stretch/>
        </p:blipFill>
        <p:spPr>
          <a:xfrm>
            <a:off x="609480" y="1828800"/>
            <a:ext cx="8077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581280" y="4495680"/>
            <a:ext cx="2819520" cy="990720"/>
            <a:chOff x="3581280" y="4495680"/>
            <a:chExt cx="2819520" cy="990720"/>
          </a:xfrm>
        </p:grpSpPr>
        <p:sp>
          <p:nvSpPr>
            <p:cNvPr id="276" name=""/>
            <p:cNvSpPr/>
            <p:nvPr/>
          </p:nvSpPr>
          <p:spPr>
            <a:xfrm>
              <a:off x="3581280" y="4495680"/>
              <a:ext cx="2819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09880" y="4724280"/>
              <a:ext cx="914400" cy="0"/>
            </a:xfrm>
            <a:prstGeom prst="line">
              <a:avLst/>
            </a:prstGeom>
            <a:ln w="316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499104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9880" y="5257800"/>
              <a:ext cx="9144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06240" y="4572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p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6240" y="483876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I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6960" y="510516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Comparis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13586" t="53878" r="0" b="0"/>
          <a:stretch/>
        </p:blipFill>
        <p:spPr>
          <a:xfrm>
            <a:off x="1224000" y="1646280"/>
            <a:ext cx="74628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3581280" y="4495680"/>
            <a:ext cx="2819520" cy="990720"/>
            <a:chOff x="3581280" y="4495680"/>
            <a:chExt cx="2819520" cy="990720"/>
          </a:xfrm>
        </p:grpSpPr>
        <p:sp>
          <p:nvSpPr>
            <p:cNvPr id="286" name=""/>
            <p:cNvSpPr/>
            <p:nvPr/>
          </p:nvSpPr>
          <p:spPr>
            <a:xfrm>
              <a:off x="3581280" y="4495680"/>
              <a:ext cx="2819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4724280"/>
              <a:ext cx="914400" cy="0"/>
            </a:xfrm>
            <a:prstGeom prst="line">
              <a:avLst/>
            </a:prstGeom>
            <a:ln w="316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499104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9880" y="5257800"/>
              <a:ext cx="9144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06240" y="457200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p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06240" y="483876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I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6960" y="510516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1141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214720" y="3429000"/>
            <a:ext cx="47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and Spline method compared with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of the Transisto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IS V Spic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IS V Spice V Splin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ne Functions and Finite Time Difference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uture Work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, IBIS &amp; SPLINE</a:t>
            </a:r>
            <a:br>
              <a:rPr sz="36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LINE Pro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ccurate tha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eneral tha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1523880"/>
            <a:ext cx="403848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LINE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 it worth having a 50% improvement in SSN simulation accuracy?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is speed valued when IBIS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 SPLINE models be generated using measurements?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uture Wor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combination of Spline method and IBIS is under study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e integrated solution would includ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uracy and the mathematical background of the spline methodolog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utomation and the simplicity of IB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knowledg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f. M. Swaminathan and B. Mutnury, Georgia Instt. of Technolog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for sharing code to model using Spline functions and Finite Time Difference Approximation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2ibis1 and s2ibis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SN issues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table and other proposed solutions.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572" t="35586" r="7145" b="28838"/>
          <a:stretch/>
        </p:blipFill>
        <p:spPr>
          <a:xfrm>
            <a:off x="1752480" y="1523880"/>
            <a:ext cx="4038840" cy="119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5029200" cy="255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84920" y="266688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Inve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.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ach driver connected to a lossless 25 ohms T Line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5 ohm terminations used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drivers given simultaneously switching input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river kept quiet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wer/Ground supplied through pin parasitics.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480" y="1905120"/>
            <a:ext cx="4197600" cy="3248640"/>
            <a:chOff x="609480" y="1905120"/>
            <a:chExt cx="4197600" cy="3248640"/>
          </a:xfrm>
        </p:grpSpPr>
        <p:grpSp>
          <p:nvGrpSpPr>
            <p:cNvPr id="106" name=""/>
            <p:cNvGrpSpPr/>
            <p:nvPr/>
          </p:nvGrpSpPr>
          <p:grpSpPr>
            <a:xfrm>
              <a:off x="609480" y="1905120"/>
              <a:ext cx="4197600" cy="3248640"/>
              <a:chOff x="609480" y="1905120"/>
              <a:chExt cx="4197600" cy="32486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609480" y="3111480"/>
                <a:ext cx="1600200" cy="703080"/>
                <a:chOff x="609480" y="3111480"/>
                <a:chExt cx="1600200" cy="7030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9480" y="311148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9480" y="324972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09480" y="3416400"/>
                  <a:ext cx="99036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9480" y="37576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99840" y="3529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99840" y="3362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99840" y="32241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1760" y="359892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Quiet 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66880" y="2995560"/>
                <a:ext cx="1066680" cy="1218960"/>
                <a:chOff x="2666880" y="2995560"/>
                <a:chExt cx="1066680" cy="1218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66880" y="33004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047760" y="322416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2895480" y="3300480"/>
                  <a:ext cx="152280" cy="609120"/>
                  <a:chOff x="2895480" y="3300480"/>
                  <a:chExt cx="152280" cy="6091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2971440" y="330048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895480" y="3554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895480" y="36050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975760" y="36050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3428640" y="3281400"/>
                  <a:ext cx="152640" cy="628560"/>
                  <a:chOff x="3428640" y="3281400"/>
                  <a:chExt cx="152640" cy="6285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504600" y="3281400"/>
                    <a:ext cx="0" cy="26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428640" y="354312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428640" y="35956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508920" y="3595680"/>
                    <a:ext cx="0" cy="31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2971440" y="39099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0800000">
                  <a:off x="2895120" y="4062240"/>
                  <a:ext cx="15228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04960" y="39099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0800000">
                  <a:off x="3428640" y="406224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160" y="2995560"/>
                  <a:ext cx="9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kg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871640" y="1905120"/>
                <a:ext cx="1557360" cy="1309680"/>
                <a:chOff x="1871640" y="1905120"/>
                <a:chExt cx="1557360" cy="1309680"/>
              </a:xfrm>
            </p:grpSpPr>
            <p:sp>
              <p:nvSpPr>
                <p:cNvPr id="135" name=""/>
                <p:cNvSpPr/>
                <p:nvPr/>
              </p:nvSpPr>
              <p:spPr>
                <a:xfrm rot="5400000">
                  <a:off x="2292120" y="259380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1871640" y="2309760"/>
                  <a:ext cx="152640" cy="609840"/>
                  <a:chOff x="1871640" y="2309760"/>
                  <a:chExt cx="152640" cy="6098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1947600" y="230976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71640" y="25635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871640" y="261468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51920" y="26146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 flipV="1">
                  <a:off x="2443320" y="2067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286000" y="2067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2486160" y="2833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52640" y="29196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5" name=""/>
                <p:cNvCxnSpPr>
                  <a:stCxn id="137" idx="0"/>
                </p:cNvCxnSpPr>
                <p:nvPr/>
              </p:nvCxnSpPr>
              <p:spPr>
                <a:xfrm>
                  <a:off x="1947600" y="2309400"/>
                  <a:ext cx="491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2210040" y="1905120"/>
                  <a:ext cx="609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14600" y="2309760"/>
                  <a:ext cx="914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414440" y="3862080"/>
                <a:ext cx="1557360" cy="1291680"/>
                <a:chOff x="1414440" y="3862080"/>
                <a:chExt cx="1557360" cy="129168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1834920" y="4388760"/>
                  <a:ext cx="380880" cy="8892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414440" y="4105080"/>
                  <a:ext cx="152640" cy="609120"/>
                  <a:chOff x="1414440" y="4105080"/>
                  <a:chExt cx="152640" cy="6091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490400" y="410508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414440" y="435852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414440" y="440964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494720" y="4409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 flipV="1">
                  <a:off x="1986120" y="386208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495440" y="471456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7" name=""/>
                <p:cNvCxnSpPr>
                  <a:stCxn id="151" idx="0"/>
                </p:cNvCxnSpPr>
                <p:nvPr/>
              </p:nvCxnSpPr>
              <p:spPr>
                <a:xfrm>
                  <a:off x="1490400" y="4104720"/>
                  <a:ext cx="491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8" name=""/>
                <p:cNvSpPr/>
                <p:nvPr/>
              </p:nvSpPr>
              <p:spPr>
                <a:xfrm flipV="1">
                  <a:off x="2028960" y="4623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028960" y="484956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0800000">
                  <a:off x="1952640" y="5001480"/>
                  <a:ext cx="15264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57400" y="4290840"/>
                  <a:ext cx="914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752480" y="3071880"/>
                <a:ext cx="3054600" cy="1103400"/>
                <a:chOff x="1752480" y="3071880"/>
                <a:chExt cx="3054600" cy="1103400"/>
              </a:xfrm>
            </p:grpSpPr>
            <p:sp>
              <p:nvSpPr>
                <p:cNvPr id="163" name=""/>
                <p:cNvSpPr/>
                <p:nvPr/>
              </p:nvSpPr>
              <p:spPr>
                <a:xfrm rot="5400000">
                  <a:off x="2209680" y="307188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5400000">
                  <a:off x="2057400" y="322416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5400000">
                  <a:off x="1905120" y="337644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1752480" y="3529080"/>
                  <a:ext cx="45720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3733920" y="3200400"/>
                  <a:ext cx="1073160" cy="974880"/>
                  <a:chOff x="3733920" y="3200400"/>
                  <a:chExt cx="1073160" cy="9748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733920" y="3200400"/>
                    <a:ext cx="761760" cy="114480"/>
                  </a:xfrm>
                  <a:prstGeom prst="flowChartMagneticDrum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4730760" y="3413160"/>
                    <a:ext cx="76320" cy="457200"/>
                    <a:chOff x="4730760" y="3413160"/>
                    <a:chExt cx="76320" cy="45720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730760" y="3413160"/>
                      <a:ext cx="7632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4730760" y="348912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4730760" y="371772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4730760" y="356544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H="1">
                      <a:off x="4730760" y="3641760"/>
                      <a:ext cx="7632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H="1">
                      <a:off x="4730760" y="3794040"/>
                      <a:ext cx="763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4730760" y="3260880"/>
                    <a:ext cx="14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730760" y="3870360"/>
                    <a:ext cx="14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rot="10800000">
                    <a:off x="4654440" y="4022640"/>
                    <a:ext cx="152640" cy="1526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886200" y="3352680"/>
                    <a:ext cx="533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 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419720" y="3257640"/>
                    <a:ext cx="3045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"/>
            <p:cNvSpPr/>
            <p:nvPr/>
          </p:nvSpPr>
          <p:spPr>
            <a:xfrm>
              <a:off x="3429000" y="3271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PICE and IB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9884" t="20204" r="15958" b="20868"/>
          <a:stretch/>
        </p:blipFill>
        <p:spPr>
          <a:xfrm>
            <a:off x="3098880" y="1424160"/>
            <a:ext cx="1384200" cy="1076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797280" y="24908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0080" y="302436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ibi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97280" y="34052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35160" y="3786120"/>
            <a:ext cx="1524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97280" y="41673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73320" y="454824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Element (Hsp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862440"/>
            <a:ext cx="1219320" cy="990720"/>
          </a:xfrm>
          <a:prstGeom prst="wedgeRectCallout">
            <a:avLst>
              <a:gd name="adj1" fmla="val -82291"/>
              <a:gd name="adj2" fmla="val 4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s in IBIS model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ffer from *.ib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7280" y="5195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57680" y="5691240"/>
            <a:ext cx="1866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Equivalent circuit of 4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16981" t="8754" r="11321" b="7211"/>
          <a:stretch/>
        </p:blipFill>
        <p:spPr>
          <a:xfrm>
            <a:off x="4800600" y="1295280"/>
            <a:ext cx="1676520" cy="1500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95680" y="1957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795760"/>
            <a:ext cx="1346040" cy="2895480"/>
          </a:xfrm>
          <a:custGeom>
            <a:avLst/>
            <a:gdLst/>
            <a:ahLst/>
            <a:rect l="l" t="t" r="r" b="b"/>
            <a:pathLst>
              <a:path w="848" h="1824">
                <a:moveTo>
                  <a:pt x="0" y="1824"/>
                </a:moveTo>
                <a:cubicBezTo>
                  <a:pt x="296" y="1472"/>
                  <a:pt x="592" y="1120"/>
                  <a:pt x="720" y="816"/>
                </a:cubicBezTo>
                <a:cubicBezTo>
                  <a:pt x="848" y="512"/>
                  <a:pt x="760" y="136"/>
                  <a:pt x="768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 Element in HSP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-Circuit of driver is recreated using IBI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 simulate power/ground bounce and SSN, internal Power Sources are not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alphaModFix amt="40000"/>
          </a:blip>
          <a:srcRect l="22960" t="0" r="10651" b="0"/>
          <a:stretch/>
        </p:blipFill>
        <p:spPr>
          <a:xfrm>
            <a:off x="847800" y="1900080"/>
            <a:ext cx="7373880" cy="2138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3276720"/>
            <a:ext cx="3581640" cy="380880"/>
          </a:xfrm>
          <a:prstGeom prst="rect">
            <a:avLst/>
          </a:prstGeom>
          <a:solidFill>
            <a:srgbClr val="ff33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tput from Driv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2235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79960" y="358128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n the Switching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31520" y="618660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n the Quiet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wer/Ground Bou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51807"/>
          <a:stretch/>
        </p:blipFill>
        <p:spPr>
          <a:xfrm>
            <a:off x="838080" y="1219320"/>
            <a:ext cx="777240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rcRect l="0" t="49317" r="0" b="0"/>
          <a:stretch/>
        </p:blipFill>
        <p:spPr>
          <a:xfrm>
            <a:off x="685800" y="3809880"/>
            <a:ext cx="7924680" cy="2210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421880" y="3276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8200" y="5867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4:43:44Z</dcterms:created>
  <dc:creator>Ambrish Varma</dc:creator>
  <dc:description/>
  <dc:language>en-US</dc:language>
  <cp:lastModifiedBy>Ambrish Varma</cp:lastModifiedBy>
  <dcterms:modified xsi:type="dcterms:W3CDTF">2004-06-28T19:33:37Z</dcterms:modified>
  <cp:revision>39</cp:revision>
  <dc:subject/>
  <dc:title>Simultaneous Switching Noise in IBIS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0816989</vt:r8>
  </property>
  <property fmtid="{D5CDD505-2E9C-101B-9397-08002B2CF9AE}" pid="3" name="_AuthorEmail">
    <vt:lpwstr>akvarma@ncsu.edu</vt:lpwstr>
  </property>
  <property fmtid="{D5CDD505-2E9C-101B-9397-08002B2CF9AE}" pid="4" name="_AuthorEmailDisplayName">
    <vt:lpwstr>Ambrish Varma</vt:lpwstr>
  </property>
  <property fmtid="{D5CDD505-2E9C-101B-9397-08002B2CF9AE}" pid="5" name="_EmailSubject">
    <vt:lpwstr>Updated IBIS Summit Presentation Re: hello..</vt:lpwstr>
  </property>
</Properties>
</file>