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04 Teraspeed Consulting Group LLC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E34607A4-AF0B-4442-AC81-5460A0CA7552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I-T Tables and BIRD42.3 Revisited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002040"/>
            <a:ext cx="6400800" cy="26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ob Ro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eraspeed Consulting Grou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BIS Summit Meet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sign Automation Conference 2004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an Diego, Californi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June 8, 2004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BIRD 42.3 - IBIS 2.1 Buffer Model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772400" cy="4940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85800" y="990720"/>
            <a:ext cx="7773840" cy="51973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54320" y="990720"/>
            <a:ext cx="0" cy="5197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59440" y="976320"/>
            <a:ext cx="0" cy="5197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919920" y="990720"/>
            <a:ext cx="15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Pack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61080" y="1003320"/>
            <a:ext cx="10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Fixed Clamps and C_co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990720"/>
            <a:ext cx="111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Dri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V-T Tables and Fixture Loads to get Ku(t), Kd(t) for Rise, Fall Edge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04720" y="1889280"/>
            <a:ext cx="8204400" cy="31575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043000" y="2482920"/>
            <a:ext cx="866880" cy="2012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97320" y="1646280"/>
            <a:ext cx="1981440" cy="776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54520" y="2544840"/>
            <a:ext cx="1265400" cy="1373040"/>
          </a:xfrm>
          <a:prstGeom prst="noSmoking">
            <a:avLst>
              <a:gd name="adj" fmla="val 1250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37400" y="2928960"/>
            <a:ext cx="1616040" cy="1660680"/>
          </a:xfrm>
          <a:prstGeom prst="noSmoking">
            <a:avLst>
              <a:gd name="adj" fmla="val 10412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948360" y="2454120"/>
            <a:ext cx="1738440" cy="16448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82520" y="5029200"/>
            <a:ext cx="2743200" cy="12027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Recommended Load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50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 to V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50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</a:t>
            </a: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to G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BIRD42.3 Proposal</a:t>
            </a:r>
            <a:br>
              <a:rPr sz="3600"/>
            </a:b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(V-T and I-T tables)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04720" y="1889280"/>
            <a:ext cx="8204400" cy="31575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197320" y="1646280"/>
            <a:ext cx="1981440" cy="776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54520" y="2544840"/>
            <a:ext cx="1265400" cy="1373040"/>
          </a:xfrm>
          <a:prstGeom prst="noSmoking">
            <a:avLst>
              <a:gd name="adj" fmla="val 1250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837400" y="2928960"/>
            <a:ext cx="1616040" cy="1660680"/>
          </a:xfrm>
          <a:prstGeom prst="noSmoking">
            <a:avLst>
              <a:gd name="adj" fmla="val 10412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948360" y="2454120"/>
            <a:ext cx="1738440" cy="16448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881360" y="4689000"/>
            <a:ext cx="0" cy="793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00080" y="1281240"/>
            <a:ext cx="0" cy="74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162160" y="5102280"/>
            <a:ext cx="6113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ill Sans MT"/>
              </a:rPr>
              <a:t>Ipulldown_reference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ill Sans MT"/>
              </a:rPr>
              <a:t>(0, 1, or 2 current tables allow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95560" y="1352520"/>
            <a:ext cx="33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ill Sans MT"/>
              </a:rPr>
              <a:t>Ipullup_reference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urrent Definition Problem?</a:t>
            </a:r>
            <a:br>
              <a:rPr sz="3600"/>
            </a:b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EDA Spec., Processing Ambiguity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04720" y="1889280"/>
            <a:ext cx="8204400" cy="31575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197320" y="1646280"/>
            <a:ext cx="1981440" cy="776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54520" y="2544840"/>
            <a:ext cx="1265400" cy="1373040"/>
          </a:xfrm>
          <a:prstGeom prst="noSmoking">
            <a:avLst>
              <a:gd name="adj" fmla="val 1250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37400" y="2928960"/>
            <a:ext cx="1616040" cy="1660680"/>
          </a:xfrm>
          <a:prstGeom prst="noSmoking">
            <a:avLst>
              <a:gd name="adj" fmla="val 10412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948360" y="2454120"/>
            <a:ext cx="1738440" cy="16448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881360" y="4689000"/>
            <a:ext cx="0" cy="793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00080" y="1281240"/>
            <a:ext cx="0" cy="74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62160" y="5102280"/>
            <a:ext cx="6113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ill Sans MT"/>
              </a:rPr>
              <a:t>Ipulldown_reference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ill Sans MT"/>
              </a:rPr>
              <a:t>(0, 1, or 2 current tables allow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095560" y="1352520"/>
            <a:ext cx="33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ill Sans MT"/>
              </a:rPr>
              <a:t>Ipullup_reference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255680" y="4592160"/>
            <a:ext cx="2421000" cy="3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47760" y="2138400"/>
            <a:ext cx="2425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656160" y="3357720"/>
            <a:ext cx="1440" cy="544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64080" y="4033800"/>
            <a:ext cx="2880" cy="56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21120" y="3408480"/>
            <a:ext cx="1265400" cy="1373040"/>
          </a:xfrm>
          <a:prstGeom prst="noSmoking">
            <a:avLst>
              <a:gd name="adj" fmla="val 1250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14680" y="3890880"/>
            <a:ext cx="293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17920" y="4027320"/>
            <a:ext cx="293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35320" y="3900600"/>
            <a:ext cx="293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341440" y="4033800"/>
            <a:ext cx="293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645000" y="2146320"/>
            <a:ext cx="1440" cy="544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650760" y="2824200"/>
            <a:ext cx="1800" cy="544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471760" y="2849400"/>
            <a:ext cx="1440" cy="544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478240" y="3367080"/>
            <a:ext cx="1440" cy="544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2471760" y="4054320"/>
            <a:ext cx="1440" cy="544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2471760" y="2162160"/>
            <a:ext cx="1440" cy="544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19480" y="2727360"/>
            <a:ext cx="293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24160" y="2852640"/>
            <a:ext cx="293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13240" y="2833560"/>
            <a:ext cx="293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06760" y="2712960"/>
            <a:ext cx="293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96920" y="2955960"/>
            <a:ext cx="335160" cy="772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265400" y="2139840"/>
            <a:ext cx="2880" cy="797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265400" y="3746520"/>
            <a:ext cx="792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BIRD42.3 Assumptions and Limitations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11480" indent="-411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dds V-T and I-T PAIRS for a given fixture loa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54200" indent="-34272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Under [Rising Waveform] or [Falling Waveform] table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2" marL="1131480" indent="-308520">
              <a:lnSpc>
                <a:spcPct val="90000"/>
              </a:lnSpc>
              <a:spcBef>
                <a:spcPts val="499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cc"/>
                </a:solidFill>
                <a:latin typeface="Gill Sans MT"/>
              </a:rPr>
              <a:t>Keep V-T table and its fixtures</a:t>
            </a:r>
            <a:endParaRPr b="0" lang="en-US" sz="2000" spc="-1" strike="noStrike">
              <a:solidFill>
                <a:srgbClr val="186ecc"/>
              </a:solidFill>
              <a:latin typeface="Gill Sans MT"/>
            </a:endParaRPr>
          </a:p>
          <a:p>
            <a:pPr lvl="2" marL="1131480" indent="-3085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[Pulldown Reference Current], [Pullup Reference Current]</a:t>
            </a:r>
            <a:r>
              <a:rPr b="0" lang="en-US" sz="2000" spc="-1" strike="noStrike">
                <a:solidFill>
                  <a:srgbClr val="186ecc"/>
                </a:solidFill>
                <a:latin typeface="Gill Sans MT"/>
              </a:rPr>
              <a:t> tables (None, both, or either - such as one easiest to isolate)</a:t>
            </a:r>
            <a:endParaRPr b="0" lang="en-US" sz="2000" spc="-1" strike="noStrike">
              <a:solidFill>
                <a:srgbClr val="186ecc"/>
              </a:solidFill>
              <a:latin typeface="Gill Sans MT"/>
            </a:endParaRPr>
          </a:p>
          <a:p>
            <a:pPr lvl="2" marL="1131480" indent="-308520">
              <a:lnSpc>
                <a:spcPct val="90000"/>
              </a:lnSpc>
              <a:spcBef>
                <a:spcPts val="499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cc"/>
                </a:solidFill>
                <a:latin typeface="Gill Sans MT"/>
              </a:rPr>
              <a:t>Could support Open_drain, Open_source and ECL models</a:t>
            </a:r>
            <a:endParaRPr b="0" lang="en-US" sz="2000" spc="-1" strike="noStrike">
              <a:solidFill>
                <a:srgbClr val="186ecc"/>
              </a:solidFill>
              <a:latin typeface="Gill Sans MT"/>
            </a:endParaRPr>
          </a:p>
          <a:p>
            <a:pPr marL="411480" indent="-411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urrents might need to be separated from clamps or other current paths in the mod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54200" indent="-34272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Permanent (internal terminator “clamps”)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54200" indent="-34272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Individual capacitance to each rail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54200" indent="-34272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Very complex for tools to automatically do thi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Some Format Consideration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ferenced to driver rails since clamps are optional, and clamp currents hard to isolat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xtension limitations may exis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Driver Schedule – rails not necessarily common or inherited, nor currents easily allocated to scheduled model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Submodels – same rails, but triggered internal behavior needs triggered I-T data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True differential buffer current allocation not considered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ECL Pullup Reference Current allocation/algorithm issue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EDA Tools: Several Choices for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Over-specified Cases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-501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oltage based solution op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859320" indent="-42948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Use the V-T table information first for V-T data matching via existing Ku(t), Kd(t) extraction methods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859320" indent="-42948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May not capture as accurately the rail currents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501480" indent="-501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urrent based solution op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859320" indent="-42948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Use the current information first (more direct solution of Ku(t) and Kd(t) with excess common “crowbar” currents)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859320" indent="-42948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But not match the V-T data as well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501480" indent="-501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ugmented model for voltage and current match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859320" indent="-42948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Adds Idelta(…) and Vdelta(…) variables for more matching options and strategies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2" marL="1217520" indent="-357840">
              <a:lnSpc>
                <a:spcPct val="80000"/>
              </a:lnSpc>
              <a:spcBef>
                <a:spcPts val="451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86ecc"/>
                </a:solidFill>
                <a:latin typeface="Gill Sans MT"/>
              </a:rPr>
              <a:t>(E.g., match V-T tables, then match currents with Idelta)</a:t>
            </a:r>
            <a:endParaRPr b="0" lang="en-US" sz="1800" spc="-1" strike="noStrike">
              <a:solidFill>
                <a:srgbClr val="186ecc"/>
              </a:solidFill>
              <a:latin typeface="Gill Sans MT"/>
            </a:endParaRPr>
          </a:p>
          <a:p>
            <a:pPr lvl="1" marL="859320" indent="-42948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Idelta(), Vdelta() could be a function of Iu and Id currents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859320" indent="-42948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More research needed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Augmented Model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(Ross, Feb. 26, 1998)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941480" y="1523880"/>
            <a:ext cx="5259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I-T Extraction Issue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PICE based (most practical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Still must carefully isolate rail currents and then post-process them to fit topology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Can use ideal current sense mechanism (0 V voltage sources)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Still may deal with fast current edges and spikes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Best R_fixture, V_fixture choices need to be investigated for overall accuracy (V_fixture = GND, Vcc, Vcc/2, etc.)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asurement based (many issues and may be impractical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Includes the package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Current probe bandwidth &amp; impedance vs. 50 ohm measurements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Or standard 1 ohm test load distortion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Several buffers on same power line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Unrelated currents from non-driver circuits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Package Model for Supplies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(not explicit in IBIS)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108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_pin - L_pin - C_pi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27920" indent="-28008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Implied, but puts C_pin across voltage source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27920" indent="-28008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Could be distributed model (small T-line)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_pin - C_pin – Lpi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27920" indent="-28008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C_pin to reference rail, to ideal GND or across L_pin to Vcc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27920" indent="-28008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Moves C_pin from rail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</p:txBody>
      </p:sp>
      <p:sp>
        <p:nvSpPr>
          <p:cNvPr id="134" name=""/>
          <p:cNvSpPr/>
          <p:nvPr/>
        </p:nvSpPr>
        <p:spPr>
          <a:xfrm>
            <a:off x="5775480" y="1736640"/>
            <a:ext cx="671400" cy="235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64480" y="1731960"/>
            <a:ext cx="661680" cy="235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6000" y="3290760"/>
            <a:ext cx="671400" cy="241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238880" y="3282840"/>
            <a:ext cx="671760" cy="235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91320" y="5014800"/>
            <a:ext cx="671400" cy="235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62600" y="3616200"/>
            <a:ext cx="233640" cy="588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835760" y="2093760"/>
            <a:ext cx="233640" cy="588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6442200" y="1852200"/>
            <a:ext cx="4125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527960" y="1836720"/>
            <a:ext cx="799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7940520" y="1820520"/>
            <a:ext cx="0" cy="258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77120" y="3398760"/>
            <a:ext cx="74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873840" y="3412800"/>
            <a:ext cx="0" cy="19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7908840" y="3398760"/>
            <a:ext cx="266760" cy="6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956720" y="2682360"/>
            <a:ext cx="0" cy="250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883560" y="4193640"/>
            <a:ext cx="0" cy="250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7661160" y="4888080"/>
            <a:ext cx="5040" cy="474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11920" y="5229360"/>
            <a:ext cx="671400" cy="234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97520" y="4770360"/>
            <a:ext cx="671760" cy="235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69200" y="5135400"/>
            <a:ext cx="1458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6608520" y="4884840"/>
            <a:ext cx="12600" cy="47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624720" y="4897440"/>
            <a:ext cx="172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613560" y="5349960"/>
            <a:ext cx="193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680240" y="5105160"/>
            <a:ext cx="266760" cy="6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483320" y="489276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497720" y="535464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5500800" y="1865160"/>
            <a:ext cx="266760" cy="6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516640" y="3416040"/>
            <a:ext cx="266760" cy="6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5535720" y="5119560"/>
            <a:ext cx="266760" cy="6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Some IBIS Summit Presentations Regarding Power Rails for SSN and I-T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e IBIS home page Articles, summits on the eda.org IBIS summits sit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aymond Chen, Sigrity: Feb. 2004 (add Cdie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ernhard Unger, Siemens: Jan. 2000  (adds Cpre and adjustment for rail collapse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mbrish Varma, NCSU: June 2004 (simultaneous switching noise and rail collapse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orio Matsui, Applied Simulation Technology: Jan. 2001 (LSI power and ground model for EMI simulation with internal clock and paths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tienne Sicard, INSA: Sept. 2001, Sebastien Calvet INSA Jan. 2002 (chip core I-T model for EMI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3280" indent="-262800">
              <a:lnSpc>
                <a:spcPct val="80000"/>
              </a:lnSpc>
              <a:spcBef>
                <a:spcPts val="45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16"/>
                </a:solidFill>
                <a:latin typeface="Gill Sans MT"/>
              </a:rPr>
              <a:t>I-T source for supplies derived from statistical switching model simulations (with AMS or SPICE or simplified SPICE)</a:t>
            </a:r>
            <a:endParaRPr b="0" lang="en-US" sz="1800" spc="-1" strike="noStrike">
              <a:solidFill>
                <a:srgbClr val="720016"/>
              </a:solidFill>
              <a:latin typeface="Gill Sans MT"/>
            </a:endParaRPr>
          </a:p>
          <a:p>
            <a:pPr lvl="1" marL="683280" indent="-262800">
              <a:lnSpc>
                <a:spcPct val="80000"/>
              </a:lnSpc>
              <a:spcBef>
                <a:spcPts val="45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16"/>
                </a:solidFill>
                <a:latin typeface="Gill Sans MT"/>
              </a:rPr>
              <a:t>Part of ICEM model and IC-Emit freeware (Feb. 20, 2004)</a:t>
            </a:r>
            <a:endParaRPr b="0" lang="en-US" sz="1800" spc="-1" strike="noStrike">
              <a:solidFill>
                <a:srgbClr val="720016"/>
              </a:solidFill>
              <a:latin typeface="Gill Sans MT"/>
            </a:endParaRPr>
          </a:p>
          <a:p>
            <a:pPr lvl="1" marL="683280" indent="-262800">
              <a:lnSpc>
                <a:spcPct val="80000"/>
              </a:lnSpc>
              <a:spcBef>
                <a:spcPts val="45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16"/>
                </a:solidFill>
                <a:latin typeface="Gill Sans MT"/>
              </a:rPr>
              <a:t>Can be modeling using multi-lingual extensions</a:t>
            </a:r>
            <a:endParaRPr b="0" lang="en-US" sz="1800" spc="-1" strike="noStrike">
              <a:solidFill>
                <a:srgbClr val="720016"/>
              </a:solidFill>
              <a:latin typeface="Gill Sans MT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. Kumar, Cadence: Jan., Feb. 1998, Bob Ross Feb. 1998: (I-T tables in buffers and BIRD42.3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Summary and Observation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IRD42.3 explain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Issues and compromises to fit in IBIS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EDA simulation options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ther approaches give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SSN model extensions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Core I-T models for ICEM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at is the problem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Simultaneous switching noise of selected buffers?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Board power distribution issues and internal core noise?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o I-T tables help solve the problem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I-T IBIS buffer extension or other proposals?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Multi-lingual extensions?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EDA tool support?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Adding Cdie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(Chen, February 2, 2004)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65320" y="1523880"/>
            <a:ext cx="6813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hen, Continued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46320" y="1523880"/>
            <a:ext cx="6651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Rail Collapse Adjustment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(Unger, January 31, 2000)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77960" y="1523880"/>
            <a:ext cx="75866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Unger, Continued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33320" y="1523880"/>
            <a:ext cx="7677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Unger, Continued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54200" y="1523880"/>
            <a:ext cx="7635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Core Emission I-T Model for EMI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(Calvet, Jan. 28, 2002)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5800" y="1604880"/>
            <a:ext cx="777240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Core Model I-T Emission Models as Multi-Lingual SPICE Extension of IBIS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0440" y="1255680"/>
            <a:ext cx="4863960" cy="4969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800" y="1759320"/>
            <a:ext cx="18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902040" y="1335240"/>
            <a:ext cx="6765840" cy="36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0T13:19:28Z</dcterms:created>
  <dc:creator>Bob Ross</dc:creator>
  <dc:description/>
  <dc:language>en-US</dc:language>
  <cp:lastModifiedBy>Bob Ross</cp:lastModifiedBy>
  <dcterms:modified xsi:type="dcterms:W3CDTF">2004-06-01T21:29:06Z</dcterms:modified>
  <cp:revision>368</cp:revision>
  <dc:subject/>
  <dc:title>IBIS</dc:title>
</cp:coreProperties>
</file>