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7F9D-B26B-4A7C-A074-086464E1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A27A-6419-4543-BE66-642E0B12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E8D-FCF8-4216-89F0-D0BA53BE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E5BD-9770-4D5D-9197-91C04409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9948-BAFB-4E6F-888C-CBAC2673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9BE4-21A0-46BA-81AF-A166E343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F9B2-FD4F-4DE0-B348-71305EC5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39C7-4FE8-43EC-A94C-8B5B6359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7E8B-F2B8-43F6-89E3-FAEA645A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A698-50D1-43DD-98AA-236328D6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24E4-57BA-4963-A623-96F1D475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1A63-D743-4845-AFD3-C9D73B0C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51D8-0327-4E95-8F51-20317757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0E28-31FB-45BB-AC00-4721D351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1EA6-55F9-4954-9458-23141D72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BAD8-C930-4B93-9B1C-83CAD2FE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76D5-916C-4379-BC99-5D93934F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C7E4-98DA-4908-8696-68EFD5D9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FFE-A1EF-4570-8C8E-23E130D2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C6B-F796-4494-8BEE-6C737EA2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383-E885-4D21-89A6-1B00B85D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0222-08C9-4A13-A8AB-854D947C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C16A-6064-4766-A2E7-361EA41C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9C0-503E-40CA-8E69-BCEB4145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1D37-75B4-4E10-A05C-4AC63D125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1040" y="6446880"/>
            <a:ext cx="105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mbrish Var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382240" y="6400800"/>
            <a:ext cx="79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C849-90BD-4D83-B947-E54634C9181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2209680" cy="3348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304920"/>
            <a:ext cx="0" cy="6095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304920"/>
            <a:ext cx="800100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4844-4623-427B-A264-6EBF4EC0E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1040" y="6446880"/>
            <a:ext cx="105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mbrish Var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2240" y="6400800"/>
            <a:ext cx="79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B95D-90EC-45FC-9A26-B9D3879B479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04920"/>
            <a:ext cx="0" cy="6095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04920"/>
            <a:ext cx="80010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971800" y="4172040"/>
            <a:ext cx="313704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kvarma@ncsu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ultaneous Switching Noise in IBIS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49528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rish Var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kvarma@ncsu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. Paul Franzon, Prof. Michael Ste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2895480"/>
            <a:ext cx="6400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BIS SU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sign and Automation Conference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June 8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pline Functions and Finite Difference Approximation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2209320"/>
            <a:ext cx="76201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LACK BOX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wledge of Internal circuitry not necessa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utput load independen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atic Characteristic Modeling + Dynamic Characteristics (by capturing the previous time instances)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080" y="5977080"/>
            <a:ext cx="859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cro-Modeling of Non-Linear I/O drivers using Spline Functions and Finite Time Difference Approximation, B Mutnur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im Liibous and Madhavan Swaminathan, EPEP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pline Functions (cont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on-Linear relation is drawn between driver O/P current and voltage.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i="1" lang="en-US" sz="18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i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re submodels relating O/P currents and voltages when driver is set high(f1) and low(f2) and have both static and dynamic information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tatic values can be obtained using DC sweep and using n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order cubic spline.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572000" y="1752480"/>
                <a:ext cx="43434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648320" y="3048120"/>
                <a:ext cx="37573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581280" y="5486400"/>
                <a:ext cx="28987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6629400" y="5181480"/>
            <a:ext cx="2285640" cy="1067040"/>
            <a:chOff x="6629400" y="5181480"/>
            <a:chExt cx="2285640" cy="1067040"/>
          </a:xfrm>
        </p:grpSpPr>
        <p:sp>
          <p:nvSpPr>
            <p:cNvPr id="219" name=""/>
            <p:cNvSpPr/>
            <p:nvPr/>
          </p:nvSpPr>
          <p:spPr>
            <a:xfrm>
              <a:off x="6752880" y="5317200"/>
              <a:ext cx="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29400" y="5632920"/>
              <a:ext cx="22644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52880" y="5914080"/>
              <a:ext cx="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52880" y="5317200"/>
              <a:ext cx="68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52880" y="6248520"/>
              <a:ext cx="204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440120" y="5183280"/>
              <a:ext cx="113040" cy="1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46680" y="5181480"/>
              <a:ext cx="114480" cy="13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661520" y="5196600"/>
              <a:ext cx="113040" cy="1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774920" y="5196600"/>
              <a:ext cx="113040" cy="1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888320" y="5196600"/>
              <a:ext cx="113040" cy="1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01720" y="5196600"/>
              <a:ext cx="113040" cy="1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114760" y="5333040"/>
              <a:ext cx="68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795520" y="5333040"/>
              <a:ext cx="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682120" y="567612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688600" y="581544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795520" y="5816520"/>
              <a:ext cx="0" cy="42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95920" y="5659560"/>
              <a:ext cx="31608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36680" y="5393520"/>
              <a:ext cx="5061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 =1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13720" y="5659560"/>
              <a:ext cx="2530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4879080" y="4038480"/>
            <a:ext cx="3568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k) =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k)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m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m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k) +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pline Functions (cont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Dynamic values can be obtained by including the previous time instances of the driver output current.</a:t>
            </a:r>
            <a:endParaRPr b="1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and W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are used for transitioning from 1 logic state to the other. They are obtained by estimating submodels (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i="1" lang="en-US" sz="16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i="1" lang="en-US" sz="16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) for 2 loads and by linearly inverting</a:t>
            </a:r>
            <a:endParaRPr b="1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and are represented as PWL    voltage source. </a:t>
            </a:r>
            <a:endParaRPr b="1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581280" y="2465280"/>
                <a:ext cx="27180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42" name=""/>
          <p:cNvGrpSpPr/>
          <p:nvPr/>
        </p:nvGrpSpPr>
        <p:grpSpPr>
          <a:xfrm>
            <a:off x="6400800" y="2209680"/>
            <a:ext cx="2285640" cy="1067040"/>
            <a:chOff x="6400800" y="2209680"/>
            <a:chExt cx="2285640" cy="1067040"/>
          </a:xfrm>
        </p:grpSpPr>
        <p:sp>
          <p:nvSpPr>
            <p:cNvPr id="243" name=""/>
            <p:cNvSpPr/>
            <p:nvPr/>
          </p:nvSpPr>
          <p:spPr>
            <a:xfrm>
              <a:off x="6524280" y="2345400"/>
              <a:ext cx="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00800" y="2661120"/>
              <a:ext cx="22644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24280" y="2942280"/>
              <a:ext cx="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24280" y="2345400"/>
              <a:ext cx="68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24280" y="3276720"/>
              <a:ext cx="204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11520" y="2211480"/>
              <a:ext cx="113040" cy="1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18080" y="2209680"/>
              <a:ext cx="114480" cy="13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7432920" y="2224800"/>
              <a:ext cx="113040" cy="1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6320" y="2224800"/>
              <a:ext cx="113040" cy="1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659720" y="2224800"/>
              <a:ext cx="113040" cy="1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773120" y="2224800"/>
              <a:ext cx="113040" cy="1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886160" y="2361240"/>
              <a:ext cx="68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566920" y="2361240"/>
              <a:ext cx="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53520" y="270432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60000" y="284364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566920" y="2844720"/>
              <a:ext cx="0" cy="42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67320" y="2687760"/>
              <a:ext cx="31608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08080" y="2421720"/>
              <a:ext cx="5061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 =1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85120" y="2687760"/>
              <a:ext cx="2530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648320" y="3962520"/>
            <a:ext cx="4198680" cy="1193760"/>
            <a:chOff x="4648320" y="3962520"/>
            <a:chExt cx="4198680" cy="1193760"/>
          </a:xfrm>
        </p:grpSpPr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4648320" y="4114800"/>
                  <a:ext cx="698400" cy="103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64" name=""/>
            <p:cNvSpPr/>
            <p:nvPr/>
          </p:nvSpPr>
          <p:spPr>
            <a:xfrm>
              <a:off x="5457600" y="42674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6127560" y="4084920"/>
                  <a:ext cx="644760" cy="101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a</m:t>
                              </m:r>
                            </m:sub>
                          </m:sSub>
                        </m:e>
                        <m:e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b</m:t>
                              </m:r>
                            </m:sub>
                          </m:sSub>
                        </m:e>
                      </m:eqArr>
                      <m:r>
                        <m:t xml:space="preserve">[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7164360" y="4008600"/>
                  <a:ext cx="725400" cy="11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a</m:t>
                              </m:r>
                            </m:sub>
                          </m:sSub>
                        </m:e>
                        <m:e>
                          <m:r>
                            <m:t xml:space="preserve">]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b</m:t>
                              </m:r>
                            </m:sub>
                          </m:sSub>
                        </m:e>
                        <m:e/>
                      </m:eqAr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8231040" y="4084920"/>
                  <a:ext cx="615960" cy="101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68" name=""/>
            <p:cNvSpPr/>
            <p:nvPr/>
          </p:nvSpPr>
          <p:spPr>
            <a:xfrm>
              <a:off x="7657920" y="39625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33520" y="5105520"/>
                <a:ext cx="43434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tatic Modeling Using Spline</a:t>
            </a:r>
            <a:br>
              <a:rPr sz="36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river Output Current Vs Tim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507852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2057400" y="3047760"/>
            <a:ext cx="1905120" cy="1676520"/>
            <a:chOff x="2057400" y="3047760"/>
            <a:chExt cx="1905120" cy="1676520"/>
          </a:xfrm>
        </p:grpSpPr>
        <p:pic>
          <p:nvPicPr>
            <p:cNvPr id="273" name="" descr=""/>
            <p:cNvPicPr/>
            <p:nvPr/>
          </p:nvPicPr>
          <p:blipFill>
            <a:blip r:embed="rId2"/>
            <a:srcRect l="29724" t="35720" r="26535" b="26956"/>
            <a:stretch/>
          </p:blipFill>
          <p:spPr>
            <a:xfrm>
              <a:off x="2057400" y="3657600"/>
              <a:ext cx="1905120" cy="1066680"/>
            </a:xfrm>
            <a:prstGeom prst="rect">
              <a:avLst/>
            </a:prstGeom>
            <a:ln w="9360">
              <a:solidFill>
                <a:srgbClr val="ff6600"/>
              </a:solidFill>
              <a:miter/>
            </a:ln>
          </p:spPr>
        </p:pic>
        <p:sp>
          <p:nvSpPr>
            <p:cNvPr id="274" name=""/>
            <p:cNvSpPr/>
            <p:nvPr/>
          </p:nvSpPr>
          <p:spPr>
            <a:xfrm flipV="1">
              <a:off x="2057400" y="3047760"/>
              <a:ext cx="1523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3809880" y="3200400"/>
              <a:ext cx="15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29000" y="3048120"/>
              <a:ext cx="38088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735000" y="609588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07840" y="6400800"/>
            <a:ext cx="22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ing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der Cubic Spl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apturing Dynamic Behavio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620120" cy="499932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2362320" y="3017520"/>
            <a:ext cx="1679400" cy="2127600"/>
            <a:chOff x="2362320" y="3017520"/>
            <a:chExt cx="1679400" cy="2127600"/>
          </a:xfrm>
        </p:grpSpPr>
        <p:pic>
          <p:nvPicPr>
            <p:cNvPr id="282" name="" descr=""/>
            <p:cNvPicPr/>
            <p:nvPr/>
          </p:nvPicPr>
          <p:blipFill>
            <a:blip r:embed="rId2"/>
            <a:srcRect l="44538" t="48867" r="38255" b="27434"/>
            <a:stretch/>
          </p:blipFill>
          <p:spPr>
            <a:xfrm>
              <a:off x="2362320" y="3627360"/>
              <a:ext cx="1679400" cy="151776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283" name=""/>
            <p:cNvSpPr/>
            <p:nvPr/>
          </p:nvSpPr>
          <p:spPr>
            <a:xfrm flipV="1">
              <a:off x="2362320" y="301752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3885840" y="317016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05320" y="3017880"/>
              <a:ext cx="38088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2671560" y="5994360"/>
            <a:ext cx="45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ne Function with Finite Time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501000" y="6337440"/>
            <a:ext cx="23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ing 1 previous time in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pline Modeling</a:t>
            </a:r>
            <a:br>
              <a:rPr sz="36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ice Netlis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pice Macromodel generated using VCVSs (E elements) and CCCs (F elements).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Characteristics can be represented using VC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Characteristics represented using state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Linear relation between driver o/p current and voltage is now a subcirc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905120" y="3352680"/>
                <a:ext cx="43434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2666880" y="4572000"/>
            <a:ext cx="2819520" cy="1371600"/>
          </a:xfrm>
          <a:prstGeom prst="rect">
            <a:avLst/>
          </a:prstGeom>
          <a:solidFill>
            <a:srgbClr val="cc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subckt driver1 out1 g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ends (driver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aring SPICE, IBIS &amp; SPLI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pline method is complex and no IBIS like automation exists.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models resulting from IBIS, and SPLINE are compared with SPICE simulation of the transistor model.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aring SPICE, IBIS &amp; SPLINE</a:t>
            </a:r>
            <a:br>
              <a:rPr sz="36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round Bounc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rcRect l="13483" t="7927" r="0" b="45556"/>
          <a:stretch/>
        </p:blipFill>
        <p:spPr>
          <a:xfrm>
            <a:off x="609480" y="1828800"/>
            <a:ext cx="8077320" cy="4267080"/>
          </a:xfrm>
          <a:prstGeom prst="rect">
            <a:avLst/>
          </a:prstGeom>
          <a:ln w="0">
            <a:noFill/>
          </a:ln>
        </p:spPr>
      </p:pic>
      <p:grpSp>
        <p:nvGrpSpPr>
          <p:cNvPr id="296" name=""/>
          <p:cNvGrpSpPr/>
          <p:nvPr/>
        </p:nvGrpSpPr>
        <p:grpSpPr>
          <a:xfrm>
            <a:off x="3581280" y="4495680"/>
            <a:ext cx="2819520" cy="990720"/>
            <a:chOff x="3581280" y="4495680"/>
            <a:chExt cx="2819520" cy="990720"/>
          </a:xfrm>
        </p:grpSpPr>
        <p:sp>
          <p:nvSpPr>
            <p:cNvPr id="297" name=""/>
            <p:cNvSpPr/>
            <p:nvPr/>
          </p:nvSpPr>
          <p:spPr>
            <a:xfrm>
              <a:off x="3581280" y="4495680"/>
              <a:ext cx="28195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09880" y="4724280"/>
              <a:ext cx="914400" cy="0"/>
            </a:xfrm>
            <a:prstGeom prst="line">
              <a:avLst/>
            </a:prstGeom>
            <a:ln w="316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4991040"/>
              <a:ext cx="9144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9880" y="5257800"/>
              <a:ext cx="914400" cy="0"/>
            </a:xfrm>
            <a:prstGeom prst="line">
              <a:avLst/>
            </a:prstGeom>
            <a:ln w="316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06240" y="4572000"/>
              <a:ext cx="62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Sp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06240" y="4838760"/>
              <a:ext cx="5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IB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06960" y="510516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SP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aring SPICE, IBIS &amp; SPLINE</a:t>
            </a:r>
            <a:br>
              <a:rPr sz="40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utput Comparis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rcRect l="13586" t="53878" r="0" b="0"/>
          <a:stretch/>
        </p:blipFill>
        <p:spPr>
          <a:xfrm>
            <a:off x="1224000" y="1646280"/>
            <a:ext cx="74628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3581280" y="4495680"/>
            <a:ext cx="2819520" cy="990720"/>
            <a:chOff x="3581280" y="4495680"/>
            <a:chExt cx="2819520" cy="990720"/>
          </a:xfrm>
        </p:grpSpPr>
        <p:sp>
          <p:nvSpPr>
            <p:cNvPr id="307" name=""/>
            <p:cNvSpPr/>
            <p:nvPr/>
          </p:nvSpPr>
          <p:spPr>
            <a:xfrm>
              <a:off x="3581280" y="4495680"/>
              <a:ext cx="28195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09880" y="4724280"/>
              <a:ext cx="914400" cy="0"/>
            </a:xfrm>
            <a:prstGeom prst="line">
              <a:avLst/>
            </a:prstGeom>
            <a:ln w="316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09880" y="4991040"/>
              <a:ext cx="9144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09880" y="5257800"/>
              <a:ext cx="914400" cy="0"/>
            </a:xfrm>
            <a:prstGeom prst="line">
              <a:avLst/>
            </a:prstGeom>
            <a:ln w="316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06240" y="4572000"/>
              <a:ext cx="62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Sp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06240" y="4838760"/>
              <a:ext cx="5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IB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06960" y="510516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SP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aring SPICE, IBIS &amp; SPLI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867280" cy="11415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214720" y="3429000"/>
            <a:ext cx="47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and Spline method compared with Sp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of the Transistor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ackground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IS V Spice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C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IS V Spice V Spline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ne Functions and Finite Time Difference approx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uture Work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aring SPICE, IBIS &amp; SPLINE</a:t>
            </a:r>
            <a:br>
              <a:rPr sz="36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03848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LINE Pros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ccurate than I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general than I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ema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1523880"/>
            <a:ext cx="4038480" cy="4525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LINE 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uto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ally 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to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s it worth having a 50% improvement in SSN simulation accuracy?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is speed valued when IBIS is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an SPLINE models be generated using measurements? 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uture Work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 combination of Spline method and IBIS is under study.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e integrated solution would includ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curacy and the mathematical background of the spline methodology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utomation and the simplicity of IB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cknowledg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of. M. Swaminathan and B. Mutnury, Georgia Instt. of Technology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for sharing code to model using Spline functions and Finite Time Difference Approximation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2ibis1 and s2ibis2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SN issues.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T table and other proposed solutions.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aring SPICE and IBI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3572" t="35586" r="7145" b="28838"/>
          <a:stretch/>
        </p:blipFill>
        <p:spPr>
          <a:xfrm>
            <a:off x="1752480" y="1523880"/>
            <a:ext cx="4038840" cy="1197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47920" y="2743200"/>
            <a:ext cx="5029200" cy="2552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784920" y="2666880"/>
            <a:ext cx="195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ed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Inve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aring SPICE and IBIS.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05520" y="1981080"/>
            <a:ext cx="4038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ach driver connected to a lossless 25 ohms T Line.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5 ohm terminations used.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 drivers given simultaneously switching inputs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ff33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driver kept quiet.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wer/Ground supplied through pin parasitics.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09480" y="1905120"/>
            <a:ext cx="4197600" cy="3248640"/>
            <a:chOff x="609480" y="1905120"/>
            <a:chExt cx="4197600" cy="3248640"/>
          </a:xfrm>
        </p:grpSpPr>
        <p:grpSp>
          <p:nvGrpSpPr>
            <p:cNvPr id="106" name=""/>
            <p:cNvGrpSpPr/>
            <p:nvPr/>
          </p:nvGrpSpPr>
          <p:grpSpPr>
            <a:xfrm>
              <a:off x="609480" y="1905120"/>
              <a:ext cx="4197600" cy="3248640"/>
              <a:chOff x="609480" y="1905120"/>
              <a:chExt cx="4197600" cy="324864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609480" y="3111480"/>
                <a:ext cx="1600200" cy="703080"/>
                <a:chOff x="609480" y="3111480"/>
                <a:chExt cx="1600200" cy="7030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09480" y="3111480"/>
                  <a:ext cx="990360" cy="127080"/>
                </a:xfrm>
                <a:custGeom>
                  <a:avLst/>
                  <a:gdLst/>
                  <a:ahLst/>
                  <a:rect l="l" t="t" r="r" b="b"/>
                  <a:pathLst>
                    <a:path w="624" h="128">
                      <a:moveTo>
                        <a:pt x="0" y="112"/>
                      </a:moveTo>
                      <a:cubicBezTo>
                        <a:pt x="40" y="120"/>
                        <a:pt x="80" y="128"/>
                        <a:pt x="96" y="112"/>
                      </a:cubicBezTo>
                      <a:cubicBezTo>
                        <a:pt x="112" y="96"/>
                        <a:pt x="80" y="32"/>
                        <a:pt x="96" y="16"/>
                      </a:cubicBezTo>
                      <a:cubicBezTo>
                        <a:pt x="112" y="0"/>
                        <a:pt x="176" y="0"/>
                        <a:pt x="192" y="16"/>
                      </a:cubicBezTo>
                      <a:cubicBezTo>
                        <a:pt x="208" y="32"/>
                        <a:pt x="176" y="96"/>
                        <a:pt x="192" y="112"/>
                      </a:cubicBezTo>
                      <a:cubicBezTo>
                        <a:pt x="208" y="128"/>
                        <a:pt x="272" y="128"/>
                        <a:pt x="288" y="112"/>
                      </a:cubicBezTo>
                      <a:cubicBezTo>
                        <a:pt x="304" y="96"/>
                        <a:pt x="272" y="32"/>
                        <a:pt x="288" y="16"/>
                      </a:cubicBezTo>
                      <a:cubicBezTo>
                        <a:pt x="304" y="0"/>
                        <a:pt x="368" y="0"/>
                        <a:pt x="384" y="16"/>
                      </a:cubicBezTo>
                      <a:cubicBezTo>
                        <a:pt x="400" y="32"/>
                        <a:pt x="368" y="96"/>
                        <a:pt x="384" y="112"/>
                      </a:cubicBezTo>
                      <a:cubicBezTo>
                        <a:pt x="400" y="128"/>
                        <a:pt x="464" y="128"/>
                        <a:pt x="480" y="112"/>
                      </a:cubicBezTo>
                      <a:cubicBezTo>
                        <a:pt x="496" y="96"/>
                        <a:pt x="464" y="32"/>
                        <a:pt x="480" y="16"/>
                      </a:cubicBezTo>
                      <a:cubicBezTo>
                        <a:pt x="496" y="0"/>
                        <a:pt x="560" y="0"/>
                        <a:pt x="576" y="16"/>
                      </a:cubicBezTo>
                      <a:cubicBezTo>
                        <a:pt x="592" y="32"/>
                        <a:pt x="568" y="96"/>
                        <a:pt x="576" y="112"/>
                      </a:cubicBezTo>
                      <a:cubicBezTo>
                        <a:pt x="584" y="128"/>
                        <a:pt x="604" y="120"/>
                        <a:pt x="624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09480" y="3249720"/>
                  <a:ext cx="990360" cy="127080"/>
                </a:xfrm>
                <a:custGeom>
                  <a:avLst/>
                  <a:gdLst/>
                  <a:ahLst/>
                  <a:rect l="l" t="t" r="r" b="b"/>
                  <a:pathLst>
                    <a:path w="624" h="128">
                      <a:moveTo>
                        <a:pt x="0" y="112"/>
                      </a:moveTo>
                      <a:cubicBezTo>
                        <a:pt x="40" y="120"/>
                        <a:pt x="80" y="128"/>
                        <a:pt x="96" y="112"/>
                      </a:cubicBezTo>
                      <a:cubicBezTo>
                        <a:pt x="112" y="96"/>
                        <a:pt x="80" y="32"/>
                        <a:pt x="96" y="16"/>
                      </a:cubicBezTo>
                      <a:cubicBezTo>
                        <a:pt x="112" y="0"/>
                        <a:pt x="176" y="0"/>
                        <a:pt x="192" y="16"/>
                      </a:cubicBezTo>
                      <a:cubicBezTo>
                        <a:pt x="208" y="32"/>
                        <a:pt x="176" y="96"/>
                        <a:pt x="192" y="112"/>
                      </a:cubicBezTo>
                      <a:cubicBezTo>
                        <a:pt x="208" y="128"/>
                        <a:pt x="272" y="128"/>
                        <a:pt x="288" y="112"/>
                      </a:cubicBezTo>
                      <a:cubicBezTo>
                        <a:pt x="304" y="96"/>
                        <a:pt x="272" y="32"/>
                        <a:pt x="288" y="16"/>
                      </a:cubicBezTo>
                      <a:cubicBezTo>
                        <a:pt x="304" y="0"/>
                        <a:pt x="368" y="0"/>
                        <a:pt x="384" y="16"/>
                      </a:cubicBezTo>
                      <a:cubicBezTo>
                        <a:pt x="400" y="32"/>
                        <a:pt x="368" y="96"/>
                        <a:pt x="384" y="112"/>
                      </a:cubicBezTo>
                      <a:cubicBezTo>
                        <a:pt x="400" y="128"/>
                        <a:pt x="464" y="128"/>
                        <a:pt x="480" y="112"/>
                      </a:cubicBezTo>
                      <a:cubicBezTo>
                        <a:pt x="496" y="96"/>
                        <a:pt x="464" y="32"/>
                        <a:pt x="480" y="16"/>
                      </a:cubicBezTo>
                      <a:cubicBezTo>
                        <a:pt x="496" y="0"/>
                        <a:pt x="560" y="0"/>
                        <a:pt x="576" y="16"/>
                      </a:cubicBezTo>
                      <a:cubicBezTo>
                        <a:pt x="592" y="32"/>
                        <a:pt x="568" y="96"/>
                        <a:pt x="576" y="112"/>
                      </a:cubicBezTo>
                      <a:cubicBezTo>
                        <a:pt x="584" y="128"/>
                        <a:pt x="604" y="120"/>
                        <a:pt x="624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09480" y="3416400"/>
                  <a:ext cx="990360" cy="127080"/>
                </a:xfrm>
                <a:custGeom>
                  <a:avLst/>
                  <a:gdLst/>
                  <a:ahLst/>
                  <a:rect l="l" t="t" r="r" b="b"/>
                  <a:pathLst>
                    <a:path w="624" h="128">
                      <a:moveTo>
                        <a:pt x="0" y="112"/>
                      </a:moveTo>
                      <a:cubicBezTo>
                        <a:pt x="40" y="120"/>
                        <a:pt x="80" y="128"/>
                        <a:pt x="96" y="112"/>
                      </a:cubicBezTo>
                      <a:cubicBezTo>
                        <a:pt x="112" y="96"/>
                        <a:pt x="80" y="32"/>
                        <a:pt x="96" y="16"/>
                      </a:cubicBezTo>
                      <a:cubicBezTo>
                        <a:pt x="112" y="0"/>
                        <a:pt x="176" y="0"/>
                        <a:pt x="192" y="16"/>
                      </a:cubicBezTo>
                      <a:cubicBezTo>
                        <a:pt x="208" y="32"/>
                        <a:pt x="176" y="96"/>
                        <a:pt x="192" y="112"/>
                      </a:cubicBezTo>
                      <a:cubicBezTo>
                        <a:pt x="208" y="128"/>
                        <a:pt x="272" y="128"/>
                        <a:pt x="288" y="112"/>
                      </a:cubicBezTo>
                      <a:cubicBezTo>
                        <a:pt x="304" y="96"/>
                        <a:pt x="272" y="32"/>
                        <a:pt x="288" y="16"/>
                      </a:cubicBezTo>
                      <a:cubicBezTo>
                        <a:pt x="304" y="0"/>
                        <a:pt x="368" y="0"/>
                        <a:pt x="384" y="16"/>
                      </a:cubicBezTo>
                      <a:cubicBezTo>
                        <a:pt x="400" y="32"/>
                        <a:pt x="368" y="96"/>
                        <a:pt x="384" y="112"/>
                      </a:cubicBezTo>
                      <a:cubicBezTo>
                        <a:pt x="400" y="128"/>
                        <a:pt x="464" y="128"/>
                        <a:pt x="480" y="112"/>
                      </a:cubicBezTo>
                      <a:cubicBezTo>
                        <a:pt x="496" y="96"/>
                        <a:pt x="464" y="32"/>
                        <a:pt x="480" y="16"/>
                      </a:cubicBezTo>
                      <a:cubicBezTo>
                        <a:pt x="496" y="0"/>
                        <a:pt x="560" y="0"/>
                        <a:pt x="576" y="16"/>
                      </a:cubicBezTo>
                      <a:cubicBezTo>
                        <a:pt x="592" y="32"/>
                        <a:pt x="568" y="96"/>
                        <a:pt x="576" y="112"/>
                      </a:cubicBezTo>
                      <a:cubicBezTo>
                        <a:pt x="584" y="128"/>
                        <a:pt x="604" y="120"/>
                        <a:pt x="624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09480" y="375768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599840" y="35290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599840" y="33624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599840" y="3224160"/>
                  <a:ext cx="609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61760" y="3598920"/>
                  <a:ext cx="762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Quiet Lin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666880" y="2995560"/>
                <a:ext cx="1066680" cy="1218960"/>
                <a:chOff x="2666880" y="2995560"/>
                <a:chExt cx="1066680" cy="12189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666880" y="33004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047760" y="3224160"/>
                  <a:ext cx="380880" cy="88920"/>
                </a:xfrm>
                <a:custGeom>
                  <a:avLst/>
                  <a:gdLst/>
                  <a:ahLst/>
                  <a:rect l="l" t="t" r="r" b="b"/>
                  <a:pathLst>
                    <a:path w="336" h="112">
                      <a:moveTo>
                        <a:pt x="0" y="104"/>
                      </a:moveTo>
                      <a:cubicBezTo>
                        <a:pt x="16" y="56"/>
                        <a:pt x="32" y="8"/>
                        <a:pt x="48" y="8"/>
                      </a:cubicBezTo>
                      <a:cubicBezTo>
                        <a:pt x="64" y="8"/>
                        <a:pt x="88" y="96"/>
                        <a:pt x="96" y="104"/>
                      </a:cubicBezTo>
                      <a:cubicBezTo>
                        <a:pt x="104" y="112"/>
                        <a:pt x="88" y="72"/>
                        <a:pt x="96" y="56"/>
                      </a:cubicBezTo>
                      <a:cubicBezTo>
                        <a:pt x="104" y="40"/>
                        <a:pt x="128" y="0"/>
                        <a:pt x="144" y="8"/>
                      </a:cubicBezTo>
                      <a:cubicBezTo>
                        <a:pt x="160" y="16"/>
                        <a:pt x="184" y="96"/>
                        <a:pt x="192" y="104"/>
                      </a:cubicBezTo>
                      <a:cubicBezTo>
                        <a:pt x="200" y="112"/>
                        <a:pt x="184" y="72"/>
                        <a:pt x="192" y="56"/>
                      </a:cubicBezTo>
                      <a:cubicBezTo>
                        <a:pt x="200" y="40"/>
                        <a:pt x="224" y="0"/>
                        <a:pt x="240" y="8"/>
                      </a:cubicBezTo>
                      <a:cubicBezTo>
                        <a:pt x="256" y="16"/>
                        <a:pt x="272" y="96"/>
                        <a:pt x="288" y="104"/>
                      </a:cubicBezTo>
                      <a:cubicBezTo>
                        <a:pt x="304" y="112"/>
                        <a:pt x="320" y="84"/>
                        <a:pt x="336" y="5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"/>
                <p:cNvGrpSpPr/>
                <p:nvPr/>
              </p:nvGrpSpPr>
              <p:grpSpPr>
                <a:xfrm>
                  <a:off x="2895480" y="3300480"/>
                  <a:ext cx="152280" cy="609120"/>
                  <a:chOff x="2895480" y="3300480"/>
                  <a:chExt cx="152280" cy="60912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2971440" y="3300480"/>
                    <a:ext cx="0" cy="253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2895480" y="35542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2895480" y="360504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2975760" y="360504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3428640" y="3281400"/>
                  <a:ext cx="152640" cy="628560"/>
                  <a:chOff x="3428640" y="3281400"/>
                  <a:chExt cx="152640" cy="6285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3504600" y="3281400"/>
                    <a:ext cx="0" cy="26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3428640" y="354312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3428640" y="359568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3508920" y="3595680"/>
                    <a:ext cx="0" cy="31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"/>
                <p:cNvSpPr/>
                <p:nvPr/>
              </p:nvSpPr>
              <p:spPr>
                <a:xfrm>
                  <a:off x="2971440" y="390996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0800000">
                  <a:off x="2895120" y="4062240"/>
                  <a:ext cx="152280" cy="15228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504960" y="390996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0800000">
                  <a:off x="3428640" y="4062240"/>
                  <a:ext cx="152640" cy="15228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819160" y="2995560"/>
                  <a:ext cx="91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kg Parasitic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1871640" y="1905120"/>
                <a:ext cx="1557360" cy="1309680"/>
                <a:chOff x="1871640" y="1905120"/>
                <a:chExt cx="1557360" cy="1309680"/>
              </a:xfrm>
            </p:grpSpPr>
            <p:sp>
              <p:nvSpPr>
                <p:cNvPr id="135" name=""/>
                <p:cNvSpPr/>
                <p:nvPr/>
              </p:nvSpPr>
              <p:spPr>
                <a:xfrm rot="5400000">
                  <a:off x="2292120" y="2593800"/>
                  <a:ext cx="380880" cy="88920"/>
                </a:xfrm>
                <a:custGeom>
                  <a:avLst/>
                  <a:gdLst/>
                  <a:ahLst/>
                  <a:rect l="l" t="t" r="r" b="b"/>
                  <a:pathLst>
                    <a:path w="336" h="112">
                      <a:moveTo>
                        <a:pt x="0" y="104"/>
                      </a:moveTo>
                      <a:cubicBezTo>
                        <a:pt x="16" y="56"/>
                        <a:pt x="32" y="8"/>
                        <a:pt x="48" y="8"/>
                      </a:cubicBezTo>
                      <a:cubicBezTo>
                        <a:pt x="64" y="8"/>
                        <a:pt x="88" y="96"/>
                        <a:pt x="96" y="104"/>
                      </a:cubicBezTo>
                      <a:cubicBezTo>
                        <a:pt x="104" y="112"/>
                        <a:pt x="88" y="72"/>
                        <a:pt x="96" y="56"/>
                      </a:cubicBezTo>
                      <a:cubicBezTo>
                        <a:pt x="104" y="40"/>
                        <a:pt x="128" y="0"/>
                        <a:pt x="144" y="8"/>
                      </a:cubicBezTo>
                      <a:cubicBezTo>
                        <a:pt x="160" y="16"/>
                        <a:pt x="184" y="96"/>
                        <a:pt x="192" y="104"/>
                      </a:cubicBezTo>
                      <a:cubicBezTo>
                        <a:pt x="200" y="112"/>
                        <a:pt x="184" y="72"/>
                        <a:pt x="192" y="56"/>
                      </a:cubicBezTo>
                      <a:cubicBezTo>
                        <a:pt x="200" y="40"/>
                        <a:pt x="224" y="0"/>
                        <a:pt x="240" y="8"/>
                      </a:cubicBezTo>
                      <a:cubicBezTo>
                        <a:pt x="256" y="16"/>
                        <a:pt x="272" y="96"/>
                        <a:pt x="288" y="104"/>
                      </a:cubicBezTo>
                      <a:cubicBezTo>
                        <a:pt x="304" y="112"/>
                        <a:pt x="320" y="84"/>
                        <a:pt x="336" y="5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6" name=""/>
                <p:cNvGrpSpPr/>
                <p:nvPr/>
              </p:nvGrpSpPr>
              <p:grpSpPr>
                <a:xfrm>
                  <a:off x="1871640" y="2309760"/>
                  <a:ext cx="152640" cy="609840"/>
                  <a:chOff x="1871640" y="2309760"/>
                  <a:chExt cx="152640" cy="60984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1947600" y="2309760"/>
                    <a:ext cx="0" cy="253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1871640" y="256356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871640" y="261468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951920" y="261468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"/>
                <p:cNvSpPr/>
                <p:nvPr/>
              </p:nvSpPr>
              <p:spPr>
                <a:xfrm flipV="1">
                  <a:off x="2443320" y="20671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286000" y="20671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2486160" y="28339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52640" y="291960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45" name=""/>
                <p:cNvCxnSpPr>
                  <a:stCxn id="137" idx="0"/>
                </p:cNvCxnSpPr>
                <p:nvPr/>
              </p:nvCxnSpPr>
              <p:spPr>
                <a:xfrm>
                  <a:off x="1947600" y="2309400"/>
                  <a:ext cx="4914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46" name=""/>
                <p:cNvSpPr/>
                <p:nvPr/>
              </p:nvSpPr>
              <p:spPr>
                <a:xfrm>
                  <a:off x="2210040" y="1905120"/>
                  <a:ext cx="6094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ow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514600" y="2309760"/>
                  <a:ext cx="914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Wire Bond and Pin Parasitic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1414440" y="3862080"/>
                <a:ext cx="1557360" cy="1291680"/>
                <a:chOff x="1414440" y="3862080"/>
                <a:chExt cx="1557360" cy="1291680"/>
              </a:xfrm>
            </p:grpSpPr>
            <p:sp>
              <p:nvSpPr>
                <p:cNvPr id="149" name=""/>
                <p:cNvSpPr/>
                <p:nvPr/>
              </p:nvSpPr>
              <p:spPr>
                <a:xfrm rot="5400000">
                  <a:off x="1834920" y="4388760"/>
                  <a:ext cx="380880" cy="88920"/>
                </a:xfrm>
                <a:custGeom>
                  <a:avLst/>
                  <a:gdLst/>
                  <a:ahLst/>
                  <a:rect l="l" t="t" r="r" b="b"/>
                  <a:pathLst>
                    <a:path w="336" h="112">
                      <a:moveTo>
                        <a:pt x="0" y="104"/>
                      </a:moveTo>
                      <a:cubicBezTo>
                        <a:pt x="16" y="56"/>
                        <a:pt x="32" y="8"/>
                        <a:pt x="48" y="8"/>
                      </a:cubicBezTo>
                      <a:cubicBezTo>
                        <a:pt x="64" y="8"/>
                        <a:pt x="88" y="96"/>
                        <a:pt x="96" y="104"/>
                      </a:cubicBezTo>
                      <a:cubicBezTo>
                        <a:pt x="104" y="112"/>
                        <a:pt x="88" y="72"/>
                        <a:pt x="96" y="56"/>
                      </a:cubicBezTo>
                      <a:cubicBezTo>
                        <a:pt x="104" y="40"/>
                        <a:pt x="128" y="0"/>
                        <a:pt x="144" y="8"/>
                      </a:cubicBezTo>
                      <a:cubicBezTo>
                        <a:pt x="160" y="16"/>
                        <a:pt x="184" y="96"/>
                        <a:pt x="192" y="104"/>
                      </a:cubicBezTo>
                      <a:cubicBezTo>
                        <a:pt x="200" y="112"/>
                        <a:pt x="184" y="72"/>
                        <a:pt x="192" y="56"/>
                      </a:cubicBezTo>
                      <a:cubicBezTo>
                        <a:pt x="200" y="40"/>
                        <a:pt x="224" y="0"/>
                        <a:pt x="240" y="8"/>
                      </a:cubicBezTo>
                      <a:cubicBezTo>
                        <a:pt x="256" y="16"/>
                        <a:pt x="272" y="96"/>
                        <a:pt x="288" y="104"/>
                      </a:cubicBezTo>
                      <a:cubicBezTo>
                        <a:pt x="304" y="112"/>
                        <a:pt x="320" y="84"/>
                        <a:pt x="336" y="5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414440" y="4105080"/>
                  <a:ext cx="152640" cy="609120"/>
                  <a:chOff x="1414440" y="4105080"/>
                  <a:chExt cx="152640" cy="60912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490400" y="4105080"/>
                    <a:ext cx="0" cy="25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414440" y="435852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1414440" y="440964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1494720" y="440964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5" name=""/>
                <p:cNvSpPr/>
                <p:nvPr/>
              </p:nvSpPr>
              <p:spPr>
                <a:xfrm flipV="1">
                  <a:off x="1986120" y="386208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495440" y="471456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57" name=""/>
                <p:cNvCxnSpPr>
                  <a:stCxn id="151" idx="0"/>
                </p:cNvCxnSpPr>
                <p:nvPr/>
              </p:nvCxnSpPr>
              <p:spPr>
                <a:xfrm>
                  <a:off x="1490400" y="4104720"/>
                  <a:ext cx="4914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58" name=""/>
                <p:cNvSpPr/>
                <p:nvPr/>
              </p:nvSpPr>
              <p:spPr>
                <a:xfrm flipV="1">
                  <a:off x="2028960" y="4623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028960" y="4849560"/>
                  <a:ext cx="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rot="10800000">
                  <a:off x="1952640" y="5001480"/>
                  <a:ext cx="152640" cy="15228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057400" y="4290840"/>
                  <a:ext cx="914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Wire Bond and Pin Parasitic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752480" y="3071880"/>
                <a:ext cx="3054600" cy="1103400"/>
                <a:chOff x="1752480" y="3071880"/>
                <a:chExt cx="3054600" cy="1103400"/>
              </a:xfrm>
            </p:grpSpPr>
            <p:sp>
              <p:nvSpPr>
                <p:cNvPr id="163" name=""/>
                <p:cNvSpPr/>
                <p:nvPr/>
              </p:nvSpPr>
              <p:spPr>
                <a:xfrm rot="5400000">
                  <a:off x="2209680" y="3071880"/>
                  <a:ext cx="457200" cy="457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rot="5400000">
                  <a:off x="2057400" y="3224160"/>
                  <a:ext cx="457200" cy="457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5400000">
                  <a:off x="1905120" y="3376440"/>
                  <a:ext cx="457200" cy="457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5400000">
                  <a:off x="1752480" y="3529080"/>
                  <a:ext cx="457200" cy="457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7" name=""/>
                <p:cNvGrpSpPr/>
                <p:nvPr/>
              </p:nvGrpSpPr>
              <p:grpSpPr>
                <a:xfrm>
                  <a:off x="3733920" y="3200400"/>
                  <a:ext cx="1073160" cy="974880"/>
                  <a:chOff x="3733920" y="3200400"/>
                  <a:chExt cx="1073160" cy="97488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3733920" y="3200400"/>
                    <a:ext cx="761760" cy="114480"/>
                  </a:xfrm>
                  <a:prstGeom prst="flowChartMagneticDrum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9" name=""/>
                  <p:cNvGrpSpPr/>
                  <p:nvPr/>
                </p:nvGrpSpPr>
                <p:grpSpPr>
                  <a:xfrm>
                    <a:off x="4730760" y="3413160"/>
                    <a:ext cx="76320" cy="457200"/>
                    <a:chOff x="4730760" y="3413160"/>
                    <a:chExt cx="76320" cy="457200"/>
                  </a:xfrm>
                </p:grpSpPr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4730760" y="3413160"/>
                      <a:ext cx="7632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 flipH="1">
                      <a:off x="4730760" y="3489120"/>
                      <a:ext cx="76320" cy="76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4730760" y="3717720"/>
                      <a:ext cx="76320" cy="76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4730760" y="3565440"/>
                      <a:ext cx="76320" cy="76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 flipH="1">
                      <a:off x="4730760" y="3641760"/>
                      <a:ext cx="7632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 flipH="1">
                      <a:off x="4730760" y="3794040"/>
                      <a:ext cx="76320" cy="76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6" name=""/>
                  <p:cNvSpPr/>
                  <p:nvPr/>
                </p:nvSpPr>
                <p:spPr>
                  <a:xfrm>
                    <a:off x="4730760" y="3260880"/>
                    <a:ext cx="144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4730760" y="3870360"/>
                    <a:ext cx="144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rot="10800000">
                    <a:off x="4654440" y="4022640"/>
                    <a:ext cx="152640" cy="1526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3886200" y="3352680"/>
                    <a:ext cx="53352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 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4419720" y="3257640"/>
                    <a:ext cx="30456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1" name=""/>
            <p:cNvSpPr/>
            <p:nvPr/>
          </p:nvSpPr>
          <p:spPr>
            <a:xfrm>
              <a:off x="3429000" y="32716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 Element in HSPI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563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ub-Circuit of driver is recreated using IBIS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o simulate power/ground bounce and SSN, internal Power Sources are not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>
            <a:alphaModFix amt="40000"/>
          </a:blip>
          <a:srcRect l="22960" t="0" r="10651" b="0"/>
          <a:stretch/>
        </p:blipFill>
        <p:spPr>
          <a:xfrm>
            <a:off x="847800" y="1900080"/>
            <a:ext cx="7373880" cy="2138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066680" y="3276720"/>
            <a:ext cx="3581640" cy="380880"/>
          </a:xfrm>
          <a:prstGeom prst="rect">
            <a:avLst/>
          </a:prstGeom>
          <a:solidFill>
            <a:srgbClr val="ff330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aring SPICE and IBI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19884" t="20204" r="15958" b="20868"/>
          <a:stretch/>
        </p:blipFill>
        <p:spPr>
          <a:xfrm>
            <a:off x="3098880" y="1424160"/>
            <a:ext cx="1384200" cy="1076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797280" y="249084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40080" y="3024360"/>
            <a:ext cx="990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ibi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97280" y="34052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35160" y="3786120"/>
            <a:ext cx="1524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97280" y="416736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73320" y="454824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Element (Hspi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3862440"/>
            <a:ext cx="1219320" cy="990720"/>
          </a:xfrm>
          <a:prstGeom prst="wedgeRectCallout">
            <a:avLst>
              <a:gd name="adj1" fmla="val -82291"/>
              <a:gd name="adj2" fmla="val 48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s in IBIS model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ffer from *.ib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97280" y="51958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57680" y="5691240"/>
            <a:ext cx="18666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uct Equivalent circuit of 4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rcRect l="16981" t="8754" r="11321" b="7211"/>
          <a:stretch/>
        </p:blipFill>
        <p:spPr>
          <a:xfrm>
            <a:off x="4800600" y="1295280"/>
            <a:ext cx="1676520" cy="1500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495680" y="19573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91120" y="2795760"/>
            <a:ext cx="1346040" cy="2895480"/>
          </a:xfrm>
          <a:custGeom>
            <a:avLst/>
            <a:gdLst/>
            <a:ahLst/>
            <a:rect l="l" t="t" r="r" b="b"/>
            <a:pathLst>
              <a:path w="848" h="1824">
                <a:moveTo>
                  <a:pt x="0" y="1824"/>
                </a:moveTo>
                <a:cubicBezTo>
                  <a:pt x="296" y="1472"/>
                  <a:pt x="592" y="1120"/>
                  <a:pt x="720" y="816"/>
                </a:cubicBezTo>
                <a:cubicBezTo>
                  <a:pt x="848" y="512"/>
                  <a:pt x="760" y="136"/>
                  <a:pt x="768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utput from Drive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22352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676520" y="4114800"/>
            <a:ext cx="5943600" cy="2187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279960" y="3581280"/>
            <a:ext cx="33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in the Switching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31520" y="618660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in the Quiet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ower/Ground Boun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51807"/>
          <a:stretch/>
        </p:blipFill>
        <p:spPr>
          <a:xfrm>
            <a:off x="838080" y="1219320"/>
            <a:ext cx="7772400" cy="2209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rcRect l="0" t="49317" r="0" b="0"/>
          <a:stretch/>
        </p:blipFill>
        <p:spPr>
          <a:xfrm>
            <a:off x="685800" y="3809880"/>
            <a:ext cx="7924680" cy="22100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421880" y="32767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98200" y="5867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04:43:44Z</dcterms:created>
  <dc:creator>Ambrish Varma</dc:creator>
  <dc:description/>
  <dc:language>en-US</dc:language>
  <cp:lastModifiedBy>Bob Ross</cp:lastModifiedBy>
  <dcterms:modified xsi:type="dcterms:W3CDTF">2004-06-02T22:56:47Z</dcterms:modified>
  <cp:revision>37</cp:revision>
  <dc:subject/>
  <dc:title>S2IBIS   Past, Present and Future</dc:title>
</cp:coreProperties>
</file>