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E1F-CFAD-4BE2-8CAC-1AC9449E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F06-A043-4D1C-90BF-8AB55989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220-1E96-43A3-B025-E86A0FB0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B95-A153-434D-9D3F-1F7BEB41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203F-61DC-49CA-9C2A-DC7C5479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58EA-39BC-4058-80E0-BAF4387E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94FB-3382-4E64-8580-3F46A9D6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18D5-D575-40BF-AF9E-E41A1936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BA1C-6D3C-4381-8A4C-CE4DD9FF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B4E0-35FD-47AE-80EF-AFC5434E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62C8-34FF-49E0-B446-18DCEAD7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5AF-A06E-4C21-930E-285B2E1C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A15E-A78C-4874-B063-4FAC5B3C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0908-A4DE-4FDE-B9E4-24D9C188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3C64-39FD-45E3-A942-425402D3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6B5F-8CB8-4696-87C1-F1C5C532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F90C-CD96-40A1-9521-B1077ADF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95D-425C-4426-94CA-569E2618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925-C78D-4433-9794-113BF76C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3AA-66DD-4F0F-A157-4593BC2E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6BA-CEA9-4CAE-A563-1CD61D19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E91-F9D4-4E4A-9894-70705758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9D5-5685-4BE6-8022-43E175B9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DBF-A942-4C58-98D3-AC43C6D1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C 2004 IBIS Summi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D51A-046A-4ADB-8528-0EEA85CD1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889280" cy="226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flipH="1">
            <a:off x="228240" y="2590920"/>
            <a:ext cx="2730600" cy="3276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920" y="6991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Chair’s Report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&amp; Roadmap Updat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352320" y="3047760"/>
            <a:ext cx="5410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 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8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8A85-0A19-4080-8265-BC0BEC2A35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" y="1155240"/>
            <a:ext cx="861048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visibility for IBIS 4.1 and I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JEITA WG driving interest in Japan (April ED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Increasing demands for 4.1 Golden Par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s Committee active and considering                   seven major improvements to I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ncludes ICM links, user-defined measurements, 4.1 clar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book Committee has developed outlines for revised IBIS and new ICM Cook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Quality Committee has completed documents and is developing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eports Quality features already in u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web updates ramping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ndexed Summit presentation archive on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edesign of site, including parser &amp; membership information, being prep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The Good News…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B4D-11EC-4FC8-99F9-F7917E9E9F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Storms Ahead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30556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 renewals beginning to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Finances healthy today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eed eight (8) renewals by year’s end to ensure                financial solv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4.1 Golden Parser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Development contract being written and commitment to developer 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Parser completion estimated to take less than three (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Insufficient funds today to ensure completion of par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ore Parser licens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BIS 4.0 parser purchasers receive free up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Development of 4.1 financed entirely through new purc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t least six (6) new parser licensees required to cover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2000" y="5437080"/>
            <a:ext cx="8775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he IBIS Open Forum needs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support to continue advancing the specific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375240" y="0"/>
            <a:ext cx="1254240" cy="116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2A0-BE3C-4D83-8989-51016830EC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09480" y="3654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780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0816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71760" y="3954600"/>
            <a:ext cx="358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35360" y="395460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9716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57520" y="395460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19680" y="3954600"/>
            <a:ext cx="358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7824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184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220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62560" y="395460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47800" y="4106880"/>
            <a:ext cx="1082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35360" y="4106880"/>
            <a:ext cx="1084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19680" y="4106880"/>
            <a:ext cx="1082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02200" y="4106880"/>
            <a:ext cx="10857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47800" y="3801960"/>
            <a:ext cx="1082880" cy="152280"/>
            <a:chOff x="1747800" y="3801960"/>
            <a:chExt cx="1082880" cy="152280"/>
          </a:xfrm>
        </p:grpSpPr>
        <p:sp>
          <p:nvSpPr>
            <p:cNvPr id="110" name=""/>
            <p:cNvSpPr/>
            <p:nvPr/>
          </p:nvSpPr>
          <p:spPr>
            <a:xfrm>
              <a:off x="174780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747800" y="3858840"/>
              <a:ext cx="1082880" cy="90360"/>
              <a:chOff x="1747800" y="3858840"/>
              <a:chExt cx="1082880" cy="90360"/>
            </a:xfrm>
          </p:grpSpPr>
          <p:sp>
            <p:nvSpPr>
              <p:cNvPr id="112" name=""/>
              <p:cNvSpPr/>
              <p:nvPr/>
            </p:nvSpPr>
            <p:spPr>
              <a:xfrm>
                <a:off x="174780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30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14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97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08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163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474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330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14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97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804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63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47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0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2835360" y="3801960"/>
            <a:ext cx="1084320" cy="152280"/>
            <a:chOff x="2835360" y="3801960"/>
            <a:chExt cx="1084320" cy="152280"/>
          </a:xfrm>
        </p:grpSpPr>
        <p:sp>
          <p:nvSpPr>
            <p:cNvPr id="127" name=""/>
            <p:cNvSpPr/>
            <p:nvPr/>
          </p:nvSpPr>
          <p:spPr>
            <a:xfrm>
              <a:off x="283536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35360" y="3858840"/>
              <a:ext cx="1084320" cy="90360"/>
              <a:chOff x="2835360" y="3858840"/>
              <a:chExt cx="1084320" cy="90360"/>
            </a:xfrm>
          </p:grpSpPr>
          <p:sp>
            <p:nvSpPr>
              <p:cNvPr id="129" name=""/>
              <p:cNvSpPr/>
              <p:nvPr/>
            </p:nvSpPr>
            <p:spPr>
              <a:xfrm>
                <a:off x="283536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9188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020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855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687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522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357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4189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5024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856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669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52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36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3919680" y="3801960"/>
            <a:ext cx="1082520" cy="152280"/>
            <a:chOff x="3919680" y="3801960"/>
            <a:chExt cx="1082520" cy="152280"/>
          </a:xfrm>
        </p:grpSpPr>
        <p:sp>
          <p:nvSpPr>
            <p:cNvPr id="144" name=""/>
            <p:cNvSpPr/>
            <p:nvPr/>
          </p:nvSpPr>
          <p:spPr>
            <a:xfrm>
              <a:off x="391968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919680" y="3858840"/>
              <a:ext cx="1082520" cy="90360"/>
              <a:chOff x="3919680" y="3858840"/>
              <a:chExt cx="1082520" cy="90360"/>
            </a:xfrm>
          </p:grpSpPr>
          <p:sp>
            <p:nvSpPr>
              <p:cNvPr id="146" name=""/>
              <p:cNvSpPr/>
              <p:nvPr/>
            </p:nvSpPr>
            <p:spPr>
              <a:xfrm>
                <a:off x="391968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0028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860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695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52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358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193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02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85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688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523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35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18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0022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5002200" y="3801960"/>
            <a:ext cx="1085760" cy="152280"/>
            <a:chOff x="5002200" y="3801960"/>
            <a:chExt cx="1085760" cy="152280"/>
          </a:xfrm>
        </p:grpSpPr>
        <p:sp>
          <p:nvSpPr>
            <p:cNvPr id="161" name=""/>
            <p:cNvSpPr/>
            <p:nvPr/>
          </p:nvSpPr>
          <p:spPr>
            <a:xfrm>
              <a:off x="500220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002200" y="3858840"/>
              <a:ext cx="1085760" cy="90360"/>
              <a:chOff x="5002200" y="3858840"/>
              <a:chExt cx="1085760" cy="90360"/>
            </a:xfrm>
          </p:grpSpPr>
          <p:sp>
            <p:nvSpPr>
              <p:cNvPr id="163" name=""/>
              <p:cNvSpPr/>
              <p:nvPr/>
            </p:nvSpPr>
            <p:spPr>
              <a:xfrm>
                <a:off x="500220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0857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1688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527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359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194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03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5864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703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535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370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205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040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87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"/>
          <p:cNvSpPr/>
          <p:nvPr/>
        </p:nvSpPr>
        <p:spPr>
          <a:xfrm>
            <a:off x="261360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188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8152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8796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832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08680" y="395460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7084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34440" y="3954600"/>
            <a:ext cx="358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9300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87960" y="4106880"/>
            <a:ext cx="1082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70840" y="4106880"/>
            <a:ext cx="10857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87960" y="3801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087960" y="3801960"/>
            <a:ext cx="1082880" cy="152280"/>
            <a:chOff x="6087960" y="3801960"/>
            <a:chExt cx="1082880" cy="152280"/>
          </a:xfrm>
        </p:grpSpPr>
        <p:sp>
          <p:nvSpPr>
            <p:cNvPr id="191" name=""/>
            <p:cNvSpPr/>
            <p:nvPr/>
          </p:nvSpPr>
          <p:spPr>
            <a:xfrm>
              <a:off x="608796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087960" y="3858840"/>
              <a:ext cx="1082880" cy="90360"/>
              <a:chOff x="6087960" y="3858840"/>
              <a:chExt cx="1082880" cy="90360"/>
            </a:xfrm>
          </p:grpSpPr>
          <p:sp>
            <p:nvSpPr>
              <p:cNvPr id="193" name=""/>
              <p:cNvSpPr/>
              <p:nvPr/>
            </p:nvSpPr>
            <p:spPr>
              <a:xfrm>
                <a:off x="608796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171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2542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3378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20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04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587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708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54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374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920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0038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087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708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7170840" y="3801960"/>
            <a:ext cx="1085760" cy="152280"/>
            <a:chOff x="7170840" y="3801960"/>
            <a:chExt cx="1085760" cy="152280"/>
          </a:xfrm>
        </p:grpSpPr>
        <p:sp>
          <p:nvSpPr>
            <p:cNvPr id="208" name=""/>
            <p:cNvSpPr/>
            <p:nvPr/>
          </p:nvSpPr>
          <p:spPr>
            <a:xfrm>
              <a:off x="717084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7170840" y="3858840"/>
              <a:ext cx="1085760" cy="90360"/>
              <a:chOff x="7170840" y="3858840"/>
              <a:chExt cx="1085760" cy="90360"/>
            </a:xfrm>
          </p:grpSpPr>
          <p:sp>
            <p:nvSpPr>
              <p:cNvPr id="210" name=""/>
              <p:cNvSpPr/>
              <p:nvPr/>
            </p:nvSpPr>
            <p:spPr>
              <a:xfrm>
                <a:off x="717084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2543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375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4214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045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880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71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755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8390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22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005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0892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1727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2566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695628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4132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8600" y="5649840"/>
            <a:ext cx="149040" cy="15264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7720" y="5925960"/>
            <a:ext cx="1936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9760" y="5367240"/>
            <a:ext cx="12996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284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evelopment Timelin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1193760"/>
            <a:ext cx="4013280" cy="83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uly, 2002: IBIS 4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pt., 2003: ICM 1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17760" y="2327400"/>
            <a:ext cx="152640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64400" y="3654360"/>
            <a:ext cx="1279800" cy="604800"/>
            <a:chOff x="464400" y="3654360"/>
            <a:chExt cx="1279800" cy="604800"/>
          </a:xfrm>
        </p:grpSpPr>
        <p:sp>
          <p:nvSpPr>
            <p:cNvPr id="233" name=""/>
            <p:cNvSpPr/>
            <p:nvPr/>
          </p:nvSpPr>
          <p:spPr>
            <a:xfrm>
              <a:off x="464400" y="3654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7080" y="3954240"/>
              <a:ext cx="3582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25640" y="3954240"/>
              <a:ext cx="3614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87440" y="3954240"/>
              <a:ext cx="3567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7080" y="4106880"/>
              <a:ext cx="10771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Q1’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667080" y="3801960"/>
              <a:ext cx="1077120" cy="152280"/>
              <a:chOff x="667080" y="3801960"/>
              <a:chExt cx="1077120" cy="152280"/>
            </a:xfrm>
          </p:grpSpPr>
          <p:sp>
            <p:nvSpPr>
              <p:cNvPr id="239" name=""/>
              <p:cNvSpPr/>
              <p:nvPr/>
            </p:nvSpPr>
            <p:spPr>
              <a:xfrm>
                <a:off x="667080" y="38019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667080" y="3858840"/>
                <a:ext cx="1077120" cy="90360"/>
                <a:chOff x="667080" y="3858840"/>
                <a:chExt cx="1077120" cy="903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67080" y="38588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498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326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9154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9982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0810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1642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2466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3298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126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954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5782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6610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74420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5" name=""/>
          <p:cNvSpPr/>
          <p:nvPr/>
        </p:nvSpPr>
        <p:spPr>
          <a:xfrm>
            <a:off x="627120" y="2709720"/>
            <a:ext cx="669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981000" y="31572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36920" y="2678040"/>
            <a:ext cx="61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724200" y="3090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720" y="558792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Con Sum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8440" y="531828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3200" y="588960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CB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13280" y="4308480"/>
            <a:ext cx="1936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68280" y="4294080"/>
            <a:ext cx="13032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22720" y="2684520"/>
            <a:ext cx="669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457880" y="30938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76680" y="3084480"/>
            <a:ext cx="6570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114720" y="350352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47600" y="4294080"/>
            <a:ext cx="149400" cy="15264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27680" y="4309920"/>
            <a:ext cx="13032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04040" y="3122640"/>
            <a:ext cx="733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867280" y="3547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4400" y="3132000"/>
            <a:ext cx="7462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883560" y="355140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63840" y="3122640"/>
            <a:ext cx="7459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952640" y="354168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42160" y="2690640"/>
            <a:ext cx="669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8067600" y="3109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38960" y="4338720"/>
            <a:ext cx="1936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080" y="50245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1880" y="501336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4289400"/>
            <a:ext cx="22356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4097160"/>
            <a:ext cx="80056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02200" y="3807000"/>
            <a:ext cx="3240" cy="4935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15040" y="4303800"/>
            <a:ext cx="14904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89680" y="428940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6720" y="5797440"/>
            <a:ext cx="101736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m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93840" y="4357800"/>
            <a:ext cx="0" cy="42840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4367160"/>
            <a:ext cx="0" cy="42876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58040" y="4367160"/>
            <a:ext cx="0" cy="42876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1080" y="4357800"/>
            <a:ext cx="0" cy="42840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72240" y="4376880"/>
            <a:ext cx="0" cy="42840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720" y="480852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6880" y="479916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83200" y="480852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02280" y="480852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35920" y="480852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49600" y="2241720"/>
            <a:ext cx="1440" cy="1469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49000" y="5829480"/>
            <a:ext cx="2674080" cy="3988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-Roadshows on 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961-4EEE-43C4-8E7A-24719E3BED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5200" y="37836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pecial Thanks…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6280" y="1347480"/>
            <a:ext cx="843912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BIS Officers &amp; Advi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nne Green, Vice-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y Wolff,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ed Huq, Web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Angulo, Post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y Leventhal, Librar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Ross, Unofficial Parliamentar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00280" y="523728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he Open Forum is grateful to the people above who help “make IBIS happ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902D-78C5-41EC-8786-B40F961CEC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4-06-05T05:33:54Z</dcterms:modified>
  <cp:revision>108</cp:revision>
  <dc:subject>Update at 2004 DAC Summit</dc:subject>
  <dc:title>IBIS Chair's Report and Roadmap Update</dc:title>
</cp:coreProperties>
</file>