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2, 2003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D05CDE1-B277-4F5D-9332-630DBBD4AFCA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n-Die Termination Commen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87440" y="3238560"/>
            <a:ext cx="640080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raspeed Consulting Gro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signCon East 200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lborough, Massachuset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23, 200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ormalized Example of I-V Allocation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9560" y="4147920"/>
            <a:ext cx="7701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I-V table yields multiple sol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.g., linear, matching slopes quadratic, etc.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djust for deviations from straight line dat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Requires additional knowledg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: separate Gnd or Power current versus V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8920" y="1112760"/>
            <a:ext cx="62179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3-06-13T00:56:00Z</dcterms:modified>
  <cp:revision>326</cp:revision>
  <dc:subject/>
  <dc:title>IBIS</dc:title>
</cp:coreProperties>
</file>