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, 2003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59BD6C6-5A61-4064-90AF-66E3A969DEB6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lgorithms Revisit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002040"/>
            <a:ext cx="640080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eraspeed Consulting Grou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signCon East 200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arlborough, Massachuset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une 23, 200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Also presented June 5, 2003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ependent IBIS Table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600360" y="3882600"/>
            <a:ext cx="21322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9200" y="5462640"/>
            <a:ext cx="144792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960" y="1433520"/>
            <a:ext cx="15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27520" y="184320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135240" y="1676520"/>
            <a:ext cx="582840" cy="717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V="1">
            <a:off x="2508120" y="1995480"/>
            <a:ext cx="60012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14600" y="438768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11520" y="3498840"/>
            <a:ext cx="0" cy="89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03600" y="5060880"/>
            <a:ext cx="0" cy="78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05040" y="2562120"/>
            <a:ext cx="180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0280" y="24336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95840" y="235116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9440" y="2421000"/>
            <a:ext cx="1906560" cy="4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t / (3 - 2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49840" y="295128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48040" y="4500720"/>
            <a:ext cx="117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00560" y="2833560"/>
            <a:ext cx="42516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24080" y="2973240"/>
            <a:ext cx="115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39920" y="452772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- 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900840" y="2068200"/>
            <a:ext cx="879480" cy="9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ndependent IBIS Table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600360" y="3882600"/>
            <a:ext cx="21322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9200" y="5462640"/>
            <a:ext cx="144792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47960" y="1433520"/>
            <a:ext cx="15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27520" y="184320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135240" y="1676520"/>
            <a:ext cx="582840" cy="717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2508120" y="1995480"/>
            <a:ext cx="60012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14600" y="438768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11520" y="3498840"/>
            <a:ext cx="0" cy="89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03600" y="5060880"/>
            <a:ext cx="0" cy="78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05040" y="2562120"/>
            <a:ext cx="180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0280" y="24336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95840" y="235116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9440" y="2436840"/>
            <a:ext cx="1874520" cy="219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, 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ndependent from second waveform load and solution of two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295128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48040" y="4500720"/>
            <a:ext cx="117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00560" y="2833560"/>
            <a:ext cx="42516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24080" y="2973240"/>
            <a:ext cx="115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39920" y="452772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900840" y="2068200"/>
            <a:ext cx="879480" cy="9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ctual Waveforms and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118584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Generalized Test Loa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90680" y="1889280"/>
            <a:ext cx="8204040" cy="3157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193840" y="2865600"/>
            <a:ext cx="519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64160" y="1752480"/>
            <a:ext cx="4068720" cy="333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11120" y="5045040"/>
            <a:ext cx="25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(t) and I(t) can be calculated from loa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PICE Prototype for Ku(t), Kd(t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46080" y="3855960"/>
            <a:ext cx="4989600" cy="19209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946080" y="1146240"/>
            <a:ext cx="4989600" cy="1920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rot="16200000">
            <a:off x="1584000" y="2955240"/>
            <a:ext cx="1057320" cy="914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31040" y="1905120"/>
            <a:ext cx="102240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Loa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507000" y="4495680"/>
            <a:ext cx="102240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Loa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11840" y="1082520"/>
            <a:ext cx="17524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1 Wav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76640" y="3763800"/>
            <a:ext cx="17542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2 Wave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40120" y="944640"/>
            <a:ext cx="2971800" cy="70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3611520"/>
            <a:ext cx="2971800" cy="70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855960" y="364500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2000" y="3657600"/>
            <a:ext cx="1249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44800" y="1285920"/>
            <a:ext cx="0" cy="18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584080" y="3164040"/>
            <a:ext cx="1268280" cy="6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25560" y="322416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-1E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6320" y="2382840"/>
            <a:ext cx="35100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66960" y="1468440"/>
            <a:ext cx="35064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61920" y="5116680"/>
            <a:ext cx="35100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61920" y="4160880"/>
            <a:ext cx="35100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598760" y="3654360"/>
            <a:ext cx="506160" cy="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5840" y="3154320"/>
            <a:ext cx="14367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230480" y="3662280"/>
            <a:ext cx="374400" cy="14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41520" y="1824120"/>
            <a:ext cx="431640" cy="13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5840" y="3142800"/>
            <a:ext cx="398520" cy="10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209240" y="2728800"/>
            <a:ext cx="397080" cy="93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68600" y="32288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Feedback Ku, Kd solutions using waveform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eedback SPICE Circuit For Two Non-linear/Table Equ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868320" y="1569960"/>
          <a:ext cx="777240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569960"/>
                    <a:ext cx="77724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609480" y="509112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1(t)/Z(t) = Ku(t)*Iu(V1(t)) + Kd(t)*Id(V1(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2(t)/Z(t) = Ku(t)*Iu(V2(t)) + Kd(t)*Id(V2(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68720" y="4541760"/>
            <a:ext cx="70164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98960" y="3551400"/>
            <a:ext cx="65556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55000" y="1974960"/>
            <a:ext cx="531720" cy="5079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82720" y="3170160"/>
            <a:ext cx="1630440" cy="2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4221000"/>
            <a:ext cx="1630440" cy="2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760" y="3154320"/>
            <a:ext cx="1630440" cy="2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36640" y="4237200"/>
            <a:ext cx="1630440" cy="242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art of SPICE Encoded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Prototyp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609480" y="1676520"/>
          <a:ext cx="8245440" cy="45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4544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4373640" y="2759040"/>
            <a:ext cx="124920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ur, K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86600" y="2744640"/>
            <a:ext cx="124920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Kuf, K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45120" y="2193840"/>
            <a:ext cx="1611000" cy="1646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987880" y="2195640"/>
            <a:ext cx="2044800" cy="1646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commended Test Load,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ndustrial usag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04720" y="1889280"/>
            <a:ext cx="8204400" cy="31575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43000" y="2482920"/>
            <a:ext cx="866880" cy="2012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97320" y="1646280"/>
            <a:ext cx="1981440" cy="7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54520" y="2544840"/>
            <a:ext cx="1265400" cy="1373040"/>
          </a:xfrm>
          <a:prstGeom prst="noSmoking">
            <a:avLst>
              <a:gd name="adj" fmla="val 1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37400" y="2928960"/>
            <a:ext cx="1616040" cy="1660680"/>
          </a:xfrm>
          <a:prstGeom prst="noSmoking">
            <a:avLst>
              <a:gd name="adj" fmla="val 1041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48360" y="2454120"/>
            <a:ext cx="1738440" cy="1644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82520" y="5029200"/>
            <a:ext cx="2743200" cy="120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ecommended Loa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to V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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o 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oblems and Limit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round, power currents a function of the model, may not be accu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Gate modulation effec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uld be fixed with more tables or parameter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ing to internal buffer nod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quency dependent impedance mod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lay timing errors with over-clocking - shown n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ver-clocking Problem with IBIS,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 No Simple Solution for Delay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22868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232000" y="1898640"/>
            <a:ext cx="0" cy="364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66920" y="1905120"/>
            <a:ext cx="1684440" cy="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56040" y="1914480"/>
            <a:ext cx="0" cy="360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63960" y="5521320"/>
            <a:ext cx="1684440" cy="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evious Work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sed on early prototype 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pdated from hand-drawn foils given in June 1997 and presentation in Oct. 199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esented at SPI 2003 in Siena, Ita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105000" y="3881520"/>
          <a:ext cx="311976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5000" y="3881520"/>
                    <a:ext cx="311976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ll constructed IBIS models and good algorithms yield accurate resul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ever, there are limit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lgorithm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 data AND how proces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lder approaches give different solution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Two-waveform algorithm gives good solutions 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 algorith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Multiple tables and dynamic interpol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/O Interface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del for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tegrated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rcuit (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IMIC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) for transistor multiple I-V and capacitance-V table interpol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Radial based functions (RBF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General IBIS Buffer Model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494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990720"/>
            <a:ext cx="7773840" cy="5197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54320" y="990720"/>
            <a:ext cx="0" cy="519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9440" y="976320"/>
            <a:ext cx="0" cy="519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19920" y="9907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100332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Fixed Clamps and C_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9907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ample - Ideal CMOS Buff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849680" y="3007440"/>
            <a:ext cx="2711520" cy="1751040"/>
          </a:xfrm>
          <a:prstGeom prst="triangle">
            <a:avLst>
              <a:gd name="adj" fmla="val 5005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81320" y="3875040"/>
            <a:ext cx="165132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39640" y="4543560"/>
            <a:ext cx="1800" cy="92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216240" y="5468400"/>
            <a:ext cx="1820880" cy="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16240" y="2528640"/>
            <a:ext cx="1800" cy="68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78320" y="4470480"/>
            <a:ext cx="15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20968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03560" y="2362320"/>
            <a:ext cx="212760" cy="18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13360" y="5465880"/>
            <a:ext cx="1440" cy="33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03560" y="5740560"/>
            <a:ext cx="212760" cy="18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8600" y="6024600"/>
            <a:ext cx="12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444760"/>
            <a:ext cx="1478160" cy="3626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 Open S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H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1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L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 Output 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Load to 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02160" y="335916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22640" y="1523880"/>
            <a:ext cx="94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71960" y="1712880"/>
            <a:ext cx="64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5960" y="191916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630320" y="2562120"/>
            <a:ext cx="717480" cy="8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900840" y="2068200"/>
            <a:ext cx="879480" cy="9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197320"/>
            <a:ext cx="1463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7040" y="-360"/>
            <a:ext cx="870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hevenin Linear Z Transi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1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86000" y="5468400"/>
            <a:ext cx="2751120" cy="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610080" y="5465880"/>
            <a:ext cx="1440" cy="33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41560" y="4448160"/>
            <a:ext cx="471600" cy="473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86000" y="3855960"/>
            <a:ext cx="0" cy="57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286000" y="4890960"/>
            <a:ext cx="1440" cy="59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4080" y="41194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1440" y="446580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00560" y="336060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058440" y="1216080"/>
            <a:ext cx="1704240" cy="177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5" y="0"/>
                </a:moveTo>
                <a:arcTo wR="10800" hR="10800" stAng="-5420773" swAng="5609766"/>
                <a:lnTo>
                  <a:pt x="10800" y="10800"/>
                </a:lnTo>
                <a:close/>
              </a:path>
              <a:path fill="none" w="21600" h="21600">
                <a:moveTo>
                  <a:pt x="10735" y="0"/>
                </a:moveTo>
                <a:arcTo wR="10800" hR="10800" stAng="-5420773" swAng="560976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5320" y="2438280"/>
            <a:ext cx="225612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 = 50 - 4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 = 0.02 + 0.08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(t) = 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18080" y="1523880"/>
            <a:ext cx="1585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10 -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5t + 20t</a:t>
            </a:r>
            <a:r>
              <a:rPr b="1" lang="en-US" sz="1800" spc="-1" strike="noStrike" baseline="30000">
                <a:solidFill>
                  <a:srgbClr val="ff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 +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98960" y="1722600"/>
            <a:ext cx="97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55960" y="191916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81320" y="2575080"/>
            <a:ext cx="582480" cy="733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40120" y="274176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452680" y="2057400"/>
            <a:ext cx="63972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95680" y="2806560"/>
            <a:ext cx="412560" cy="27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86000" y="3870360"/>
            <a:ext cx="11588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33880" y="388620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3886200"/>
            <a:ext cx="106200" cy="18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7040" y="3728880"/>
            <a:ext cx="106200" cy="18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51400" y="3733920"/>
            <a:ext cx="152280" cy="35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900600" y="3718080"/>
            <a:ext cx="152280" cy="35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03680" y="3733920"/>
            <a:ext cx="187200" cy="33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orton Linear Y Transi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59000" y="3882600"/>
            <a:ext cx="34736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6000" y="5468400"/>
            <a:ext cx="2751120" cy="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610080" y="5465880"/>
            <a:ext cx="1440" cy="33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08480" y="3862440"/>
            <a:ext cx="374400" cy="1665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41560" y="4448160"/>
            <a:ext cx="471600" cy="473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86000" y="4403520"/>
            <a:ext cx="0" cy="51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86000" y="3855960"/>
            <a:ext cx="0" cy="57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286000" y="4890960"/>
            <a:ext cx="1440" cy="59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94040" y="448164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1440" y="44658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87480" y="447372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5320" y="2438280"/>
            <a:ext cx="225612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 = 50 - 4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 = 0.02 + 0.08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(t) = 0.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18080" y="1523880"/>
            <a:ext cx="1585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125t - 100t</a:t>
            </a:r>
            <a:r>
              <a:rPr b="1" lang="en-US" sz="1800" spc="-1" strike="noStrike" baseline="30000">
                <a:solidFill>
                  <a:srgbClr val="ff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10 -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 +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68720" y="1719360"/>
            <a:ext cx="100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41920" y="190512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181320" y="2575080"/>
            <a:ext cx="582480" cy="733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24280" y="274176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452680" y="2057400"/>
            <a:ext cx="63972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95680" y="2806560"/>
            <a:ext cx="412560" cy="27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889680" y="2050920"/>
            <a:ext cx="1737360" cy="177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7" y="0"/>
                </a:moveTo>
                <a:arcTo wR="10800" hR="10800" stAng="-5423328" swAng="5612320"/>
                <a:lnTo>
                  <a:pt x="10800" y="10800"/>
                </a:lnTo>
                <a:close/>
              </a:path>
              <a:path fill="none" w="21600" h="21600">
                <a:moveTo>
                  <a:pt x="10727" y="0"/>
                </a:moveTo>
                <a:arcTo wR="10800" hR="10800" stAng="-5423328" swAng="561232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Linear Table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600360" y="3882600"/>
            <a:ext cx="21322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9200" y="5462640"/>
            <a:ext cx="144792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889680" y="2050920"/>
            <a:ext cx="1737360" cy="177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7" y="0"/>
                </a:moveTo>
                <a:arcTo wR="10800" hR="10800" stAng="-5423328" swAng="5612320"/>
                <a:lnTo>
                  <a:pt x="10800" y="10800"/>
                </a:lnTo>
                <a:close/>
              </a:path>
              <a:path fill="none" w="21600" h="21600">
                <a:moveTo>
                  <a:pt x="10727" y="0"/>
                </a:moveTo>
                <a:arcTo wR="10800" hR="10800" stAng="-5423328" swAng="561232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3880" y="3425760"/>
            <a:ext cx="225576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Same as Nort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(t) = 0.02 + 0.08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(t) = 0.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47960" y="1433520"/>
            <a:ext cx="15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 +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27520" y="184320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35240" y="1676520"/>
            <a:ext cx="582840" cy="717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2508120" y="1995480"/>
            <a:ext cx="60012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4600" y="438768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11520" y="3498840"/>
            <a:ext cx="0" cy="890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03600" y="5060880"/>
            <a:ext cx="0" cy="78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9200" y="2562120"/>
            <a:ext cx="180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0280" y="24336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95840" y="235116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9440" y="2436840"/>
            <a:ext cx="2241360" cy="86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t (5 - 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 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(1 - t) 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/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9840" y="295128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48040" y="4500720"/>
            <a:ext cx="117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82920" y="281772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60720" y="2955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080" y="471024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-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5280" y="-36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ual IBIS Linear Table Multipli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7480" y="3884760"/>
            <a:ext cx="123192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2240" y="1598760"/>
            <a:ext cx="1857600" cy="19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415200" y="2984040"/>
            <a:ext cx="465120" cy="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73840" y="2060280"/>
            <a:ext cx="906480" cy="942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767720" y="2057400"/>
            <a:ext cx="47772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216240" y="4479840"/>
            <a:ext cx="1440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41800" y="3873600"/>
            <a:ext cx="3240" cy="53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870440" y="4403880"/>
            <a:ext cx="1713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8360" y="4484520"/>
            <a:ext cx="309600" cy="17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937040" y="4740120"/>
            <a:ext cx="426960" cy="18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870080" y="4657680"/>
            <a:ext cx="320760" cy="1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89520" y="4816440"/>
            <a:ext cx="29988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020920" y="4962600"/>
            <a:ext cx="17460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40360" y="503388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9200" y="5462640"/>
            <a:ext cx="144792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3840" y="342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02640" y="3414600"/>
            <a:ext cx="0" cy="2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04200" y="361152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68920" y="36259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02240" y="27874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64360" y="208764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7560" y="18748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25/6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3640" y="44686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50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840" y="380520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0280" y="5770440"/>
            <a:ext cx="212760" cy="1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20920" y="5978520"/>
            <a:ext cx="13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30640" y="4937040"/>
            <a:ext cx="0" cy="54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24480" y="3368520"/>
            <a:ext cx="70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3880" y="3425760"/>
            <a:ext cx="2255760" cy="14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Same as Theven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R(t) = 50 - 40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(t) = 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7960" y="1433520"/>
            <a:ext cx="15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25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10 - 4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27520" y="1843200"/>
            <a:ext cx="127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135240" y="1676520"/>
            <a:ext cx="582840" cy="717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V="1">
            <a:off x="2508120" y="1995480"/>
            <a:ext cx="60012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14600" y="4387680"/>
            <a:ext cx="42552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11520" y="3924360"/>
            <a:ext cx="0" cy="46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03600" y="5060880"/>
            <a:ext cx="0" cy="78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602160" y="3905280"/>
            <a:ext cx="436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9440" y="2436840"/>
            <a:ext cx="2241360" cy="86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t (5 - 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= - (1 - t) 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40120" y="2979720"/>
            <a:ext cx="885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2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75040" y="4514760"/>
            <a:ext cx="111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v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(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6883560" y="2049480"/>
            <a:ext cx="907920" cy="9856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 flipV="1">
            <a:off x="4600080" y="3746520"/>
            <a:ext cx="376200" cy="6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53000" y="320508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i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Gill Sans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54320" y="3549600"/>
            <a:ext cx="425520" cy="67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73440" y="4694400"/>
            <a:ext cx="6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1 -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9480" y="336852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3-06-08T00:12:18Z</dcterms:modified>
  <cp:revision>271</cp:revision>
  <dc:subject/>
  <dc:title>IBIS</dc:title>
</cp:coreProperties>
</file>