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4328-DB50-4591-B0F0-2B12E82AA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79B49-9436-4A5D-8D36-818467306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AEB8-257F-4FB9-B8A1-CA0A419D9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9188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3620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44756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79188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3620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68AF-05B8-4FB6-B7FD-CEC4F3577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2080" y="-360"/>
            <a:ext cx="708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CA5B-37BB-48D6-9FE7-B60943B17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79188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3620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4756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79188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3620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30A1-2C21-4F5C-ACAE-D40D68AEC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5991-CC67-4F14-9447-BB21EFCEB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70CF-0E20-404D-8E43-31A00E4FA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522080" y="-360"/>
            <a:ext cx="708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C6135-0362-4A76-B63D-ADD5C242B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E222-3CF1-49EC-935A-73296C009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2BED-9334-4A18-877B-A1BC4954B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AAB1-2C88-4217-A572-A6B7B3DAA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23760" y="6248520"/>
            <a:ext cx="32990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6/11/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Other brands and names are the property of their respective own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26672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AD94AA-5B65-4979-B1AD-EDE78F3F15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219320" y="457200"/>
            <a:ext cx="7544880" cy="612720"/>
            <a:chOff x="1219320" y="457200"/>
            <a:chExt cx="7544880" cy="612720"/>
          </a:xfrm>
        </p:grpSpPr>
        <p:sp>
          <p:nvSpPr>
            <p:cNvPr id="4" name=""/>
            <p:cNvSpPr/>
            <p:nvPr/>
          </p:nvSpPr>
          <p:spPr>
            <a:xfrm>
              <a:off x="8588880" y="457200"/>
              <a:ext cx="1753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219320" y="1042920"/>
              <a:ext cx="745812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659080" y="603360"/>
              <a:ext cx="3168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6400800" y="6324480"/>
            <a:ext cx="2590920" cy="378000"/>
          </a:xfrm>
          <a:prstGeom prst="rect">
            <a:avLst/>
          </a:prstGeom>
          <a:ln w="0">
            <a:noFill/>
          </a:ln>
        </p:spPr>
      </p:pic>
      <p:grpSp>
        <p:nvGrpSpPr>
          <p:cNvPr id="9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sp>
          <p:nvSpPr>
            <p:cNvPr id="10" name=""/>
            <p:cNvSpPr/>
            <p:nvPr/>
          </p:nvSpPr>
          <p:spPr>
            <a:xfrm>
              <a:off x="0" y="0"/>
              <a:ext cx="990720" cy="6856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14400" y="0"/>
              <a:ext cx="152280" cy="838080"/>
            </a:xfrm>
            <a:prstGeom prst="rect">
              <a:avLst/>
            </a:prstGeom>
            <a:solidFill>
              <a:srgbClr val="00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" name="" descr=""/>
            <p:cNvPicPr/>
            <p:nvPr/>
          </p:nvPicPr>
          <p:blipFill>
            <a:blip r:embed="rId3"/>
            <a:stretch/>
          </p:blipFill>
          <p:spPr>
            <a:xfrm>
              <a:off x="0" y="6019920"/>
              <a:ext cx="99072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" name=""/>
            <p:cNvGrpSpPr/>
            <p:nvPr/>
          </p:nvGrpSpPr>
          <p:grpSpPr>
            <a:xfrm>
              <a:off x="27720" y="990720"/>
              <a:ext cx="939960" cy="760680"/>
              <a:chOff x="27720" y="990720"/>
              <a:chExt cx="939960" cy="760680"/>
            </a:xfrm>
          </p:grpSpPr>
          <p:sp>
            <p:nvSpPr>
              <p:cNvPr id="14" name=""/>
              <p:cNvSpPr/>
              <p:nvPr/>
            </p:nvSpPr>
            <p:spPr>
              <a:xfrm flipH="1" rot="8916600">
                <a:off x="38160" y="1238040"/>
                <a:ext cx="919080" cy="29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1102"/>
                    </a:moveTo>
                    <a:arcTo wR="10800" hR="10800" stAng="96163" swAng="106714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1102"/>
                    </a:moveTo>
                    <a:arcTo wR="10800" hR="10800" stAng="96163" swAng="10671432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" name=""/>
              <p:cNvGrpSpPr/>
              <p:nvPr/>
            </p:nvGrpSpPr>
            <p:grpSpPr>
              <a:xfrm>
                <a:off x="222480" y="1165320"/>
                <a:ext cx="566640" cy="428400"/>
                <a:chOff x="222480" y="1165320"/>
                <a:chExt cx="566640" cy="428400"/>
              </a:xfrm>
            </p:grpSpPr>
            <p:sp>
              <p:nvSpPr>
                <p:cNvPr id="16" name=""/>
                <p:cNvSpPr txBox="1"/>
                <p:nvPr/>
              </p:nvSpPr>
              <p:spPr>
                <a:xfrm>
                  <a:off x="554040" y="1165320"/>
                  <a:ext cx="23508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I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7" name=""/>
                <p:cNvSpPr txBox="1"/>
                <p:nvPr/>
              </p:nvSpPr>
              <p:spPr>
                <a:xfrm>
                  <a:off x="222480" y="1165320"/>
                  <a:ext cx="28332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S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18" name=""/>
              <p:cNvSpPr/>
              <p:nvPr/>
            </p:nvSpPr>
            <p:spPr>
              <a:xfrm flipH="1" rot="8916600">
                <a:off x="36720" y="1237680"/>
                <a:ext cx="918360" cy="29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985"/>
                    </a:moveTo>
                    <a:arcTo wR="10800" hR="10800" stAng="10741070" swAng="111253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985"/>
                    </a:moveTo>
                    <a:arcTo wR="10800" hR="10800" stAng="10741070" swAng="11125369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 txBox="1"/>
              <p:nvPr/>
            </p:nvSpPr>
            <p:spPr>
              <a:xfrm>
                <a:off x="800280" y="990720"/>
                <a:ext cx="137880" cy="12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581ddb"/>
                        </a:gs>
                        <a:gs pos="100000">
                          <a:srgbClr val="000000"/>
                        </a:gs>
                      </a:gsLst>
                      <a:lin ang="13500000"/>
                    </a:gra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Times New Roman"/>
                  </a:rPr>
                  <a:t>e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581ddb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23880" y="2438280"/>
            <a:ext cx="7316640" cy="612720"/>
            <a:chOff x="1523880" y="2438280"/>
            <a:chExt cx="7316640" cy="612720"/>
          </a:xfrm>
        </p:grpSpPr>
        <p:sp>
          <p:nvSpPr>
            <p:cNvPr id="58" name=""/>
            <p:cNvSpPr/>
            <p:nvPr/>
          </p:nvSpPr>
          <p:spPr>
            <a:xfrm>
              <a:off x="8670600" y="2438280"/>
              <a:ext cx="1699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3880" y="3024360"/>
              <a:ext cx="7232400" cy="2664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738640" y="2584440"/>
              <a:ext cx="3060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29400" y="6324480"/>
            <a:ext cx="228600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15200" y="152280"/>
            <a:ext cx="21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l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sp>
          <p:nvSpPr>
            <p:cNvPr id="64" name=""/>
            <p:cNvSpPr/>
            <p:nvPr/>
          </p:nvSpPr>
          <p:spPr>
            <a:xfrm>
              <a:off x="0" y="0"/>
              <a:ext cx="990720" cy="6856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0"/>
              <a:ext cx="152280" cy="838080"/>
            </a:xfrm>
            <a:prstGeom prst="rect">
              <a:avLst/>
            </a:prstGeom>
            <a:solidFill>
              <a:srgbClr val="00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0" y="6019920"/>
              <a:ext cx="99072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" name=""/>
            <p:cNvGrpSpPr/>
            <p:nvPr/>
          </p:nvGrpSpPr>
          <p:grpSpPr>
            <a:xfrm>
              <a:off x="27720" y="990720"/>
              <a:ext cx="939960" cy="760680"/>
              <a:chOff x="27720" y="990720"/>
              <a:chExt cx="939960" cy="760680"/>
            </a:xfrm>
          </p:grpSpPr>
          <p:sp>
            <p:nvSpPr>
              <p:cNvPr id="68" name=""/>
              <p:cNvSpPr/>
              <p:nvPr/>
            </p:nvSpPr>
            <p:spPr>
              <a:xfrm flipH="1" rot="8916600">
                <a:off x="38160" y="1238040"/>
                <a:ext cx="919080" cy="29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1102"/>
                    </a:moveTo>
                    <a:arcTo wR="10800" hR="10800" stAng="96163" swAng="106714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1102"/>
                    </a:moveTo>
                    <a:arcTo wR="10800" hR="10800" stAng="96163" swAng="10671432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222480" y="1165320"/>
                <a:ext cx="566640" cy="428400"/>
                <a:chOff x="222480" y="1165320"/>
                <a:chExt cx="566640" cy="428400"/>
              </a:xfrm>
            </p:grpSpPr>
            <p:sp>
              <p:nvSpPr>
                <p:cNvPr id="70" name=""/>
                <p:cNvSpPr txBox="1"/>
                <p:nvPr/>
              </p:nvSpPr>
              <p:spPr>
                <a:xfrm>
                  <a:off x="554040" y="1165320"/>
                  <a:ext cx="23508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I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222480" y="1165320"/>
                  <a:ext cx="28332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S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 flipH="1" rot="8916600">
                <a:off x="36720" y="1237680"/>
                <a:ext cx="918360" cy="29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985"/>
                    </a:moveTo>
                    <a:arcTo wR="10800" hR="10800" stAng="10741070" swAng="111253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985"/>
                    </a:moveTo>
                    <a:arcTo wR="10800" hR="10800" stAng="10741070" swAng="11125369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 txBox="1"/>
              <p:nvPr/>
            </p:nvSpPr>
            <p:spPr>
              <a:xfrm>
                <a:off x="800280" y="990720"/>
                <a:ext cx="137880" cy="12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581ddb"/>
                        </a:gs>
                        <a:gs pos="100000">
                          <a:srgbClr val="000000"/>
                        </a:gs>
                      </a:gsLst>
                      <a:lin ang="13500000"/>
                    </a:gra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Times New Roman"/>
                  </a:rPr>
                  <a:t>e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581ddb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>
            <a:off x="990720" y="6172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-fmec.fm.intel.com/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209680" y="1371600"/>
          <a:ext cx="5715000" cy="49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1600"/>
                    <a:ext cx="5715000" cy="49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18960" y="1066320"/>
            <a:ext cx="7391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 Interconnect Modeling   Specification (ICM) Stat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chael Mirma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 Corpo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Summit at DesignCon East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23,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0089-AF45-40FE-947D-B8568F38B29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ong Term Issu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CM cookbook needed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provide guidance to model buil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approach from 1997 IBIS 2.1 Cookb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okbook top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keyw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nation of key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ound 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turn pa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best known modeling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asurement vs. sim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complete 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C7661-9419-4B30-A00C-7000ECE328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CM is an evolution of IBIS package and PCB modeling forma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fficial 1.0 pending Open Forum approv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lease review the ICM Final Draf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ments and test models are appreciated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anks to the Connector Subcommitt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70960" y="403704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ohn Angulo             Arpad Murany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elly Gree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Augusto Pan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ynne Green             Stephen P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b R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31240" y="5200560"/>
            <a:ext cx="5947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 to the many other individu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 groups who contribut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E1E5-C3AD-483C-90C8-103ABBEDAE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 an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ee Discus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DC82-9644-45AD-9D2E-919B70B5F4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7EB8-8359-4ABC-9624-734DA53358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-parameter Data Forma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ingle-end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defined per node + reference: S12, S2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ixed-mode (usually differential pai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&amp; Differential excitation and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defined per node pair: SDD12, SDD2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defined per node pair + reference: SCC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lti-mode” (not covered by any spec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itation and response for n-node gro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S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5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51A2E-AE7B-4508-A211-329CB45E4C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-parameter Data Forma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ingle-en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ixed-mode (usually differential pai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lti-mode” (not covered by any spec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48120" y="1752480"/>
            <a:ext cx="3276360" cy="380880"/>
            <a:chOff x="3048120" y="1752480"/>
            <a:chExt cx="3276360" cy="380880"/>
          </a:xfrm>
        </p:grpSpPr>
        <p:sp>
          <p:nvSpPr>
            <p:cNvPr id="155" name=""/>
            <p:cNvSpPr/>
            <p:nvPr/>
          </p:nvSpPr>
          <p:spPr>
            <a:xfrm>
              <a:off x="5943600" y="1752480"/>
              <a:ext cx="380880" cy="380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76720" y="1752480"/>
              <a:ext cx="2819160" cy="380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8120" y="1752480"/>
              <a:ext cx="380880" cy="380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19920" y="1752480"/>
              <a:ext cx="152280" cy="380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19920" y="1752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9920" y="2133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786040" y="1943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15120" y="193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87480" y="177012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o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78880" y="177012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or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60720" y="3238560"/>
            <a:ext cx="3276360" cy="380880"/>
            <a:chOff x="3060720" y="3238560"/>
            <a:chExt cx="3276360" cy="380880"/>
          </a:xfrm>
        </p:grpSpPr>
        <p:sp>
          <p:nvSpPr>
            <p:cNvPr id="166" name=""/>
            <p:cNvSpPr/>
            <p:nvPr/>
          </p:nvSpPr>
          <p:spPr>
            <a:xfrm>
              <a:off x="5956200" y="3238560"/>
              <a:ext cx="380880" cy="380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89320" y="3238560"/>
              <a:ext cx="2819160" cy="380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60720" y="3238560"/>
              <a:ext cx="380880" cy="380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32520" y="3238560"/>
              <a:ext cx="152280" cy="380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32520" y="32385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32520" y="36194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79864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7720" y="3424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5520" y="351000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o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83440" y="353520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or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035160" y="3835440"/>
            <a:ext cx="3276360" cy="380880"/>
            <a:chOff x="3035160" y="3835440"/>
            <a:chExt cx="3276360" cy="380880"/>
          </a:xfrm>
        </p:grpSpPr>
        <p:sp>
          <p:nvSpPr>
            <p:cNvPr id="177" name=""/>
            <p:cNvSpPr/>
            <p:nvPr/>
          </p:nvSpPr>
          <p:spPr>
            <a:xfrm>
              <a:off x="5930640" y="3835440"/>
              <a:ext cx="380880" cy="380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63760" y="3835440"/>
              <a:ext cx="2819160" cy="380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35160" y="3835440"/>
              <a:ext cx="380880" cy="380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06960" y="3835440"/>
              <a:ext cx="152280" cy="380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6960" y="38354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6960" y="4216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773440" y="4025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02520" y="4021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51240" y="3149640"/>
            <a:ext cx="139680" cy="1104840"/>
          </a:xfrm>
          <a:custGeom>
            <a:avLst/>
            <a:gdLst>
              <a:gd name="textAreaLeft" fmla="*/ 89280 w 139680"/>
              <a:gd name="textAreaRight" fmla="*/ 140040 w 139680"/>
              <a:gd name="textAreaTop" fmla="*/ 28800 h 1104840"/>
              <a:gd name="textAreaBottom" fmla="*/ 1076040 h 110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896160" y="3149640"/>
            <a:ext cx="139680" cy="1104840"/>
          </a:xfrm>
          <a:custGeom>
            <a:avLst/>
            <a:gdLst>
              <a:gd name="textAreaLeft" fmla="*/ 89640 w 139680"/>
              <a:gd name="textAreaRight" fmla="*/ 140400 w 139680"/>
              <a:gd name="textAreaTop" fmla="*/ 28800 h 1104840"/>
              <a:gd name="textAreaBottom" fmla="*/ 1076040 h 110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662200" y="2185920"/>
            <a:ext cx="318960" cy="325440"/>
            <a:chOff x="2662200" y="2185920"/>
            <a:chExt cx="318960" cy="325440"/>
          </a:xfrm>
        </p:grpSpPr>
        <p:sp>
          <p:nvSpPr>
            <p:cNvPr id="188" name=""/>
            <p:cNvSpPr/>
            <p:nvPr/>
          </p:nvSpPr>
          <p:spPr>
            <a:xfrm>
              <a:off x="2822400" y="2185920"/>
              <a:ext cx="0" cy="19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62200" y="2363760"/>
              <a:ext cx="3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14760" y="2440080"/>
              <a:ext cx="20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57600" y="2511360"/>
              <a:ext cx="12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599160" y="2147760"/>
            <a:ext cx="318960" cy="325440"/>
            <a:chOff x="6599160" y="2147760"/>
            <a:chExt cx="318960" cy="325440"/>
          </a:xfrm>
        </p:grpSpPr>
        <p:sp>
          <p:nvSpPr>
            <p:cNvPr id="193" name=""/>
            <p:cNvSpPr/>
            <p:nvPr/>
          </p:nvSpPr>
          <p:spPr>
            <a:xfrm>
              <a:off x="6759360" y="2147760"/>
              <a:ext cx="0" cy="19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99160" y="2325600"/>
              <a:ext cx="3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1720" y="2401920"/>
              <a:ext cx="20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94560" y="2473200"/>
              <a:ext cx="12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637000" y="4395960"/>
            <a:ext cx="318960" cy="325440"/>
            <a:chOff x="2637000" y="4395960"/>
            <a:chExt cx="318960" cy="325440"/>
          </a:xfrm>
        </p:grpSpPr>
        <p:sp>
          <p:nvSpPr>
            <p:cNvPr id="198" name=""/>
            <p:cNvSpPr/>
            <p:nvPr/>
          </p:nvSpPr>
          <p:spPr>
            <a:xfrm>
              <a:off x="2797200" y="4395960"/>
              <a:ext cx="0" cy="190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37000" y="4573800"/>
              <a:ext cx="31896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89560" y="4650120"/>
              <a:ext cx="20952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32400" y="4721400"/>
              <a:ext cx="12852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573960" y="4408560"/>
            <a:ext cx="318960" cy="325440"/>
            <a:chOff x="6573960" y="4408560"/>
            <a:chExt cx="318960" cy="325440"/>
          </a:xfrm>
        </p:grpSpPr>
        <p:sp>
          <p:nvSpPr>
            <p:cNvPr id="203" name=""/>
            <p:cNvSpPr/>
            <p:nvPr/>
          </p:nvSpPr>
          <p:spPr>
            <a:xfrm>
              <a:off x="6734160" y="4408560"/>
              <a:ext cx="0" cy="190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73960" y="4586400"/>
              <a:ext cx="31896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26520" y="4662720"/>
              <a:ext cx="20952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69360" y="4734000"/>
              <a:ext cx="12852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984400" y="5435640"/>
            <a:ext cx="3276360" cy="380880"/>
            <a:chOff x="2984400" y="5435640"/>
            <a:chExt cx="3276360" cy="380880"/>
          </a:xfrm>
        </p:grpSpPr>
        <p:sp>
          <p:nvSpPr>
            <p:cNvPr id="208" name=""/>
            <p:cNvSpPr/>
            <p:nvPr/>
          </p:nvSpPr>
          <p:spPr>
            <a:xfrm>
              <a:off x="5879880" y="5435640"/>
              <a:ext cx="380880" cy="380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13000" y="5435640"/>
              <a:ext cx="2819160" cy="380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84400" y="5435640"/>
              <a:ext cx="380880" cy="380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56200" y="5435640"/>
              <a:ext cx="152280" cy="380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56200" y="5435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56200" y="58165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722680" y="5626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51400" y="5621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05080" y="554184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o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85320" y="555480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or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598840" y="5869080"/>
            <a:ext cx="318960" cy="325440"/>
            <a:chOff x="2598840" y="5869080"/>
            <a:chExt cx="318960" cy="325440"/>
          </a:xfrm>
        </p:grpSpPr>
        <p:sp>
          <p:nvSpPr>
            <p:cNvPr id="219" name=""/>
            <p:cNvSpPr/>
            <p:nvPr/>
          </p:nvSpPr>
          <p:spPr>
            <a:xfrm>
              <a:off x="2759040" y="5869080"/>
              <a:ext cx="0" cy="190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8840" y="6046920"/>
              <a:ext cx="31896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51400" y="6123240"/>
              <a:ext cx="20952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94240" y="6194520"/>
              <a:ext cx="12852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535800" y="5830920"/>
            <a:ext cx="318960" cy="325440"/>
            <a:chOff x="6535800" y="5830920"/>
            <a:chExt cx="318960" cy="325440"/>
          </a:xfrm>
        </p:grpSpPr>
        <p:sp>
          <p:nvSpPr>
            <p:cNvPr id="224" name=""/>
            <p:cNvSpPr/>
            <p:nvPr/>
          </p:nvSpPr>
          <p:spPr>
            <a:xfrm>
              <a:off x="6696000" y="5830920"/>
              <a:ext cx="0" cy="190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35800" y="6008760"/>
              <a:ext cx="31896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88360" y="6085080"/>
              <a:ext cx="20952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31200" y="6156360"/>
              <a:ext cx="12852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H="1">
            <a:off x="4228920" y="5334120"/>
            <a:ext cx="634680" cy="622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75080" y="5935680"/>
            <a:ext cx="33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73400" y="5181480"/>
            <a:ext cx="139680" cy="1105200"/>
          </a:xfrm>
          <a:custGeom>
            <a:avLst/>
            <a:gdLst>
              <a:gd name="textAreaLeft" fmla="*/ 89280 w 139680"/>
              <a:gd name="textAreaRight" fmla="*/ 140040 w 139680"/>
              <a:gd name="textAreaTop" fmla="*/ 28800 h 1105200"/>
              <a:gd name="textAreaBottom" fmla="*/ 1076400 h 110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985080" y="5181480"/>
            <a:ext cx="139680" cy="1105200"/>
          </a:xfrm>
          <a:custGeom>
            <a:avLst/>
            <a:gdLst>
              <a:gd name="textAreaLeft" fmla="*/ 89640 w 139680"/>
              <a:gd name="textAreaRight" fmla="*/ 140400 w 139680"/>
              <a:gd name="textAreaTop" fmla="*/ 28800 h 1105200"/>
              <a:gd name="textAreaBottom" fmla="*/ 1076400 h 110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54507-E1D3-462D-B2E4-760102E492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uchstone® Vari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pec. defines data placement conven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ny model authors use general format, but define data placement through com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162560" cy="568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600200" y="4419720"/>
            <a:ext cx="647712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 MHz  Y MA R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! Data is Freq SDD11  SDD12  SDD21  SDD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!              SCC11  SCC12  SCC21  SCC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0 1.7784797E-01   -80.863279   1.7863314E-01   99.0538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8696562E-02   104.003821   3.8770346E-02   -76.0721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4735915E-07   151.207214   2.4624379E-07   -29.1426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1760443E-07  -166.479698   3.1562825E-07   13.5852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2286000"/>
            <a:ext cx="4114800" cy="1388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4-port network 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&lt;frequency value&gt;  &lt;N11&gt; &lt;N12&gt; &lt;N13&gt; &lt;N14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&lt;N21&gt; &lt;N22&gt; &lt;N23&gt; &lt;N24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&lt;N31&gt; &lt;N32&gt; &lt;N33&gt; &lt;N34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&lt;N41&gt; &lt;N42&gt; &lt;N43&gt; &lt;N44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AD6A-5066-4B01-8AEC-4B79DDB805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1143000"/>
            <a:ext cx="7543800" cy="47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Begin Head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ICM Ver]            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File Name]           iconm_hdi_202.i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File Rev]            1.0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Date]                May 29, 2003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Source]              Results from field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Notes]               This is a test model on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Disclaimer]          This information is for modelin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purposes only, and is not guarante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Copyright]           Copyright 2003, XYZ Corp.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Support]             http://www.VendorNameIbisModels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edistribution]      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edistribution Text] This file is freely redistribut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End Head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5DDD-E0A7-4B85-9017-D98F02362E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 (2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1143000"/>
            <a:ext cx="754380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Begin ICM Family]    High_Speed_Interconn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Manufacturer]        XYZ Incorpor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ICM Family Description]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gh Density square pin connector for use on IEEE 99999 bu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==============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ICM Model Lis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Name                 Mating      Min_Slew_Tim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y ModelExample3         Mated          100ps  HDI_202_Mated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HDI_202_UnMatedA        Unmated_side_A 100ps  HDI_202_UnMatedA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HDI_202_SMT_to_Cable    Mated           25ps  HDI_TEST_202_Mated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HDI_202_SMT_to_ThruHole Mated           25ps  HDI_202_Mated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==============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C6C2C-B071-4BFA-B5C3-68753043B2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 (3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1143000"/>
            <a:ext cx="754380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Begin ICM Model] MyModelExample3        | Has a stub fork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CM_Model_Type M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Begin ICM Model Descriptio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gh Density 0.1 center square pin with PCB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Tree Path Descriptio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el_PinMap Baseboard_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ction Mult=1 Secti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ction Mult=1 StubSectio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_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ction Mult=1 Section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el_PinMap Output_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End ICM Model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                   SectionA  Section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   Baseboard_side &gt;---------+--------&lt; Output_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                   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                            | StubSectio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4600-883C-4D1E-BE13-EDDBF7545F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CM Refres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al 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cent His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anges in Final Draft 1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hort Term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Longer 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technical improv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ston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kboo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k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-parameter backgrou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Example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3BC0-DC40-483A-8B91-841E07AC6D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 (4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1143000"/>
            <a:ext cx="541008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ICM Pin Map] Baseboard_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n_order = Row_ord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um_of_columns =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um_of_rows 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n_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Pin 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1  PERR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2  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3  AD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4  AD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1  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2 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3  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4 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[ICM Pin Map] Output_side omitted for cl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End ICM Family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343400" y="2362320"/>
            <a:ext cx="2438280" cy="1937520"/>
            <a:chOff x="4343400" y="2362320"/>
            <a:chExt cx="2438280" cy="1937520"/>
          </a:xfrm>
        </p:grpSpPr>
        <p:sp>
          <p:nvSpPr>
            <p:cNvPr id="250" name=""/>
            <p:cNvSpPr/>
            <p:nvPr/>
          </p:nvSpPr>
          <p:spPr>
            <a:xfrm>
              <a:off x="4343400" y="2743200"/>
              <a:ext cx="2438280" cy="1143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95680" y="2895480"/>
              <a:ext cx="381240" cy="381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05520" y="2895480"/>
              <a:ext cx="380880" cy="381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15000" y="2895480"/>
              <a:ext cx="380880" cy="381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24480" y="2895480"/>
              <a:ext cx="381240" cy="381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95680" y="3352680"/>
              <a:ext cx="381240" cy="381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05520" y="3352680"/>
              <a:ext cx="380880" cy="381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15000" y="3352680"/>
              <a:ext cx="380880" cy="381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24480" y="3352680"/>
              <a:ext cx="381240" cy="381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45280" y="2362320"/>
              <a:ext cx="42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54760" y="2362320"/>
              <a:ext cx="42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64600" y="2362320"/>
              <a:ext cx="42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74080" y="2362320"/>
              <a:ext cx="42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A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44560" y="39625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4040" y="39625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63880" y="39625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73360" y="39625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B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1CD55-77A2-4B11-87CF-8046E0C0EE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 (5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1143000"/>
            <a:ext cx="754380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Begin ICM Section] Secti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Derivation Method] Lump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Inductance Matrix] Full_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ow]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.04859e-07      4.73185e-08      1.3428e-08     6.12191e-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.74022e-07      7.35469e-08     2.73201e-08     1.33807e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ow]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.04859e-07      4.73185e-08      1.3428e-08     7.35469e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.74022e-07      7.35469e-08     2.73201e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2BE5-4794-4D42-B200-9234E507D7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 (6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1143000"/>
            <a:ext cx="754380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Capacitance Matrix] Sparse_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ow]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       2.48227e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       -1.56651e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       -9.54158e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       -7.15684e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ow]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       2.51798e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       -1.56552e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       -6.85199e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        -9.0486e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End ICM Sectio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SectionB and StubSection1 omitted for cl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E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94B7-7169-4D82-86BE-9AF5314878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Refresh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C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IB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er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nec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deling Specific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o establish a human-readable standard format for exchanging interconnect model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connect” can be connector, cable, PCB traces or even an IC pack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CM uses a two-part forma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model in terms of one or more sections with terminals mapped to named pin/node 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dal arrangement with explicit interconn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ee arrangement with implicit interconn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data describing each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LGC matrix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-parameter data (external Touchstone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i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BD2A-7972-4689-AEC4-AEFDD72636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Partial Examp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3219480"/>
            <a:ext cx="3810240" cy="2832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8077320" cy="879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069160" y="2590920"/>
            <a:ext cx="5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2057400"/>
            <a:ext cx="289548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867280" y="2286000"/>
            <a:ext cx="236232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8880" y="2819520"/>
            <a:ext cx="1748880" cy="33732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ree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65720" y="2819520"/>
            <a:ext cx="1890720" cy="33732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odal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95680" y="5486040"/>
            <a:ext cx="419112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 more formal example is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t the end of this presentation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200400"/>
            <a:ext cx="47242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[Begin ICM Model] MyModelExample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ICM_model_type ML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[Nodal Path Description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Model_nodemap Port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N_section (A1 A2 A3 A4 A5 11 12 13 14 15) Len=1.0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N_section (11 12 13 14 15 21 22 23 24 25) Len=1.0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N_section (21 22 23 24 25 31 32 33 34 35) Len=1.0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N_section (31 32 33 34 35 s1 s2 s3 s4 s5) Len=1.0 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N_section (s1 s2 s3 s4 s5 F1 F2 F3 F4 F5) Len=1.0 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Model_nodemap Port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N_section (s1 s2 s3 s4 s5 E1 E2 E3 E4 E5) Len=1.0 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Model_nodemap Port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[End ICM Model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BD40-43A3-4D6B-AE90-A781E21EC7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Histo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itial concept developed 1995 - 1997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BIS Connector/Futures Subcommitt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poradic revisions 1999 – 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ternal Draft 1.0 released Sept. 19, 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mmittee Internal Drafts 1.0a – 1.0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al Draft 1.0 released publicly May 16, 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IBIS web site under “Connector Info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5660-FF14-46D4-80B3-D0D8158733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Changed in Final Draft 1.0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ver 63 issues formally logged since Sept. 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han two dozen additional small issues resol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st changes were editor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lling, punctuation and gramm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ization to improve software par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 changes for consistency with IBIS 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me technical limitations establish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LGC and S-parameter sections not permitted within the same model (allowed in the same fi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-parameter data only to be used with [Nodal Path Description] keyw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icit use of single-ended ports for S-parameter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9560" y="5715000"/>
            <a:ext cx="389016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ore details under “Long-Term Issu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E2C9-2028-4459-A59E-40BDF9E97E0A}" type="slidenum">
              <a:t>6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hort-Term Futu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CM now in IBIS Open Forum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icially introduced at May 30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um of three Open Forum meetings must consider the document before an official vo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ser in development – tentatively available for initial testing after Open Forum approv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terested parties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strongly encouraged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o provide feedback and test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l free to provide or construct ICM models using “favorite interconnects” for tes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package which is inconvenient or impossible to describe using IBIS .PK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208B5-88AC-426C-84B4-A21E0FF748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Improvem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fter 1.0 is approved by the Open Forum, several technical issues may be considered for future revi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multiple types of data within a single [Begin ICM Model]/[End ICM Model] pai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Include S-paramete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LGC dat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frequency-dependence in RLGC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Matrix parameters for 1 MHz, 100 MHz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formal “BIRD-like” procedure will be established to document and process change propos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0745-9CB1-4EEE-8B87-5FEC409ED2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ong Term Issu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6856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Using ICM with IBIS mode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explicit links to IBIS in ICM or vice-ver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ied that data files are linked through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or ICM BIRDs for cross-referencing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ouchstone</a:t>
            </a:r>
            <a:r>
              <a:rPr b="1" lang="en-US" sz="22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®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and mixed-mode S-parame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M maps section nodes to 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ts are implied to be single-en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uchst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mat establishes regular data forma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ments, options, frequency and S, Y, Z, H, G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rpretation of data assumes single-ended (S12, etc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xed-mode (SDD12, SCD22, etc.)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me authors release mixed-mode Touchstone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 format is standard, but interpretation is n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New Touchstone needed for mixed-/multi-mod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4F35-2F67-419E-8748-1B83F36B14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9T02:00:46Z</dcterms:created>
  <dc:creator>Michael Mirmak</dc:creator>
  <dc:description/>
  <dc:language>en-US</dc:language>
  <cp:lastModifiedBy>Michael Mirmak</cp:lastModifiedBy>
  <cp:lastPrinted>1998-11-04T21:31:56Z</cp:lastPrinted>
  <dcterms:modified xsi:type="dcterms:W3CDTF">2003-06-14T05:18:43Z</dcterms:modified>
  <cp:revision>534</cp:revision>
  <dc:subject>IBIS Interconnect Modeling Specification</dc:subject>
  <dc:title>ICM Status Update</dc:title>
</cp:coreProperties>
</file>