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629C-21C0-41E6-B824-714D64BDE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57532-843E-48B1-A39D-A35558E43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F9BD2-D957-4152-96D0-73DE14C39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79188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3620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4756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79188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3620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3104B-5C8A-4DB9-B117-2A598F9E4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522080" y="-360"/>
            <a:ext cx="708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21588-5CB2-4D0F-98A5-C0B814A7B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79188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3620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4756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79188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3620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BD58-BAC3-4AAA-996C-0DA222616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4E08A-D91E-41FA-BB41-535656A6E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D873A-A6EC-4826-9256-29290390C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2080" y="-360"/>
            <a:ext cx="708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506D-423A-4AAA-A562-A29BDA6DD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26E6-21C3-4405-99A0-EFF9A6E31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0260-502B-4003-9702-B0DEEEB9E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875A-343A-4C7A-9A80-2D034F04E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23760" y="6248520"/>
            <a:ext cx="32990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6/11/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brands and names are the property of their respective own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266720" y="62485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4BDF15-054F-4CBA-A51E-807031F2BDF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219320" y="457200"/>
            <a:ext cx="7544880" cy="612720"/>
            <a:chOff x="1219320" y="457200"/>
            <a:chExt cx="7544880" cy="612720"/>
          </a:xfrm>
        </p:grpSpPr>
        <p:sp>
          <p:nvSpPr>
            <p:cNvPr id="4" name=""/>
            <p:cNvSpPr/>
            <p:nvPr/>
          </p:nvSpPr>
          <p:spPr>
            <a:xfrm>
              <a:off x="8588880" y="457200"/>
              <a:ext cx="1753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219320" y="1042920"/>
              <a:ext cx="745812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659080" y="603360"/>
              <a:ext cx="3168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sp>
          <p:nvSpPr>
            <p:cNvPr id="9" name=""/>
            <p:cNvSpPr/>
            <p:nvPr/>
          </p:nvSpPr>
          <p:spPr>
            <a:xfrm>
              <a:off x="0" y="0"/>
              <a:ext cx="990720" cy="6856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4400" y="0"/>
              <a:ext cx="152280" cy="838080"/>
            </a:xfrm>
            <a:prstGeom prst="rect">
              <a:avLst/>
            </a:prstGeom>
            <a:solidFill>
              <a:srgbClr val="00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2"/>
            <a:stretch/>
          </p:blipFill>
          <p:spPr>
            <a:xfrm>
              <a:off x="0" y="6019920"/>
              <a:ext cx="99072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" name=""/>
            <p:cNvGrpSpPr/>
            <p:nvPr/>
          </p:nvGrpSpPr>
          <p:grpSpPr>
            <a:xfrm>
              <a:off x="27720" y="990720"/>
              <a:ext cx="939960" cy="760680"/>
              <a:chOff x="27720" y="990720"/>
              <a:chExt cx="939960" cy="760680"/>
            </a:xfrm>
          </p:grpSpPr>
          <p:sp>
            <p:nvSpPr>
              <p:cNvPr id="13" name=""/>
              <p:cNvSpPr/>
              <p:nvPr/>
            </p:nvSpPr>
            <p:spPr>
              <a:xfrm flipH="1" rot="8916600">
                <a:off x="38160" y="1238040"/>
                <a:ext cx="919080" cy="29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1102"/>
                    </a:moveTo>
                    <a:arcTo wR="10800" hR="10800" stAng="96163" swAng="106714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1102"/>
                    </a:moveTo>
                    <a:arcTo wR="10800" hR="10800" stAng="96163" swAng="10671432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" name=""/>
              <p:cNvGrpSpPr/>
              <p:nvPr/>
            </p:nvGrpSpPr>
            <p:grpSpPr>
              <a:xfrm>
                <a:off x="222480" y="1165320"/>
                <a:ext cx="566640" cy="428400"/>
                <a:chOff x="222480" y="1165320"/>
                <a:chExt cx="566640" cy="428400"/>
              </a:xfrm>
            </p:grpSpPr>
            <p:sp>
              <p:nvSpPr>
                <p:cNvPr id="15" name=""/>
                <p:cNvSpPr txBox="1"/>
                <p:nvPr/>
              </p:nvSpPr>
              <p:spPr>
                <a:xfrm>
                  <a:off x="554040" y="1165320"/>
                  <a:ext cx="23508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I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6" name=""/>
                <p:cNvSpPr txBox="1"/>
                <p:nvPr/>
              </p:nvSpPr>
              <p:spPr>
                <a:xfrm>
                  <a:off x="222480" y="1165320"/>
                  <a:ext cx="28332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S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17" name=""/>
              <p:cNvSpPr/>
              <p:nvPr/>
            </p:nvSpPr>
            <p:spPr>
              <a:xfrm flipH="1" rot="8916600">
                <a:off x="36720" y="1237680"/>
                <a:ext cx="918360" cy="29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985"/>
                    </a:moveTo>
                    <a:arcTo wR="10800" hR="10800" stAng="10741070" swAng="111253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985"/>
                    </a:moveTo>
                    <a:arcTo wR="10800" hR="10800" stAng="10741070" swAng="11125369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 txBox="1"/>
              <p:nvPr/>
            </p:nvSpPr>
            <p:spPr>
              <a:xfrm>
                <a:off x="800280" y="990720"/>
                <a:ext cx="137880" cy="12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581ddb"/>
                        </a:gs>
                        <a:gs pos="100000">
                          <a:srgbClr val="000000"/>
                        </a:gs>
                      </a:gsLst>
                      <a:lin ang="13500000"/>
                    </a:gra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Times New Roman"/>
                  </a:rPr>
                  <a:t>e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581ddb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23880" y="2438280"/>
            <a:ext cx="7316640" cy="612720"/>
            <a:chOff x="1523880" y="2438280"/>
            <a:chExt cx="7316640" cy="612720"/>
          </a:xfrm>
        </p:grpSpPr>
        <p:sp>
          <p:nvSpPr>
            <p:cNvPr id="57" name=""/>
            <p:cNvSpPr/>
            <p:nvPr/>
          </p:nvSpPr>
          <p:spPr>
            <a:xfrm>
              <a:off x="8670600" y="2438280"/>
              <a:ext cx="1699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3880" y="3024360"/>
              <a:ext cx="7232400" cy="2664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738640" y="2584440"/>
              <a:ext cx="3060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0"/>
            <a:ext cx="990720" cy="6856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6019920"/>
            <a:ext cx="990720" cy="609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2058480"/>
            <a:ext cx="6629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of IBIS Repo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0" y="3886200"/>
            <a:ext cx="5486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hael Mirma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Cor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Con E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23,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08804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day's Meet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ate of IBIS 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port from the Quality Committ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CM Specification 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havioral Modeling using VHDL-A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BIS Models at Gigahertz Spe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port on IBIS 4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BIS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ief View of IBIS Model Overcloc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-depth Look at On-die Termin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 Hoc Discus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34CA-478E-4E9F-AAB6-33F3ACA6DC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atus Updat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1426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BIS Open Forum - Entering Our Eleventh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3.2 is truly becoming an international 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ong European interest in EMC ext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ued interest in Japan regarding IBIS us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pite economic downturn, membership remains solid (25 paid members), with 350-400 on the refl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Committee remains active and produ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ignificant Events of the Past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4.0 approved, parser development under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-lingual modeling is a now an official part of IB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ft 1.0 ICM Specification has been released for 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5181480"/>
            <a:ext cx="7010640" cy="752040"/>
          </a:xfrm>
          <a:prstGeom prst="rect">
            <a:avLst/>
          </a:prstGeom>
          <a:noFill/>
          <a:ln w="2844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66"/>
                </a:solidFill>
                <a:latin typeface="Arial"/>
              </a:rPr>
              <a:t>The IBIS Open Forum is still leading the trend toward behavioral I/O buffer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8969-CB08-4B0C-8C1B-A93828597A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80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hallenges For The Futu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61976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ster Wider Industry Acceptance of Behavioral I/O Mode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rove IBIS 4.1, to enable EDA vendors and parser writers to support multi-lingual modeling ext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rove the Interconnect Modeling (ICM) Specification to address current package description nee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date the IBIS 2.1 “Cookbook” with 4.0/4.1 features and techniq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inue IBIS Model Quality Improv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able model developers to </a:t>
            </a:r>
            <a:r>
              <a:rPr b="1" i="1" lang="en-US" sz="1600" spc="-1" strike="noStrike">
                <a:solidFill>
                  <a:srgbClr val="009966"/>
                </a:solidFill>
                <a:latin typeface="Arial"/>
              </a:rPr>
              <a:t>create</a:t>
            </a:r>
            <a:r>
              <a:rPr b="1" lang="en-US" sz="1600" spc="-1" strike="noStrike">
                <a:solidFill>
                  <a:srgbClr val="0099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y mod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ower users to </a:t>
            </a:r>
            <a:r>
              <a:rPr b="1" i="1" lang="en-US" sz="1600" spc="-1" strike="noStrike">
                <a:solidFill>
                  <a:srgbClr val="009966"/>
                </a:solidFill>
                <a:latin typeface="Arial"/>
              </a:rPr>
              <a:t>recognize and dem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ood mod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rive Greater Integration of the IBIS and Design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read the word” on applying IBIS to today’s design challen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e that the needs of </a:t>
            </a:r>
            <a:r>
              <a:rPr b="1" i="1" lang="en-US" sz="1600" spc="-1" strike="noStrike">
                <a:solidFill>
                  <a:srgbClr val="009966"/>
                </a:solidFill>
                <a:latin typeface="Arial"/>
              </a:rPr>
              <a:t>our entir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base – automotive, consumer electronics, PC design, etc. – are met by IBI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inue to Support IBIS Technical Develop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, where appropriate, IBIS to support EMC/EM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igate the demand for XML-based pars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eep the Organization Str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n current members and find new 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tain financial solven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7A31-128F-40BD-82CF-CB9DEE8915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08804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ur Thanks to…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ephen Pe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 his service as Open Forum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ob Ro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 his continued behind-the-scenes efforts to advance IB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rry Kat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leading the IBIS Quality sub-committee and for extensive IBIS Summit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rpad Murany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ynne Gre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us Pan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their technical contributions and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oy Leventh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yed Hu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uy de Burg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andy Wolf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ohn Angu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their continuing eff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finally…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O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the EDA tool, model maker and model user communities, for your suggestions, participation and devotion to the work of the IBIS Open F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5D3FB-8DF3-4103-8610-836818CF4F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9T02:00:46Z</dcterms:created>
  <dc:creator>Michael Mirmak</dc:creator>
  <dc:description/>
  <dc:language>en-US</dc:language>
  <cp:lastModifiedBy>Michael Mirmak</cp:lastModifiedBy>
  <cp:lastPrinted>1998-11-04T21:31:56Z</cp:lastPrinted>
  <dcterms:modified xsi:type="dcterms:W3CDTF">2003-06-16T21:04:56Z</dcterms:modified>
  <cp:revision>450</cp:revision>
  <dc:subject/>
  <dc:title>IBIS Annual Report</dc:title>
</cp:coreProperties>
</file>