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5568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260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775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55680" y="8775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0F4270-106E-4365-A210-1EBD41682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9360" y="69048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8040" y="4387680"/>
            <a:ext cx="5581800" cy="41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important web sites and information about the IBIS qualit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955680" y="8775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0EA394-E825-4074-85D9-D866EBE69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775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5568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26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6960" y="4387320"/>
            <a:ext cx="55864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ry to popular belief, IBIS models can be extremely accurate over 1GHz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waveform overlay of Hspice and IBIS simulations of an LVDS interface running at 1.25G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 is excellent, time-shifts are intentional, but getting this level of correlation was not easy and not always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ases though this is the exception and not the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uld have not confidence in this model had I not run both IBIS and SP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IS work well at some varying frequencies, but a methodology is needed that supports both SPICE and IB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9360" y="69048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98040" y="4387680"/>
            <a:ext cx="5581800" cy="41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ing Cycle times and Increasing edge rates require Higher Quality IBI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9360" y="69048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98040" y="4387680"/>
            <a:ext cx="5581800" cy="41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IS Quality is achievable but requires hard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lide summarizes the IBIS quality Status Upd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79360" y="69048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8040" y="4387680"/>
            <a:ext cx="5581800" cy="41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a lot of recent accomplish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79360" y="69048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98040" y="4387680"/>
            <a:ext cx="5581800" cy="41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hat was already accomplished the last time we presented (Design c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9360" y="69048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98040" y="4387680"/>
            <a:ext cx="5581800" cy="41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have work to do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9360" y="69048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387680"/>
            <a:ext cx="5581800" cy="41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documentation c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79360" y="69048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98040" y="4387680"/>
            <a:ext cx="5581800" cy="41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s not changed since out inception . For those of you who didn’t attend PCB east we are summarizing our goals and char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9360" y="69048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98040" y="4387680"/>
            <a:ext cx="5581800" cy="41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active than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6A2-D20D-4629-B352-2B5FC238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D36-EA10-4DF2-A66A-C2A49818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256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30A-858B-407A-9A0F-5C1BA8E6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710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86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2AE-64FE-47E1-AC88-A446297C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BF3A-9DC8-4194-87B2-79A64E93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8B0B-7F0B-4E46-AA93-575A7B4A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EE56-E70F-4AE1-A26B-60C0FA3C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CA80-4215-4558-BBC5-51E74D1B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C17D-35AA-4029-8E69-31F471D9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30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6D70-4803-455A-9519-E80652FB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5B49-64B2-43C9-9595-7F7F70C0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067E-C621-4166-BDCB-0CD05E06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256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0420-83FD-451C-B0D7-F8ACA519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0944-B9FB-4744-A2DA-D9B8389F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1136-87FD-4CC4-889F-1BC13AE1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256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EBC6-C7EB-42F3-BACB-C819FCF1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710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986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FC1E-039E-4DF8-AA53-60A2777F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F74-A443-4EDC-BF5F-EA0110D3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01D-F788-4879-B6CE-ADD1935D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CC25-BF9B-4C1D-A6A5-8BDFE104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A406-6409-40C3-80D5-F059572C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E04-57D9-4119-BE7D-EFA9C7C2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256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B17E-69A2-4A19-BD12-964751D2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007-C85D-447F-80CA-82FCF2AB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92F3-1CD8-4073-8F23-1CE75F816259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91520" y="6172200"/>
            <a:ext cx="1447560" cy="411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pic>
        <p:nvPicPr>
          <p:cNvPr id="7" name="logo_apple" descr=""/>
          <p:cNvPicPr/>
          <p:nvPr/>
        </p:nvPicPr>
        <p:blipFill>
          <a:blip r:embed="rId4"/>
          <a:stretch/>
        </p:blipFill>
        <p:spPr>
          <a:xfrm>
            <a:off x="1219320" y="6095880"/>
            <a:ext cx="13716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9D82-26F8-4A26-9170-419619F7ACBF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36699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isoft.com/ibis-quality/minutes" TargetMode="External"/><Relationship Id="rId2" Type="http://schemas.openxmlformats.org/officeDocument/2006/relationships/hyperlink" Target="http://www.sisoft.com/ibis-quality" TargetMode="External"/><Relationship Id="rId3" Type="http://schemas.openxmlformats.org/officeDocument/2006/relationships/hyperlink" Target="http://www.sisoft.com/ibis-quality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4419360"/>
            <a:ext cx="76201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Kim Helliwell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Barry Katz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             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Apple Computer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Signal Integrity Software, Inc.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   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408-974-9936  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978-461-0449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6944" t="20834" r="6944" b="19446"/>
          <a:stretch/>
        </p:blipFill>
        <p:spPr>
          <a:xfrm>
            <a:off x="5638680" y="5257800"/>
            <a:ext cx="1676520" cy="474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52680" y="205740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logo_apple" descr=""/>
          <p:cNvPicPr/>
          <p:nvPr/>
        </p:nvPicPr>
        <p:blipFill>
          <a:blip r:embed="rId3"/>
          <a:stretch/>
        </p:blipFill>
        <p:spPr>
          <a:xfrm>
            <a:off x="3124080" y="5257800"/>
            <a:ext cx="1371600" cy="457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81080" y="609480"/>
            <a:ext cx="574704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Century Gothic"/>
              </a:rPr>
              <a:t>IBIS QUALITY COMMITTE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2406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 Subcommittee</a:t>
            </a:r>
            <a:br>
              <a:rPr sz="3600"/>
            </a:b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Additional Information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Mailing lis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bis-quality@freelists.org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http://www.freelists.org/archives/ibis-qualit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Web Site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336699"/>
                </a:solidFill>
                <a:uFillTx/>
                <a:latin typeface="Century Gothic"/>
              </a:rPr>
              <a:t>http://www.sisoft.com/ibis-qualit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http://www.sisoft.com/ibis-quality/minute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www.sisoft.com/ibis-quality</a:t>
            </a:r>
            <a:r>
              <a:rPr b="0" lang="en-GB" sz="2000" spc="-1" strike="noStrike" u="sng">
                <a:solidFill>
                  <a:srgbClr val="336699"/>
                </a:solidFill>
                <a:uFillTx/>
                <a:latin typeface="Century Gothic"/>
              </a:rPr>
              <a:t>/doc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http://www.v</a:t>
            </a:r>
            <a:r>
              <a:rPr b="0" lang="en-GB" sz="2000" spc="-1" strike="noStrike" u="sng">
                <a:solidFill>
                  <a:srgbClr val="336699"/>
                </a:solidFill>
                <a:uFillTx/>
                <a:latin typeface="Century Gothic"/>
              </a:rPr>
              <a:t>hdl.org/pub/ibis/bugs/ibischk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Goal of IQ Committee !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118" name="lvds_accuracy_125GHz" descr=""/>
          <p:cNvPicPr/>
          <p:nvPr/>
        </p:nvPicPr>
        <p:blipFill>
          <a:blip r:embed="rId1"/>
          <a:stretch/>
        </p:blipFill>
        <p:spPr>
          <a:xfrm>
            <a:off x="0" y="1066680"/>
            <a:ext cx="8991720" cy="578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“</a:t>
            </a: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Eye” Grabber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008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BIS QUALITY (IQ) Overview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520" y="15699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ndustry now requires accurate IBIS mode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Recent and previous accomplishment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To do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Document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Goa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Participant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Additional inform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BIS Quality subcommittee driving industry for high IQ IBIS models !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Recent Accomplishment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Detailed Reviewed of 7 IQ Document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Reference IBIS keyword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Quality level criteria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nput from industry IBIS exper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BUG71 Monotonic Parser Bug Approved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Open Forum assigned a status of 'Will Be Fixed'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Most common warning from Parser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Proposed checks replace the current check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BISCHK Messages Captured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Previous Accomplishment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mpiled and published IBIS Quality checklis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http://www.sisoft.com/ibis-quality/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Defined quality leve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0 – Passes IBISCHK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1 – Complete and correc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2a, 2b – Correlation: Simulation, Measuremen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Leverage off of IBIS Accuracy Handbook (spec)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3 – All of the above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Submitted multiple IBISCHK enhancement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Submitted IBIS Golden Parser open source proposa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reated, indexed first pass of document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To Do Lis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3 Documents Left to Review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VT curve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orrelation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SPICE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LAB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Possible Error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mpile into one documen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Update Checklis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Present to IBIS Open Forum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Documentation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Quality Summary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General Header Sec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mponent Sec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Model Sec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V and Clamp Curve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VT curve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Ramp Data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Waveform Processing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SPICE and LAB Correl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Possible Errors that should be checked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2406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Subcommittee Goal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Rating system that is easy to understand and adop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mmunicate to vendors/users.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ver overall file, component, and model section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heck for completeness, correctness, accuracy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Leverage off prior work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239400"/>
            <a:ext cx="72388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Subcommittee Participant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488"/>
              </a:spcBef>
              <a:buClr>
                <a:srgbClr val="336699"/>
              </a:buClr>
              <a:buSzPct val="83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mmittee is represented by broad cross-section of semiconductor vendors, EDA vendors, and IBIS end-users.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SiSoft - Barry Katz (Chairman), Robert Haller, Eric Brock, Kevin Fisher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Siemens – Eckhard Lenski, Katja Koller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IBM – Greg Edlund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Cadence – Lynne Green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Apple – John  Figueroa, Kim Helliwell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Mentor – Bob Ross, Hazem Hegazy, Sherif Hammad,  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Cisco – Mike LaBonte, Todd Westerhoff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EMC – Brian Arsenault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Hitachi ULSI Systems – Shoji Kazuyoshi, Nonoyama Sadahiro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Leventhal Design &amp; Communications – Roy Leventhal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Intel – Benjamin Silva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Teraspeed - Tom Dagostino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AMCC  - Peter LaFlamme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Fairchild – Adam Tambone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46:44Z</dcterms:created>
  <dc:creator>Barry Katz</dc:creator>
  <dc:description/>
  <dc:language>en-US</dc:language>
  <cp:lastModifiedBy>rhaller</cp:lastModifiedBy>
  <dcterms:modified xsi:type="dcterms:W3CDTF">2003-05-30T19:10:49Z</dcterms:modified>
  <cp:revision>27</cp:revision>
  <dc:subject/>
  <dc:title>IBIS QUALITY COMMITTEE REPORT Barry Katz Signal Integrity Software, Inc. 6 Clock Tower Place – Suite 250 Maynard MA. 01754 978-461-0449 X 19</dc:title>
</cp:coreProperties>
</file>