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C6D-B841-4263-B69D-5CD7B3BC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EA2-F324-442F-9734-AE6E9AA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BEB-D8AD-4D94-9FFA-A95837D5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CB8-ECAD-4673-982A-9ED25603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41A2-22F8-4876-8EDF-8E878A86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723-03CE-45D7-9C9B-B06FCD32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81C3-4CFD-44A9-BA83-A0E34EB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F36-7AD0-4054-BA34-6028249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821D-0D8F-4E39-925A-082BCF9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268-3C34-4AC7-8C37-EFB720D4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5FA-350E-4C9B-86ED-BB4DCE6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E14-60F2-488D-99FC-BCCD2F2B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202-7AF8-4B5C-91DD-9027763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F38-9295-4729-B958-8302B7F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283-2442-4793-8911-C813964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5CE8-1969-4B6B-9F30-16C1425D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808-9F13-464F-B218-C1CD0331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A94-1E2A-45F6-8983-E8B7683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424-D316-4D16-8515-FC16CD54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545-BC9C-4913-8CFE-47C3F17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4D0-A7E5-4740-B603-CED4F89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BBF-6E66-48FF-9736-FDA205B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CAA-FEE1-4218-B218-74A1D16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452-0303-4B2D-8FE3-16962D3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FAB-A5B9-472D-AAD0-EF11BADD2011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525-3200-4B7C-B877-370B130A3BDF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4812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4267080" y="4419720"/>
            <a:ext cx="3810240" cy="108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533520"/>
            <a:ext cx="80010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Models @ 1.25GHz and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DesignCon East June 23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952880"/>
            <a:ext cx="624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Bob H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Kevin M. Fis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ssue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ome simulators modify “non-traditional” IV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V curves not passing through (0, 0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VDS IBIS models are accurate only when same VDDQ model was generated with is us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hanging VDDQ leads to inaccurate resul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ome LVDS IBIS models accurate only under same Load conditions (i.e. 100 Ohms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naccurate IBIS Model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ffect of Changing VDDQ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1213920" y="5943600"/>
            <a:ext cx="488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PI4 interface: 1.25GHz, target pad, VDDQ=2.32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Model generated w/VDDQ=2.37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naccurate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ssue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VDS IBIS models assume constant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ust generate multiple models for different values of v</a:t>
            </a:r>
            <a:r>
              <a:rPr b="0" lang="en-US" sz="20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to obtain consistent accuracy driving different loads and topologi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evice asymmetry will affect accuracy of mod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odel generated for both pads assumes perfect driver symmet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Etch lengths of nets in differential pair matche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nclus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e can generate accurate IBIS models @ 1.25 Ghz and beyond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t takes significant effort and attention to detai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You must know operating conditions and application (I.e. VDDQ and termination values)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You must understand and test in target simulato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mproper use of IBIS models can &amp; will lead to inaccurate resul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mproper built IBIS models exist &amp; will lead to inaccurate results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2971800" y="2514600"/>
            <a:ext cx="38098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models @ 1.25 Ghz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ystem designs challeng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nterconn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Etch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Connectors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Return path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SSO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Via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Splits and Swiss cheese plane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entury Gothic"/>
              </a:rPr>
              <a:t>High Speed Link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entury Gothic"/>
              </a:rPr>
              <a:t>For example - LVD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an IBIS be utilized ?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LVDS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Low Voltage Differential Signaling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Higher signaling speed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ower voltage sw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ower power consump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ess susceptible to common-mode nois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Reduced EMI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hallenges creating IBIS model @1.25Ghz and Beyond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specifically designed for single-ended I/O buffer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Behavioral (IV) curves show current as a function of voltage applied to pa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urrent of LVDS buffer dependent on voltage at both pads, and common-mode voltage (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xtracting &amp; Using LVDS IBIS Mode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lvds_to_ibis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608004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enerat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1: Find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f devic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0" name="kevins_dac_slide_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30252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59800" y="5280120"/>
            <a:ext cx="404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Drive into expected loading condition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topology to obt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enerat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2: Sweep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out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n one output pad, keeping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nstant throughout sweep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3: Extract the curves, convert to IBIS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4" name="kevins_dac_slide_2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51152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Us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wo instantiations of extracted model: one for true, one for complemen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lement stimulus 180° out of phase with true stimulu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7" name="kevins_dac_slide_1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295596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Accurate IBIS Model @ 1.25GHz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HSPICE vs. IBIS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1214640" y="594360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PI4 interface: 1.25GHz, target pad, VDDQ=2.37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accurate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352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rhaller</cp:lastModifiedBy>
  <dcterms:modified xsi:type="dcterms:W3CDTF">2003-06-17T17:10:53Z</dcterms:modified>
  <cp:revision>63</cp:revision>
  <dc:subject/>
  <dc:title>Slide 1</dc:title>
</cp:coreProperties>
</file>