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6FF3-693E-4445-AB19-0D38AC1F5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19D4-0490-4653-9BE7-B2ED48B60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A65B-887C-4631-9C14-EE47F53DC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B766-9362-4BCF-A7FD-2823859C3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E2A8-B5E2-479C-8673-AAC6EA14D6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E1F3-96E9-45F9-8C41-A0520544C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F3D0-7BB7-43BC-A321-2C0F86DCFF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9E93-C785-4688-9F07-4AF9D353F3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8B0C-4F85-4281-873F-40C2D76C1E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4EC0-393C-403F-AAC9-EE96BFC03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448A-5F7C-4BB4-91C3-26DD9323A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FE28-4B69-421C-84B6-7A59A35F9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F753-95F4-4D85-AC1E-214B4E9316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596D-8ECB-4A07-B193-BFF5CA3DD1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6A62-3D43-4839-AA11-56257B030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C45A-208B-4019-88BD-DF5165256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F95A-2718-407A-B7A0-34F8E2ED8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B922-C8C4-4926-BA20-5918516C4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C2EC-8E27-45EB-8D70-7C17B3222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E689-C1EB-482A-B579-B2919616F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1FF6-BCF4-4ABA-A33D-677D4578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D4D1-6019-4FBE-887E-60A5F7516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830E-DEA2-4DF3-AFFF-5D0B1AE5C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A4DA-D17F-4F2C-BD7E-C68910BA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3D5A-DCEA-49C0-8D83-62FA1403913D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5BC-1786-42A1-BABC-8109D9934B2E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BIS 4.1 Status and Update</a:t>
            </a:r>
            <a:br>
              <a:rPr sz="3200"/>
            </a:br>
            <a:br>
              <a:rPr sz="2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ynne Gree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IS Summ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ne 2003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5F56-28F1-4AC3-BEAB-F99D97535B0C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Futures Committee edits rough draf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raft version of 4.1 goes to IBIS Open Foru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pen Forum discusses draf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ev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i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 third meeting, can come up for a vot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ser development (bidding, funding, coding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bmit to EIA as IBIS 656-B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48F3-08A8-4395-A7AE-1C7B321E543F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Examples of AMS model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an Fitzpatrick and Ira Miller, “Analog Behavioral Modeling with the Verilog-A Language”, Kluwer Academic Publishers, 1998.  Includes software and models on CD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ttp://www.eda.org/verilog-ams/htmlpages/examples.htm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ynne Green, DesignCon 2003 Summit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rpad Muranyi, today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8092-6DD1-41D5-99EA-E8FBBD0CFAB2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Late-breaking New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548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usiness Wire, June 2, 2003 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ccellera Approves Four New Design Verification Standa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 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APA, Calif.--(BUSINESS WIRE)--June 2, 2003--Accellera, the electronics industry organization focused on language-based electronic design standards, today announced that its Board and Technical Committee members -- systems, semiconductor and design tool companies -- have approved four new standards for language-based design verification. The new Accellera standards include Property Specification Language (PSL) 1.01, Standard Co-Emulation Application Programming Interface (SCE-API) 1.0, SystemVerilog 3.1 and </a:t>
            </a:r>
            <a:r>
              <a:rPr b="0" lang="en-US" sz="2200" spc="-1" strike="noStrike" u="sng">
                <a:solidFill>
                  <a:srgbClr val="4d4d4d"/>
                </a:solidFill>
                <a:uFillTx/>
                <a:latin typeface="Arial"/>
              </a:rPr>
              <a:t>Verilog-AMS 2.1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D793-AE90-461E-A5AC-354AF1AB7C73}" type="slidenum">
              <a:t>12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4.1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4.0 stat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4.1 stat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pproved BI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pen BIR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5B14-57CA-4C3E-ABB4-B293A91D880E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4.0 Statu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oted in July 2002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ser expected Q3/03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4.0 contai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11 new BI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panded input threshold specifications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olden wavefor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e usual parser bug fix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8592-BF16-4563-8DB7-6D0E06554CA2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4.1 Statu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rst pass docu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192bf"/>
                </a:solidFill>
                <a:latin typeface="Arial"/>
              </a:rPr>
              <a:t>http://www.eda.org/pub/ibis/wip/ver4_1a.ib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ve approved BI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75.8, BIRD77.2, BIRD78.1, BIRD80.1, BIRD81.1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e usual parser bug fix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e open BIR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t expected to be in IBIS 4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8E5A-E058-48BC-BAEF-BF18288ACEA4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Five Approved BIRD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IRD75.8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ulti-lingual suppor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rst submitted: 3/29/02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pproved: 1/10/03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pports SPICE 3f5, Verilog-AMS, VHDL-A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ternal model files (subcircuit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 parameter passing into model fil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4106-C122-4B38-B2A2-BCF324F484AF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Five Approved BIRD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IRD75.8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Component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Node Declarations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nd Node Declarations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Circuit Cal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nd Circuit Cal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-- [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-- [End 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xternal Circuit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nd External Circuit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6853-6448-429A-8532-38539473C0E4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Approved BIRD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IRD77.2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w model typ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put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utput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/O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3-state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w timing 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bparamet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ref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ref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7240" y="990360"/>
            <a:ext cx="5181480" cy="457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 fontScale="83000"/>
          </a:bodyPr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_________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\ |                R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Driver| \|--o---o---o----/\/\/\--o V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 /|  |   |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/ |  |   |  === C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_________|  /   |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\   |  G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Rref_diff /  ===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_________   \   | Cref_dif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   |  |   |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\ |  |   |         R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Driver| \|--o---o---o----/\/\/\--o V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 /|       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/ |         === C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_________|       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G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371600"/>
            <a:ext cx="1295640" cy="43434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74C3-5994-4782-B17C-0EC431241180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Approved BIRD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78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tend line length to 120 cha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80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 ext_ref as new [Pin Mapping] colum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81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arification of models in [Pin] sec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ing [Series Pin Mapping] description earl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71FB-05A5-492A-962E-E1C42043BAC0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Open BIRD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 74.4, EMI Paramet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 EMI parameters to IB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rst submitted, March 19, 2002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iscussions in IBIS Open Foru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ral rev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FEE3-1140-40B1-9629-798B278C73BE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9:39:45Z</dcterms:created>
  <dc:creator>Lynne Green</dc:creator>
  <dc:description/>
  <dc:language>en-US</dc:language>
  <cp:lastModifiedBy>Bob Ross</cp:lastModifiedBy>
  <cp:lastPrinted>2001-02-02T22:51:20Z</cp:lastPrinted>
  <dcterms:modified xsi:type="dcterms:W3CDTF">2003-06-02T21:50:37Z</dcterms:modified>
  <cp:revision>6</cp:revision>
  <dc:subject/>
  <dc:title>IBIS 4.1</dc:title>
</cp:coreProperties>
</file>