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759-829F-48BA-88A6-1574C3FF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F5E-6A6B-40B8-8446-11B155DA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722-8AE6-490D-AD14-D9D0EB85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668-2B60-4B09-B850-04BDCC5B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DA65-ECD7-453F-80E3-1DD815C3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9452-5024-449C-A3BD-7751A7C3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FEAF-33DD-4128-92F8-F81BE412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CE74-2D5C-4CDB-9F72-8FD33734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5C84-0FB9-4B71-89C5-FB2CB8D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CA8A-C4D0-46E1-8F95-E8A6F6B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8B8F-C3B8-45DB-B0F2-9808F08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1C9-2875-4AC2-837D-BB79082A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0A67-0437-42F3-AB29-11BA1BC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FAB5-5028-4142-8317-9DE8A27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634-D58C-4F84-810B-7C830CD9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3BFE-4F38-428C-B7DE-E5B143A6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6C46-616A-4EEC-8039-3C289DA1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706-9F7C-4458-BE44-BEB7C112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827-92CE-418B-B9F7-920C5AD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DEF-535E-4C25-B14A-0581D68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8FA-1E08-40B3-9FC7-D5F7746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5F4-7C31-4CE5-8ABD-F883774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4817-D337-4313-9EFE-6BC9DBD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8E3-7758-4640-B9A3-AD671BB3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IS Summit Jun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B7BE-E863-483C-B7D8-1BF1818F5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Annual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5, 2003  D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9F7-D169-4D35-BC84-C81360D34B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day's Meet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Statu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of Officers for 2003 –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from the Qualit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Specification report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modeling using 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pth look at on-die termination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d Hoc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120-41F0-4FFB-91FE-3397C5D7E8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tus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Open Forum  - entering our elevent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3.2 is truly an international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ong European interest in EMC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interest in Japan regarding IBIS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economic downturn, membership remains solid (~24 paid members), with 350-400 on the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ommittee remains active and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Events this P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4.0 approved, parser development under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ingual modeling is a now an official part of IBIS(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1.0 ICM Specification has been released for review(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BIS Open Forum is poised to lead the way to behavioral I/O buffer mod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D11-17E3-46E1-9B08-C52113B60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7467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 Black"/>
              </a:rPr>
              <a:t>Challenges For The Coming Year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 foundation for industry transition to behavioral IO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IBIS 4.1, thereby enabling EDA vendors and parser writers to get to work on multi-lingual modeling ext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IBIS package description needs by driving the Interconnect Modeling Specification (ICM spec) to accep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the cookbook to incorporate latest IO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guidance to model makers taking there first steps into behavioral mod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IBIS Model Quality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model develop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cre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ality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ower users to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dem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od mod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track and support EMC and XML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, where appropriate, IBIS to support EMC/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 desire/need for XML based 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he organization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financial solvency, retain current members (and find new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44C-FE70-4013-BBBC-6E4EA8F19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ell Deserved Thanks Too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Ross, for his continued behind-the-scenes support and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 for driving the draft 1.0 ICM specification to fru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y Katz for leading the IBIS quality sub-committ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ad Muranyi, Lynne Green and Gus Panella for their technical contributions an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y Leventhal, Syed Huq, Guy de Burgh, Randy Wolff and John Angulo for thei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ally…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model maker and user community, for your suggestions, participation and caring enough to support the work of the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87B-4092-478A-AAC1-4EC2BAB48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sjpeters</dc:creator>
  <dc:description/>
  <dc:language>en-US</dc:language>
  <cp:lastModifiedBy>Stephen J. Peters</cp:lastModifiedBy>
  <dcterms:modified xsi:type="dcterms:W3CDTF">2003-06-05T02:56:04Z</dcterms:modified>
  <cp:revision>27</cp:revision>
  <dc:subject/>
  <dc:title>IBIS Annual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9017205</vt:r8>
  </property>
  <property fmtid="{D5CDD505-2E9C-101B-9397-08002B2CF9AE}" pid="3" name="_AuthorEmail">
    <vt:lpwstr>stephen.peters@intel.com</vt:lpwstr>
  </property>
  <property fmtid="{D5CDD505-2E9C-101B-9397-08002B2CF9AE}" pid="4" name="_AuthorEmailDisplayName">
    <vt:lpwstr>Peters, Stephen</vt:lpwstr>
  </property>
  <property fmtid="{D5CDD505-2E9C-101B-9397-08002B2CF9AE}" pid="5" name="_EmailSubject">
    <vt:lpwstr>updated presentation, roster list</vt:lpwstr>
  </property>
</Properties>
</file>