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A390-8DF6-4BE4-A71E-52DFB6085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FE8D-E377-4CBE-853B-60C14DDAC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A3C8-F4BF-4518-9889-B16D22CC1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4FF1-92F5-4B12-9C1E-C6042F9A0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3216-02FA-49A1-9B9E-DBBD11A6B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A072-1766-4DF2-A91C-FD5BE90E0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4150-DF5E-4AC9-B846-C9B5AE882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FA7D-AF7B-43EA-9698-4059DE168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AF25-4678-4F69-83FE-8D2E07446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AA7F-F809-4712-83D6-3B59A5E7B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BD5C-FA55-4C30-B1F1-831CEB670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46F6-945A-42A2-82FE-B2083FF88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3760" y="6248520"/>
            <a:ext cx="32990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5/29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Other brands and names are the property of their respective ow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26672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707139-A6A6-4135-83B6-212372D2AA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219320" y="457200"/>
            <a:ext cx="7544880" cy="612720"/>
            <a:chOff x="1219320" y="457200"/>
            <a:chExt cx="7544880" cy="612720"/>
          </a:xfrm>
        </p:grpSpPr>
        <p:sp>
          <p:nvSpPr>
            <p:cNvPr id="4" name=""/>
            <p:cNvSpPr/>
            <p:nvPr/>
          </p:nvSpPr>
          <p:spPr>
            <a:xfrm>
              <a:off x="8588880" y="457200"/>
              <a:ext cx="1753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219320" y="1042920"/>
              <a:ext cx="74581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59080" y="603360"/>
              <a:ext cx="3168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400800" y="6324480"/>
            <a:ext cx="2590920" cy="37800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10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14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16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7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18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3880" y="2438280"/>
            <a:ext cx="7316640" cy="612720"/>
            <a:chOff x="1523880" y="2438280"/>
            <a:chExt cx="7316640" cy="612720"/>
          </a:xfrm>
        </p:grpSpPr>
        <p:sp>
          <p:nvSpPr>
            <p:cNvPr id="58" name=""/>
            <p:cNvSpPr/>
            <p:nvPr/>
          </p:nvSpPr>
          <p:spPr>
            <a:xfrm>
              <a:off x="8670600" y="2438280"/>
              <a:ext cx="169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3880" y="3024360"/>
              <a:ext cx="723240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38640" y="2584440"/>
              <a:ext cx="306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29400" y="6324480"/>
            <a:ext cx="228600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5200" y="152280"/>
            <a:ext cx="21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l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64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68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70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990720" y="6172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-fmec.fm.intel.com/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209680" y="1371600"/>
          <a:ext cx="571500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571500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18960" y="10663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Interconnect Modeling   Specification (ICM) Stat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 Corpo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Summit at DAC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5,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BCE3-6F3F-4DBB-8479-1DD39F7A7BD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ng Term Issu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CM cookbook neede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provide guidance to model bui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pproach from 1997 IBIS 2.1 Cookb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okbook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key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nation of 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ound 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turn pa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best known modeling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asurement vs.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complete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B32B-75B2-491C-851A-BBC5F6BF0E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CM is an evolution of IBIS package and PCB modeling forma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ficial 1.0 pending Open Forum appro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lease review the ICM Final Dra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ments and test models are appreciated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anks to the Connector Subcommitt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64960" y="4024440"/>
            <a:ext cx="42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ohn Angulo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pad Murany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elly Gree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ugusto Pan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ynne Gree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ephen P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31240" y="5200560"/>
            <a:ext cx="5947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to the many other individu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groups who contribut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E676-539B-40ED-9C7C-FCA33FEC9A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 a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e Discu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C632-1D4B-4AF8-9CDD-3202C1644E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CD6E-033F-4E58-BA93-B3EA429925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-parameter Data Forma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ngle-end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fined per node + reference: S12, S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ixed-mode (usually differential pai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&amp; Differential excitation and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fined per node pair: SDD12, SDD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fined per node pair + reference: SCC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lti-mode” (not covered by any spec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itation and response for n-node gro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S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5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6044-8E1B-4D96-BEDC-DA75C18D62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-parameter Data Forma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ngle-en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ixed-mode (usually differential pai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lti-mode” (not covered by any spec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8120" y="1752480"/>
            <a:ext cx="3276360" cy="380880"/>
            <a:chOff x="3048120" y="1752480"/>
            <a:chExt cx="3276360" cy="380880"/>
          </a:xfrm>
        </p:grpSpPr>
        <p:sp>
          <p:nvSpPr>
            <p:cNvPr id="155" name=""/>
            <p:cNvSpPr/>
            <p:nvPr/>
          </p:nvSpPr>
          <p:spPr>
            <a:xfrm>
              <a:off x="5943600" y="17524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76720" y="1752480"/>
              <a:ext cx="2819160" cy="380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8120" y="17524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9920" y="1752480"/>
              <a:ext cx="152280" cy="38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9920" y="1752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2133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786040" y="1943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15120" y="193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87480" y="177012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78880" y="177012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60720" y="3238560"/>
            <a:ext cx="3276360" cy="380880"/>
            <a:chOff x="3060720" y="3238560"/>
            <a:chExt cx="3276360" cy="380880"/>
          </a:xfrm>
        </p:grpSpPr>
        <p:sp>
          <p:nvSpPr>
            <p:cNvPr id="166" name=""/>
            <p:cNvSpPr/>
            <p:nvPr/>
          </p:nvSpPr>
          <p:spPr>
            <a:xfrm>
              <a:off x="5956200" y="323856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89320" y="3238560"/>
              <a:ext cx="2819160" cy="380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0720" y="323856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32520" y="3238560"/>
              <a:ext cx="152280" cy="38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32520" y="32385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32520" y="3619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79864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7720" y="3424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5520" y="351000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83440" y="353520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035160" y="3835440"/>
            <a:ext cx="3276360" cy="380880"/>
            <a:chOff x="3035160" y="3835440"/>
            <a:chExt cx="3276360" cy="380880"/>
          </a:xfrm>
        </p:grpSpPr>
        <p:sp>
          <p:nvSpPr>
            <p:cNvPr id="177" name=""/>
            <p:cNvSpPr/>
            <p:nvPr/>
          </p:nvSpPr>
          <p:spPr>
            <a:xfrm>
              <a:off x="5930640" y="383544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63760" y="3835440"/>
              <a:ext cx="2819160" cy="380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35160" y="383544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06960" y="3835440"/>
              <a:ext cx="152280" cy="38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6960" y="3835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6960" y="4216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773440" y="4025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02520" y="4021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51240" y="3149640"/>
            <a:ext cx="139680" cy="1104840"/>
          </a:xfrm>
          <a:custGeom>
            <a:avLst/>
            <a:gdLst>
              <a:gd name="textAreaLeft" fmla="*/ 89280 w 139680"/>
              <a:gd name="textAreaRight" fmla="*/ 140040 w 13968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96160" y="3149640"/>
            <a:ext cx="139680" cy="1104840"/>
          </a:xfrm>
          <a:custGeom>
            <a:avLst/>
            <a:gdLst>
              <a:gd name="textAreaLeft" fmla="*/ 89640 w 139680"/>
              <a:gd name="textAreaRight" fmla="*/ 140400 w 13968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662200" y="2185920"/>
            <a:ext cx="318960" cy="325440"/>
            <a:chOff x="2662200" y="2185920"/>
            <a:chExt cx="318960" cy="325440"/>
          </a:xfrm>
        </p:grpSpPr>
        <p:sp>
          <p:nvSpPr>
            <p:cNvPr id="188" name=""/>
            <p:cNvSpPr/>
            <p:nvPr/>
          </p:nvSpPr>
          <p:spPr>
            <a:xfrm>
              <a:off x="2822400" y="2185920"/>
              <a:ext cx="0" cy="19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62200" y="2363760"/>
              <a:ext cx="3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14760" y="2440080"/>
              <a:ext cx="20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57600" y="2511360"/>
              <a:ext cx="12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599160" y="2147760"/>
            <a:ext cx="318960" cy="325440"/>
            <a:chOff x="6599160" y="2147760"/>
            <a:chExt cx="318960" cy="325440"/>
          </a:xfrm>
        </p:grpSpPr>
        <p:sp>
          <p:nvSpPr>
            <p:cNvPr id="193" name=""/>
            <p:cNvSpPr/>
            <p:nvPr/>
          </p:nvSpPr>
          <p:spPr>
            <a:xfrm>
              <a:off x="6759360" y="2147760"/>
              <a:ext cx="0" cy="19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99160" y="2325600"/>
              <a:ext cx="3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1720" y="2401920"/>
              <a:ext cx="20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94560" y="2473200"/>
              <a:ext cx="12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637000" y="4395960"/>
            <a:ext cx="318960" cy="325440"/>
            <a:chOff x="2637000" y="4395960"/>
            <a:chExt cx="318960" cy="325440"/>
          </a:xfrm>
        </p:grpSpPr>
        <p:sp>
          <p:nvSpPr>
            <p:cNvPr id="198" name=""/>
            <p:cNvSpPr/>
            <p:nvPr/>
          </p:nvSpPr>
          <p:spPr>
            <a:xfrm>
              <a:off x="2797200" y="4395960"/>
              <a:ext cx="0" cy="190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37000" y="4573800"/>
              <a:ext cx="3189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89560" y="4650120"/>
              <a:ext cx="209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32400" y="4721400"/>
              <a:ext cx="128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573960" y="4408560"/>
            <a:ext cx="318960" cy="325440"/>
            <a:chOff x="6573960" y="4408560"/>
            <a:chExt cx="318960" cy="325440"/>
          </a:xfrm>
        </p:grpSpPr>
        <p:sp>
          <p:nvSpPr>
            <p:cNvPr id="203" name=""/>
            <p:cNvSpPr/>
            <p:nvPr/>
          </p:nvSpPr>
          <p:spPr>
            <a:xfrm>
              <a:off x="6734160" y="4408560"/>
              <a:ext cx="0" cy="190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73960" y="4586400"/>
              <a:ext cx="3189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26520" y="4662720"/>
              <a:ext cx="209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69360" y="4734000"/>
              <a:ext cx="128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984400" y="5435640"/>
            <a:ext cx="3276360" cy="380880"/>
            <a:chOff x="2984400" y="5435640"/>
            <a:chExt cx="3276360" cy="380880"/>
          </a:xfrm>
        </p:grpSpPr>
        <p:sp>
          <p:nvSpPr>
            <p:cNvPr id="208" name=""/>
            <p:cNvSpPr/>
            <p:nvPr/>
          </p:nvSpPr>
          <p:spPr>
            <a:xfrm>
              <a:off x="5879880" y="543564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13000" y="5435640"/>
              <a:ext cx="2819160" cy="380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84400" y="543564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56200" y="5435640"/>
              <a:ext cx="152280" cy="38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56200" y="5435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56200" y="5816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722680" y="5626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51400" y="5621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47160" y="5452920"/>
            <a:ext cx="84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r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40720" y="5452920"/>
            <a:ext cx="83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rt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598840" y="5869080"/>
            <a:ext cx="318960" cy="325440"/>
            <a:chOff x="2598840" y="5869080"/>
            <a:chExt cx="318960" cy="325440"/>
          </a:xfrm>
        </p:grpSpPr>
        <p:sp>
          <p:nvSpPr>
            <p:cNvPr id="219" name=""/>
            <p:cNvSpPr/>
            <p:nvPr/>
          </p:nvSpPr>
          <p:spPr>
            <a:xfrm>
              <a:off x="2759040" y="5869080"/>
              <a:ext cx="0" cy="190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8840" y="6046920"/>
              <a:ext cx="3189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51400" y="6123240"/>
              <a:ext cx="209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94240" y="6194520"/>
              <a:ext cx="128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535800" y="5830920"/>
            <a:ext cx="318960" cy="325440"/>
            <a:chOff x="6535800" y="5830920"/>
            <a:chExt cx="318960" cy="325440"/>
          </a:xfrm>
        </p:grpSpPr>
        <p:sp>
          <p:nvSpPr>
            <p:cNvPr id="224" name=""/>
            <p:cNvSpPr/>
            <p:nvPr/>
          </p:nvSpPr>
          <p:spPr>
            <a:xfrm>
              <a:off x="6696000" y="5830920"/>
              <a:ext cx="0" cy="190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35800" y="6008760"/>
              <a:ext cx="3189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88360" y="6085080"/>
              <a:ext cx="209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31200" y="6156360"/>
              <a:ext cx="128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>
            <a:off x="4228920" y="5334120"/>
            <a:ext cx="634680" cy="622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75080" y="5935680"/>
            <a:ext cx="3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CBC1-4CD2-40B9-B9F1-22D0B4A059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uchstone® Vari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pec. defines data placement conv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y model authors use general format, but define data placement through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162560" cy="568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4419720"/>
            <a:ext cx="647712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 MHz  Y MA R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! Data is Freq SDD11  SDD12  SDD21  SDD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!              SCC11  SCC12  SCC21  SCC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0 1.7784797E-01   -80.863279   1.7863314E-01   99.0538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8696562E-02   104.003821   3.8770346E-02   -76.072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4735915E-07   151.207214   2.4624379E-07   -29.1426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760443E-07  -166.479698   3.1562825E-07   13.5852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2286000"/>
            <a:ext cx="4114800" cy="1388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4-port network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&lt;frequency value&gt;  &lt;N11&gt; &lt;N12&gt; &lt;N13&gt; &lt;N14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&lt;N21&gt; &lt;N22&gt; &lt;N23&gt; &lt;N24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&lt;N31&gt; &lt;N32&gt; &lt;N33&gt; &lt;N34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&lt;N41&gt; &lt;N42&gt; &lt;N43&gt; &lt;N44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F835-3EBC-444B-A7ED-3231272AD5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1143000"/>
            <a:ext cx="754380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Head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CM Ver]            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File Name]           iconm_hdi_202.i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File Rev]            1.0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Date]                May 29, 2003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Source]              Results from field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Notes]               This is a test model on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Disclaimer]          This information is for modeli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purposes only, and is not guarante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Copyright]           Copyright 2003, XYZ Corp.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Support]             http://www.VendorNameIbisModel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edistribution]      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edistribution Text] This file is freely redistribut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Head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B001-B2A1-4214-B292-5D1B599456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2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1143000"/>
            <a:ext cx="754380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Family]    High_Speed_Interconn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Manufacturer]        XYZ Incorpo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CM Family Description]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gh Density square pin connector for use on IEEE 99999 bu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CM Model Lis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Name                 Mating      Min_Slew_Tim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y ModelExample3         Mated          100ps  HDI_202_Mated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HDI_202_UnMatedA        Unmated_side_A 100ps  HDI_202_UnMatedA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HDI_202_SMT_to_Cable    Mated           25ps  HDI_TEST_202_Mated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HDI_202_SMT_to_ThruHole Mated           25ps  HDI_202_Mated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3F87-72E3-40F2-AF41-E6121AA8FC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3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1143000"/>
            <a:ext cx="75438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Model] MyModelExample3        | Has a stub fork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CM_Model_Type M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Model Descriptio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gh Density 0.1 center square pin with PCB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Tree Path Descriptio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el_PinMap Baseboard_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ction Mult=1 Secti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ction Mult=1 StubSectio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_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ction Mult=1 Section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el_PinMap Output_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ICM Model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  SectionA  Section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Baseboard_side &gt;---------+--------&lt; Output_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           | StubSectio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3878-A846-4114-8D1E-D2A033FA54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CM Refres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al 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cent His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anges in Final Draft 1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ort Term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Longer 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technical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ston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-parameter backgro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Example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1CE0-F051-4CB7-8C72-208FA45312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4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1143000"/>
            <a:ext cx="541008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CM Pin Map] Baseboard_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n_order = Row_ord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um_of_columns =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um_of_rows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n_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Pin 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1  PERR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2  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3  AD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4  AD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1  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2 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3  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4 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[ICM Pin Map] Output_side omitted for c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ICM Family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400" y="2362320"/>
            <a:ext cx="2438280" cy="1937520"/>
            <a:chOff x="4343400" y="2362320"/>
            <a:chExt cx="2438280" cy="1937520"/>
          </a:xfrm>
        </p:grpSpPr>
        <p:sp>
          <p:nvSpPr>
            <p:cNvPr id="248" name=""/>
            <p:cNvSpPr/>
            <p:nvPr/>
          </p:nvSpPr>
          <p:spPr>
            <a:xfrm>
              <a:off x="4343400" y="2743200"/>
              <a:ext cx="243828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5680" y="2895480"/>
              <a:ext cx="38124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05520" y="2895480"/>
              <a:ext cx="38088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895480"/>
              <a:ext cx="38088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24480" y="2895480"/>
              <a:ext cx="38124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5680" y="3352680"/>
              <a:ext cx="38124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05520" y="3352680"/>
              <a:ext cx="38088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15000" y="3352680"/>
              <a:ext cx="38088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24480" y="3352680"/>
              <a:ext cx="38124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45280" y="2362320"/>
              <a:ext cx="42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54760" y="2362320"/>
              <a:ext cx="42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64600" y="2362320"/>
              <a:ext cx="42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74080" y="2362320"/>
              <a:ext cx="42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44560" y="39625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54040" y="39625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63880" y="39625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360" y="39625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3399-4685-4C1C-A3F9-2113BFFBFE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5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1143000"/>
            <a:ext cx="754380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Section] Secti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Derivation Method] Lum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nductance Matrix] Full_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4859e-07      4.73185e-08      1.3428e-08     6.12191e-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.74022e-07      7.35469e-08     2.73201e-08     1.33807e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4859e-07      4.73185e-08      1.3428e-08     7.35469e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.74022e-07      7.35469e-08     2.73201e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A717-DC56-483F-ADDB-877CFAD11B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6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1143000"/>
            <a:ext cx="75438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Capacitance Matrix] Sparse_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      2.48227e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 -1.56651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       -9.54158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       -7.15684e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 2.51798e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      -1.56552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       -6.85199e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        -9.0486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ICM Sectio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SectionB and StubSection1 omitted for c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BE8B-C63C-4598-A3EF-76DD1E6451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Refresh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IB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nec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eling Specific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 establish a human-readable standard format for exchanging interconnect model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connect” can be connector, cable, PCB traces or even an IC pack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CM uses a two-part forma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model in terms of one or more sections with terminals mapped to named pin/node 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dal arrangement with explicit interconn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ee arrangement with implicit interconn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data describing each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LGC matrix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-parameter data (external Touchstone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i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88F2-B135-46C9-822F-1C87C9A61E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Partial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3219480"/>
            <a:ext cx="3810240" cy="2832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8077320" cy="879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069160" y="259092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057400"/>
            <a:ext cx="289548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867280" y="2286000"/>
            <a:ext cx="236232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8880" y="2819520"/>
            <a:ext cx="1748880" cy="3373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re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65720" y="2819520"/>
            <a:ext cx="1890720" cy="3373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odal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95680" y="5486040"/>
            <a:ext cx="41911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more formal example is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t the end of this presentation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200400"/>
            <a:ext cx="47242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[Begin ICM Model] MyModelExample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ICM_model_type ML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[Nodal Path Description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Model_nodemap Port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N_section (A1 A2 A3 A4 A5 11 12 13 14 15) Len=1.0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N_section (11 12 13 14 15 21 22 23 24 25) Len=1.0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N_section (21 22 23 24 25 31 32 33 34 35) Len=1.0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N_section (31 32 33 34 35 s1 s2 s3 s4 s5) Len=1.0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N_section (s1 s2 s3 s4 s5 F1 F2 F3 F4 F5) Len=1.0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Model_nodemap Port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N_section (s1 s2 s3 s4 s5 E1 E2 E3 E4 E5) Len=1.0 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Model_nodemap Port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[End ICM Model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46F2-27CB-4CD5-B79B-68D9A2E45A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Histo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itial concept developed 1995 - 1997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BIS Connector/Futures Sub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poradic revisions 1999 –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nal Draft 1.0 released Sept. 19,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mmittee Internal Drafts 1.0a – 1.0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al Draft 1.0 released publicly May 16,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IBIS web site under “Connector Info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2424-C020-420A-AA77-9A03FD2C13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Changed in Final Draft 1.0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ver 63 issues formally logged since Sept.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two dozen additional small issues resol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st changes were edito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lling, punctuation and gramm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ization to improve software par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changes for consistency with IBIS 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me technical limitations establish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LGC and S-parameter sections not permitted within the same model (allowed in the same fi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parameter data only to be used with [Nodal Path Description]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cit use of single-ended ports for S-parameter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9560" y="5715000"/>
            <a:ext cx="389016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ore details under “Long-Term Issu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9FCF-7199-4B12-AE0B-82B0855EB15C}" type="slidenum">
              <a:t>6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hort-Term Futu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CM now in IBIS Open Forum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icially introduced at May 30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of three Open Forum meetings must consider the document before an official vo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ser in development – tentatively available for initial testing after Open Forum appro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terested parties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strongly encouraged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o provide feedback and test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 free to provide or construct ICM models using “favorite interconnects” for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ackage which is inconvenient or impossible to describe using IBIS .PK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BE5C-1F66-43EE-8F2B-DDAFF008D1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Improvem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fter 1.0 is approved by the Open Forum, several technical issues may be considered for future revi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multiple types of data within a single [Begin ICM Model]/[End ICM Model] pa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Include S-paramet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LGC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frequency-dependence in RLGC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Matrix parameters for 1 MHz, 100 MHz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formal “BIRD-like” procedure will be established to document and process change propos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21A3-7693-4350-8E1F-74F54BB45F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ng Term Issu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6856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Using ICM with IBIS mode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explicit links to IBIS in ICM or vice-ver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ed that data files are linked through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r ICM BIRDs for cross-referenc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ouchstone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®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and mixed-mode S-parame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M maps section nodes to 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s are implied to be single-en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uchst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mat establishes regular data forma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ents, options, frequency and S, Y, Z, H, G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rpretation of data assumes single-ended (S12, etc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xed-mode (SDD12, SCD22, etc.)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me authors release mixed-mode Touchstone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format is standard, but interpretation is n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New Touchstone needed for mixed-/multi-mod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8DEB-59C8-4C22-B4BD-037368EB2F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02:00:46Z</dcterms:created>
  <dc:creator>Michael Mirmak &amp; Quoc B. Le</dc:creator>
  <dc:description/>
  <dc:language>en-US</dc:language>
  <cp:lastModifiedBy>Michael Mirmak</cp:lastModifiedBy>
  <cp:lastPrinted>1998-11-04T21:31:56Z</cp:lastPrinted>
  <dcterms:modified xsi:type="dcterms:W3CDTF">2003-06-04T15:49:41Z</dcterms:modified>
  <cp:revision>528</cp:revision>
  <dc:subject>Trace Routing Analysis</dc:subject>
  <dc:title>Serial ATA Initial Layout Simulation Results</dc:title>
</cp:coreProperties>
</file>