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5568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260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775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55680" y="8775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C673114-DF86-47BB-9557-92C48FAFB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9360" y="69048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98040" y="4387680"/>
            <a:ext cx="5581800" cy="41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important web sites and information about the IBIS qualit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955680" y="8775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E8A8794-C16F-45E5-873E-FFFB11AFC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775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5568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26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6960" y="4387320"/>
            <a:ext cx="558648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ry to popular belief, IBIS models can be extremely accurate over 1GHz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waveform overlay of Hspice and IBIS simulations of an LVDS interface running at 1.25GH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 is excellent, time-shifts are intentional, but getting this level of correlation was not easy and not always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ases though this is the exception and not the r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uld have not confidence in this model had I not run both IBIS and SP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IS work well at some varying frequencies, but a methodology is needed that supports both SPICE and IB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79360" y="69048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98040" y="4387680"/>
            <a:ext cx="5581800" cy="41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ing Cycle times and Increasing edge rates require Higher Quality IBI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79360" y="69048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98040" y="4387680"/>
            <a:ext cx="5581800" cy="41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IS Quality is achievable but requires hard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lide summarizes the IBIS quality Status Upd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79360" y="69048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98040" y="4387680"/>
            <a:ext cx="5581800" cy="41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a lot of recent accomplish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79360" y="69048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98040" y="4387680"/>
            <a:ext cx="5581800" cy="41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what was already accomplished the last time we presented (Design c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9360" y="69048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98040" y="4387680"/>
            <a:ext cx="5581800" cy="41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have work to do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9360" y="69048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387680"/>
            <a:ext cx="5581800" cy="41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documentation c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79360" y="69048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98040" y="4387680"/>
            <a:ext cx="5581800" cy="41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s not changed since out inception . For those of you who didn’t attend PCB east we are summarizing our goals and char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9360" y="69048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98040" y="4387680"/>
            <a:ext cx="5581800" cy="41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active than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BB12-F87D-4ED9-8FBB-797FC338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9783-CC4B-487B-81FB-F177B3D2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256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BFF-0CAD-46A7-A6AE-3A92D019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710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864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F81-27A7-4F95-BFC7-EC9039C9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9C25-3C86-433A-BE15-FD0E184D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B4FF-5923-4F5E-9E05-15C0F24D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3A68-A364-4D5D-9BFB-00A1AFE7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B2ED-9BE6-46BF-81DE-A81A6FB1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F37F-AD57-4E44-A222-52BF2A6C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30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4B6A-E86D-493D-913B-AACAE9D5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CD3A-1C95-4936-BB03-8B04DE68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694-DC55-45C3-B2CE-ED20D1B0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256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7AE5-4630-40FB-B439-D66A01D0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6673-EBB6-45A4-8470-1B0297DB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30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C124-A0E1-4612-823E-73072A1E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256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34D8-D114-47C6-8B96-2A1ABD19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30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710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9864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1DCA-C917-4C08-BC1E-D51B3D88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E94-14CB-4617-9D89-9C7A5284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732-BDCA-44AA-B713-68359F60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E74-D2D0-4C6A-9F04-DF3E0E5C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C0F-AF9C-40DD-846E-5DA2CE3A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415C-10E4-4BD2-8012-13B1FCC1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256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21B-D387-4BB3-A75B-06C14A93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C5D-904A-487D-9841-98F74EA2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4297-47D5-4030-A4A2-9636EFADD9F8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9259" t="27781" r="9259" b="25926"/>
          <a:stretch/>
        </p:blipFill>
        <p:spPr>
          <a:xfrm>
            <a:off x="7391520" y="6172200"/>
            <a:ext cx="1447560" cy="411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pic>
        <p:nvPicPr>
          <p:cNvPr id="7" name="logo_apple" descr=""/>
          <p:cNvPicPr/>
          <p:nvPr/>
        </p:nvPicPr>
        <p:blipFill>
          <a:blip r:embed="rId4"/>
          <a:stretch/>
        </p:blipFill>
        <p:spPr>
          <a:xfrm>
            <a:off x="1219320" y="6095880"/>
            <a:ext cx="13716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06D2-2999-4BC9-9D4F-78297B3BBC44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36699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36699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isoft.com/ibis-quality/minutes" TargetMode="External"/><Relationship Id="rId2" Type="http://schemas.openxmlformats.org/officeDocument/2006/relationships/hyperlink" Target="http://www.sisoft.com/ibis-quality" TargetMode="External"/><Relationship Id="rId3" Type="http://schemas.openxmlformats.org/officeDocument/2006/relationships/hyperlink" Target="http://www.sisoft.com/ibis-quality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4419360"/>
            <a:ext cx="76201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8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Kim Helliwell</a:t>
            </a: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Barry Katz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             </a:t>
            </a: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Apple Computer</a:t>
            </a: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Signal Integrity Software, Inc.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   </a:t>
            </a: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408-974-9936  </a:t>
            </a: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978-461-0449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6944" t="20834" r="6944" b="19446"/>
          <a:stretch/>
        </p:blipFill>
        <p:spPr>
          <a:xfrm>
            <a:off x="5638680" y="5257800"/>
            <a:ext cx="1676520" cy="474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52680" y="205740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logo_apple" descr=""/>
          <p:cNvPicPr/>
          <p:nvPr/>
        </p:nvPicPr>
        <p:blipFill>
          <a:blip r:embed="rId3"/>
          <a:stretch/>
        </p:blipFill>
        <p:spPr>
          <a:xfrm>
            <a:off x="3124080" y="5257800"/>
            <a:ext cx="1371600" cy="457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81080" y="609480"/>
            <a:ext cx="574704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Century Gothic"/>
              </a:rPr>
              <a:t>IBIS QUALITY COMMITTEE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2406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 Subcommittee</a:t>
            </a:r>
            <a:br>
              <a:rPr sz="3600"/>
            </a:b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Additional Information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Mailing lis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bis-quality@freelists.org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http://www.freelists.org/archives/ibis-qualit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Web Site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336699"/>
                </a:solidFill>
                <a:uFillTx/>
                <a:latin typeface="Century Gothic"/>
              </a:rPr>
              <a:t>http://www.sisoft.com/ibis-qualit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http://www.sisoft.com/ibis-quality/minute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www.sisoft.com/ibis-quality</a:t>
            </a:r>
            <a:r>
              <a:rPr b="0" lang="en-GB" sz="2000" spc="-1" strike="noStrike" u="sng">
                <a:solidFill>
                  <a:srgbClr val="336699"/>
                </a:solidFill>
                <a:uFillTx/>
                <a:latin typeface="Century Gothic"/>
              </a:rPr>
              <a:t>/doc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http://www.v</a:t>
            </a:r>
            <a:r>
              <a:rPr b="0" lang="en-GB" sz="2000" spc="-1" strike="noStrike" u="sng">
                <a:solidFill>
                  <a:srgbClr val="336699"/>
                </a:solidFill>
                <a:uFillTx/>
                <a:latin typeface="Century Gothic"/>
              </a:rPr>
              <a:t>hdl.org/pub/ibis/bugs/ibischk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Goal of IQ Committee !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118" name="lvds_accuracy_125GHz" descr=""/>
          <p:cNvPicPr/>
          <p:nvPr/>
        </p:nvPicPr>
        <p:blipFill>
          <a:blip r:embed="rId1"/>
          <a:stretch/>
        </p:blipFill>
        <p:spPr>
          <a:xfrm>
            <a:off x="0" y="1066680"/>
            <a:ext cx="8991720" cy="578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“</a:t>
            </a: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Eye” Grabber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4008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BIS QUALITY (IQ) Overview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520" y="15699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ndustry now requires accurate IBIS model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Recent and previous accomplishment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To do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Document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Goal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Participant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Additional inform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BIS Quality subcommittee driving industry for high IQ IBIS models !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Recent Accomplishment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Detailed Reviewed of 7 IQ Document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Reference IBIS keyword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Quality level criteria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nput from industry IBIS exper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BUG71 Monotonic Parser Bug Approved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Open Forum assigned a status of 'Will Be Fixed'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Most common warning from Parser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Proposed checks replace the current check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BISCHK Messages Captured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Previous Accomplishment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ompiled and published IBIS Quality checklis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http://www.sisoft.com/ibis-quality/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Defined quality level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0 – Passes IBISCHK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1 – Complete and correc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2a, 2b – Correlation: Simulation, Measuremen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Leverage off of IBIS Accuracy Handbook (spec)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3 – All of the above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Submitted multiple IBISCHK enhancement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Submitted IBIS Golden Parser open source proposa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reated, indexed first pass of document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To Do Lis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3 Documents Left to Review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VT curve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orrelation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SPICE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LAB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Possible Error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ompile into one documen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Update Checklis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Present to IBIS Open Forum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Documentation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Quality Summary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General Header Sec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omponent Sec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Model Sec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V and Clamp Curve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VT curve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Ramp Data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Waveform Processing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SPICE and LAB Correl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Possible Errors that should be checked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0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2406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Subcommittee Goal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Rating system that is easy to understand and adop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ommunicate to vendors/users.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over overall file, component, and model section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heck for completeness, correctness, accuracy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Leverage off prior work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239400"/>
            <a:ext cx="72388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Subcommittee Participant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488"/>
              </a:spcBef>
              <a:buClr>
                <a:srgbClr val="336699"/>
              </a:buClr>
              <a:buSzPct val="83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ommittee is represented by broad cross-section of semiconductor vendors, EDA vendors, and IBIS end-users.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SiSoft - Barry Katz (Chairman), Robert Haller, Eric Brock, Kevin Fisher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Siemens – Eckhard Lenski, Katja Koller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IBM – Greg Edlund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Cadence – Lynne Green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Apple – John  Figueroa, Kim Helliwell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Mentor – Bob Ross, Hazem Hegazy, Sherif Hammad,  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Cisco – Mike LaBonte, Todd Westerhoff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EMC – Brian Arsenault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Hitachi ULSI Systems – Shoji Kazuyoshi, Nonoyama Sadahiro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Leventhal Design &amp; Communications – Roy Leventhal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Intel – Benjamin Silva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Teraspeed - Tom Dagostino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AMCC  - Peter LaFlamme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Fairchild – Adam Tambone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3:46:44Z</dcterms:created>
  <dc:creator>Barry Katz</dc:creator>
  <dc:description/>
  <dc:language>en-US</dc:language>
  <cp:lastModifiedBy>rhaller</cp:lastModifiedBy>
  <dcterms:modified xsi:type="dcterms:W3CDTF">2003-05-30T19:10:49Z</dcterms:modified>
  <cp:revision>27</cp:revision>
  <dc:subject/>
  <dc:title>IBIS QUALITY COMMITTEE REPORT Barry Katz Signal Integrity Software, Inc. 6 Clock Tower Place – Suite 250 Maynard MA. 01754 978-461-0449 X 19</dc:title>
</cp:coreProperties>
</file>