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C3A64-09FE-4DE2-89DE-1B5AFCAD7A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8736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F4135-DE92-414C-A40D-F1EB55C8CE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96EC5-46DA-4ECD-B398-CECCCF116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21A30-FE39-4400-8E80-DBA74275AD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0FEA8-A6E3-46C7-BB0F-9871CD08F8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4F4C7-F9B6-4DFA-B9ED-79EA1962BE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B3F57-098D-4A09-BD53-234F6C5D6E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094F3-512E-462D-88F8-6FB5AE6686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4C6BD-D851-4301-AB23-0A07361A32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705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5D031-50FF-443B-892C-D60DAED8F1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5D998-B85E-477E-91B4-78279373AC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527C9-4551-4E85-B14C-31E36D29EF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E06E8-209C-4C8E-A4B8-D73534E10D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2C88C-952D-4DB2-A80E-31766E6E8C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8736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0E73B-A47D-4659-9116-3678F71BE9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0749E-D8E5-453C-BE73-65697C97E2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87360"/>
            <a:ext cx="264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7CE90-BC05-4F66-BAFA-B2119CB6E7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29790-4DF4-46F2-9594-A8D8B3B41D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2391D-5DAA-4A24-82E1-1FC4271791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94D90-5C7C-4BE7-9CC8-66D4812D7C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7057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0C565-7392-4C40-ACC6-BE6668A80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D0C8B-47DB-44E1-99E0-FD9103314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8736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26673-37DA-4F53-B56B-1BAB524649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87360"/>
            <a:ext cx="8229600" cy="21798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326F5-9F19-44F7-90EF-EE90EAB17E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85248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3" marL="1146240" indent="-1792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4" marL="2514600" indent="-228600"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5" marL="2514600" indent="-228600"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6" marL="2514600" indent="-228600">
              <a:spcAft>
                <a:spcPts val="1375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57200" y="6443280"/>
            <a:ext cx="364968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c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3C79-8BB3-4ABF-B089-D63809A8D777}" type="slidenum">
              <a:rPr b="0" lang="en-US" sz="800" spc="-1" strike="noStrike">
                <a:solidFill>
                  <a:srgbClr val="cc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43640"/>
            <a:ext cx="86868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0" b="4714"/>
          <a:stretch/>
        </p:blipFill>
        <p:spPr>
          <a:xfrm>
            <a:off x="7226280" y="444600"/>
            <a:ext cx="1548000" cy="37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5360" y="2819520"/>
            <a:ext cx="8686800" cy="2898720"/>
          </a:xfrm>
          <a:prstGeom prst="rect">
            <a:avLst/>
          </a:prstGeom>
          <a:solidFill>
            <a:srgbClr val="cc0000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80800"/>
            <a:ext cx="6719760" cy="1716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455760" y="6319800"/>
            <a:ext cx="3471840" cy="30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cc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381D-0E8A-4AC8-80E1-F3C1F3F34547}" type="slidenum">
              <a:rPr b="0" lang="en-US" sz="800" spc="-1" strike="noStrike">
                <a:solidFill>
                  <a:srgbClr val="cc0000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cc0000"/>
                </a:solidFill>
                <a:latin typeface="Times New Roman"/>
              </a:rPr>
              <a:t>CADENCE DESIGN SYSTEMS, INC.</a:t>
            </a:r>
            <a:r>
              <a:rPr b="0" lang="en-US" sz="800" spc="-1" strike="noStrike">
                <a:solidFill>
                  <a:srgbClr val="cc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5360" y="5791320"/>
            <a:ext cx="8686800" cy="8380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5360" y="228600"/>
            <a:ext cx="8686800" cy="25146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0" r="0" b="4825"/>
          <a:stretch/>
        </p:blipFill>
        <p:spPr>
          <a:xfrm>
            <a:off x="6946920" y="573120"/>
            <a:ext cx="1700280" cy="411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79360" indent="0" algn="ctr"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631800" algn="ctr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3" marL="966960" algn="ctr">
              <a:spcAft>
                <a:spcPts val="1001"/>
              </a:spcAft>
              <a:buClr>
                <a:srgbClr val="4d4d4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4" marL="22860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2860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2860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80800"/>
            <a:ext cx="6719760" cy="1716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BIS 4.1 Status and Update</a:t>
            </a:r>
            <a:br>
              <a:rPr sz="3200"/>
            </a:br>
            <a:br>
              <a:rPr sz="26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ynne Gree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BIS Summi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une 2003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FE11C-1AEA-46D6-A1DE-E262440D61FD}" type="slidenum">
              <a:t>1</a:t>
            </a:fld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Next Steps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BIS Futures Committee edits rough draf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Draft version of 4.1 goes to IBIS Open Forum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Open Forum discusses draf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Revision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Addition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On third meeting, can come up for a vot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Parser development (bidding, funding, coding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ubmit to EIA as IBIS 656-B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F2482-C833-4E08-A81D-CE4FF27F3BCE}" type="slidenum">
              <a:t>10</a:t>
            </a:fld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Examples of AMS models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Dan Fitzpatrick and Ira Miller, “Analog Behavioral Modeling with the Verilog-A Language”, Kluwer Academic Publishers, 1998.  Includes software and models on CD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http://www.eda.org/verilog-ams/htmlpages/examples.html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Lynne Green, DesignCon 2003 Summit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Arpad Muranyi, today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C3F38-62E1-43FC-A1BB-D1D7548DD211}" type="slidenum">
              <a:t>11</a:t>
            </a:fld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Late-breaking News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548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Business Wire, June 2, 2003 </a:t>
            </a:r>
            <a:br>
              <a:rPr sz="2200"/>
            </a:b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Accellera Approves Four New Design Verification Standard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  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NAPA, Calif.--(BUSINESS WIRE)--June 2, 2003--Accellera, the electronics industry organization focused on language-based electronic design standards, today announced that its Board and Technical Committee members -- systems, semiconductor and design tool companies -- have approved four new standards for language-based design verification. The new Accellera standards include Property Specification Language (PSL) 1.01, Standard Co-Emulation Application Programming Interface (SCE-API) 1.0, SystemVerilog 3.1 and </a:t>
            </a:r>
            <a:r>
              <a:rPr b="0" lang="en-US" sz="2200" spc="-1" strike="noStrike" u="sng">
                <a:solidFill>
                  <a:srgbClr val="4d4d4d"/>
                </a:solidFill>
                <a:uFillTx/>
                <a:latin typeface="Arial"/>
              </a:rPr>
              <a:t>Verilog-AMS 2.1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184C4-A210-45F8-A376-E08699F0CEB8}" type="slidenum">
              <a:t>12</a:t>
            </a:fld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IBIS 4.1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BIS 4.0 statu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BIS 4.1 statu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Approved BIRD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Open BIRD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Next step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2D997-5FF7-4B43-A967-F00AA00A2A50}" type="slidenum">
              <a:t>2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IBIS 4.0 Status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Voted in July 2002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Parser expected Q3/03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BIS 4.0 contain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11 new BIRD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85248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Expanded input threshold specifications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2" marL="85248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Golden waveform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he usual parser bug fix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E1BB8-A84D-47AA-ADDA-DBED17454728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IBIS 4.1 Status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irst pass documen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192bf"/>
                </a:solidFill>
                <a:latin typeface="Arial"/>
              </a:rPr>
              <a:t>http://www.eda.org/pub/ibis/wip/ver4_1a.ib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ive approved BIRD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BIRD75.8, BIRD77.2, BIRD78.1, BIRD80.1, BIRD81.1 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The usual parser bug fix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One open BIRD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Not expected to be in IBIS 4.1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91565-625A-4842-B002-7688008F7B9A}" type="slidenum">
              <a:t>4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Five Approved BIRDs</a:t>
            </a:r>
            <a:br>
              <a:rPr sz="2700"/>
            </a:b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BIRD75.8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Multi-lingual support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irst submitted: 3/29/02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Approved: 1/10/03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upports SPICE 3f5, Verilog-AMS, VHDL-AM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External model files (subcircuits)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No parameter passing into model fil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68CD3-2F55-492F-B0B9-78920EAF9AFD}" type="slidenum">
              <a:t>5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Five Approved BIRDs</a:t>
            </a:r>
            <a:br>
              <a:rPr sz="2700"/>
            </a:b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BIRD75.8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lvl="1" marL="5000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-- [Component]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 ..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-- [Node Declarations]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-- [End Node Declarations]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 ..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 ..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-- [Circuit Call]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-- [End Circuit Call]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 ..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76920" y="1600200"/>
            <a:ext cx="403848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lvl="1" marL="5000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-- [Model]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   | ..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   |-- [External Model]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   |-- [End External Model]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   | ..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 ..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-- [External Circuit]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-- [End External Circuit]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0">
              <a:spcAft>
                <a:spcPts val="13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| ...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2DFC8-CFFE-45F7-AA85-466D941077CE}" type="slidenum">
              <a:t>6</a:t>
            </a:fld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Approved BIRDs</a:t>
            </a:r>
            <a:br>
              <a:rPr sz="2700"/>
            </a:b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BIRD77.2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New model typ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80000"/>
              </a:lnSpc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nput_diff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80000"/>
              </a:lnSpc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Output_diff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80000"/>
              </a:lnSpc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/O_diff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80000"/>
              </a:lnSpc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3-state_diff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lnSpc>
                <a:spcPct val="80000"/>
              </a:lnSpc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New timing </a:t>
            </a:r>
            <a:br>
              <a:rPr sz="2200"/>
            </a:b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ubparameter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80000"/>
              </a:lnSpc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Rref_diff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lnSpc>
                <a:spcPct val="80000"/>
              </a:lnSpc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ref_diff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657240" y="990360"/>
            <a:ext cx="5181480" cy="457020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 fontScale="83000"/>
          </a:bodyPr>
          <a:p>
            <a:pPr marL="13680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_________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3680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|         |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3680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|      |\ |                Rref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3680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|Driver| \|--o---o---o----/\/\/\--o Vref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3680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|      | /|  |   |   |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3680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|      |/ |  |   |  === Cref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3680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|_________|  /   |   |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3680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             </a:t>
            </a: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\   |  GND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3680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Rref_diff /  ===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3680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_________   \   | Cref_diff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3680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|         |  |   |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3680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|      |\ |  |   |         Rref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3680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|Driver| \|--o---o---o----/\/\/\--o Vref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3680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|      | /|          |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3680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|      |/ |         === Cref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3680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|_________|          |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3680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4d4d4d"/>
                </a:solidFill>
                <a:latin typeface="Courier New"/>
              </a:rPr>
              <a:t>GND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13680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1371600"/>
            <a:ext cx="1295640" cy="434340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5A5DC-4B4E-43E8-B3D9-3A51800E90AD}" type="slidenum">
              <a:t>7</a:t>
            </a:fld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Approved BIRDs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BIRD78.1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Extend line length to 120 char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BIRD80.1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Add ext_ref as new [Pin Mapping] column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BIRD81.1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larification of models in [Pin] section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Using [Series Pin Mapping] description earlier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B5AD1-0037-4202-86B5-58277D343CEB}" type="slidenum">
              <a:t>8</a:t>
            </a:fld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0000"/>
                </a:solidFill>
                <a:latin typeface="Arial"/>
              </a:rPr>
              <a:t>Open BIRDs</a:t>
            </a:r>
            <a:endParaRPr b="1" lang="en-US" sz="27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05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0" bIns="137160" anchor="t">
            <a:normAutofit/>
          </a:bodyPr>
          <a:p>
            <a:pPr marL="165240" indent="0"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165240" indent="-165240">
              <a:spcAft>
                <a:spcPts val="1375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BIRD 74.4, EMI Parameter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Add EMI parameters to IBI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First submitted, March 19, 2002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Discussions in IBIS Open Forum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lvl="1" marL="500040" indent="-220680">
              <a:spcAft>
                <a:spcPts val="1375"/>
              </a:spcAft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Several revision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6A1B2-E852-4C6E-B14D-342773477DF0}" type="slidenum">
              <a:t>9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7T19:39:45Z</dcterms:created>
  <dc:creator>Lynne Green</dc:creator>
  <dc:description/>
  <dc:language>en-US</dc:language>
  <cp:lastModifiedBy>Bob Ross</cp:lastModifiedBy>
  <cp:lastPrinted>2001-02-02T22:51:20Z</cp:lastPrinted>
  <dcterms:modified xsi:type="dcterms:W3CDTF">2003-06-02T21:50:37Z</dcterms:modified>
  <cp:revision>6</cp:revision>
  <dc:subject/>
  <dc:title>IBIS 4.1</dc:title>
</cp:coreProperties>
</file>