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93660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93660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CE8314-DCF5-4DDB-A1E8-5283FF60F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I can’t see what I am typing when I enter the presente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&amp;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This is an issue with PowerPoint. Here is the current work around, not the most elegant solution but it work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the area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Type a w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Highlight the w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ba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Finish typ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wh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9C0A-3DF1-4C34-8A7F-A2DF2BF80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295C-3E86-4DFE-8D54-FEFC6FF38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A860-78DC-4BB2-8B85-A269C525A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1198-5186-4F21-9F1A-8D6997C58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91CF-B027-496A-9CD4-614CBC469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65B9-29AD-43A9-97E5-23323D7FA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C1F5-A5F5-4E29-BAC9-8FA677359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86C9-82C3-4FF8-A843-C079712EB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43C3-ED4D-47CB-A689-903E76D2B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ADB2-8EED-4633-8F57-20B0893C8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306B-D180-4205-B83E-597E1A8AD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4471-0B1B-4F24-810F-0E6818290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-white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800" y="65530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92C-9E84-4356-B83C-66FAFC014D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91320" y="65530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1999-2002, Mentor Graphic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%20Page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Multi-Lingual Modeling Applications and Issues</a:t>
            </a:r>
            <a:br>
              <a:rPr sz="4700"/>
            </a:br>
            <a:br>
              <a:rPr sz="3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Bob Ross</a:t>
            </a: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June 13, 2002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IBIS Summit Meeting</a:t>
            </a: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New Orleans, Louisiana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djacent Drivers Out of Phas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EEE8-FD95-416F-BD52-AC1002CD76E0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djacent Drivers In Phas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E703-44FF-41F9-AF0D-2B5AC6BD6D10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8580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7238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Times New Roman"/>
              </a:rPr>
              <a:t>Add IBIS I/O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7600" y="4952880"/>
            <a:ext cx="56102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Zsub: basically a 1-10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serial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io : decoupling capacitance for IO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O block: reuse of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2635200"/>
            <a:ext cx="7041960" cy="2257200"/>
            <a:chOff x="685800" y="2635200"/>
            <a:chExt cx="7041960" cy="2257200"/>
          </a:xfrm>
        </p:grpSpPr>
        <p:sp>
          <p:nvSpPr>
            <p:cNvPr id="133" name=""/>
            <p:cNvSpPr/>
            <p:nvPr/>
          </p:nvSpPr>
          <p:spPr>
            <a:xfrm>
              <a:off x="2057400" y="2788920"/>
              <a:ext cx="4114800" cy="2103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705480" y="3155760"/>
              <a:ext cx="718560" cy="1101600"/>
              <a:chOff x="3705480" y="3155760"/>
              <a:chExt cx="718560" cy="1101600"/>
            </a:xfrm>
          </p:grpSpPr>
          <p:sp>
            <p:nvSpPr>
              <p:cNvPr id="135" name=""/>
              <p:cNvSpPr/>
              <p:nvPr/>
            </p:nvSpPr>
            <p:spPr>
              <a:xfrm>
                <a:off x="3705480" y="35445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069080" y="3155760"/>
                <a:ext cx="354960" cy="1101600"/>
                <a:chOff x="4069080" y="3155760"/>
                <a:chExt cx="354960" cy="11016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240440" y="31557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4069080" y="3503880"/>
                  <a:ext cx="354960" cy="343080"/>
                  <a:chOff x="4069080" y="3503880"/>
                  <a:chExt cx="354960" cy="3430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4069080" y="35038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0953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2177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" name=""/>
                <p:cNvSpPr/>
                <p:nvPr/>
              </p:nvSpPr>
              <p:spPr>
                <a:xfrm flipV="1">
                  <a:off x="4240440" y="38426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 rot="5400000">
              <a:off x="2694960" y="29746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1160" y="26352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2971800"/>
              <a:ext cx="100620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913" y="10800"/>
                  </a:moveTo>
                  <a:lnTo>
                    <a:pt x="23235" y="8272"/>
                  </a:lnTo>
                </a:path>
                <a:path w="21600" h="21600">
                  <a:moveTo>
                    <a:pt x="23235" y="0"/>
                  </a:moveTo>
                  <a:lnTo>
                    <a:pt x="23235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5439" y="809"/>
                  </a:moveTo>
                  <a:lnTo>
                    <a:pt x="23098" y="8317"/>
                  </a:lnTo>
                </a:path>
                <a:path w="21600" h="21600">
                  <a:moveTo>
                    <a:pt x="23098" y="0"/>
                  </a:moveTo>
                  <a:lnTo>
                    <a:pt x="230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74520" y="42145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4520" y="31208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875600" y="3155760"/>
              <a:ext cx="604080" cy="1096560"/>
              <a:chOff x="1875600" y="3155760"/>
              <a:chExt cx="604080" cy="1096560"/>
            </a:xfrm>
          </p:grpSpPr>
          <p:sp>
            <p:nvSpPr>
              <p:cNvPr id="150" name=""/>
              <p:cNvSpPr/>
              <p:nvPr/>
            </p:nvSpPr>
            <p:spPr>
              <a:xfrm>
                <a:off x="2227320" y="3622320"/>
                <a:ext cx="25236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27320" y="37090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7560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511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511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966680" y="3155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666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71800" y="31557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3244320" y="29746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64680" y="27270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2694240" y="40723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666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1800" y="42526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3243600" y="40723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5680" y="453204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65400" y="4532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20800" y="3155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0800" y="42526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156840" y="3155760"/>
              <a:ext cx="602280" cy="1096560"/>
              <a:chOff x="3156840" y="3155760"/>
              <a:chExt cx="602280" cy="1096560"/>
            </a:xfrm>
          </p:grpSpPr>
          <p:sp>
            <p:nvSpPr>
              <p:cNvPr id="169" name=""/>
              <p:cNvSpPr/>
              <p:nvPr/>
            </p:nvSpPr>
            <p:spPr>
              <a:xfrm>
                <a:off x="350748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748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5684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09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309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rot="5400000">
              <a:off x="5069880" y="3423960"/>
              <a:ext cx="923760" cy="54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61120" y="3565440"/>
              <a:ext cx="903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06800" y="3612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52120" y="3617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441760" y="41605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41760" y="315576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4615200" y="4072320"/>
              <a:ext cx="189000" cy="3650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36640" y="45320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41760" y="425268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64000" y="419868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649" y="1502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278892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4702" y="24834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84560" y="3155760"/>
              <a:ext cx="12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73720" y="311760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509720" y="3155760"/>
              <a:ext cx="601920" cy="1096560"/>
              <a:chOff x="4509720" y="3155760"/>
              <a:chExt cx="601920" cy="109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486000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6000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09720" y="3630600"/>
                <a:ext cx="47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8348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8348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5111640" y="2727000"/>
              <a:ext cx="895320" cy="1822680"/>
            </a:xfrm>
            <a:prstGeom prst="ellipse">
              <a:avLst/>
            </a:prstGeom>
            <a:noFill/>
            <a:ln w="28440">
              <a:solidFill>
                <a:srgbClr val="00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17760" y="3155760"/>
              <a:ext cx="768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CC66-003C-406D-84C8-5597D55901CD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584360" y="108000"/>
          <a:ext cx="597384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08000"/>
                    <a:ext cx="597384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6EBA-133A-4C03-8B02-DD2B3E611116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ome Issues and Discussion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y [External Model] and [External Circuit]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syntax differen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y [Node Declarations]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variable declarations in some langu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mat of tables and names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 for review and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ell_port usag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ociate displaced model to pi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action with other keyword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 can be made more exclus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73E1-6F92-4DC1-AC45-CF754FA111C6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mplementation/EDA Vendor Issu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w to isolate nets of interes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set of dedicated mode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 of selecting nets of inter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rol of stimulu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ough interconnection with other nets in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t in generat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led in sync. with a model as an [External Model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42EB-BEDC-4447-BDBD-F06DCDFC618C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hat’s Next?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RD75.1 to describe details are now being review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ned for vote and IBIS Version 4.1 rel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057400" y="1143000"/>
          <a:ext cx="497052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143000"/>
                    <a:ext cx="49705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400800" y="1447920"/>
            <a:ext cx="685800" cy="335268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2590920"/>
            <a:ext cx="380880" cy="11430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137160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236232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335268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1219320"/>
            <a:ext cx="2590920" cy="335268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93C3-E593-425C-B3FD-0CA0ED842C16}" type="slidenum">
              <a:t>16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Benefits of Multi-Lingual Suppor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del advances beyond IBI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differential buffers, current buff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SI driver/terminator advan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detailed over-clocked buffer deta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O effects and gate modu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based 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e interconnect advanc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terconnect and complex package 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voltage rail, power integrity inter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buffer strength contro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oser digital and analog analysis (AMS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E9AF-2C53-4883-82F8-FCEC3EC24CAA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pplication: Die (left) &amp; Package (right)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9D99-C793-45AB-B2B4-44707E3DBBCB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hy/How Multi-Lingual Modeling?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verages existing IBIS, Spice, VHDL-AMS, Verilog-AM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use IBIS where appropri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on uses IBIS for Pinout, Pkg., Info. &amp; Spe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es external code fi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ulti-lingual EDA tools from many compani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tor, Cadence, Synopsys (Avanti),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ster response to industry - IBIS &amp; few keyword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External Model]: Buffer level external mode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External Circuit]: Die circuit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ode Declarations], [Circuit Call]: Interconn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88B6-178A-442D-A4D0-657F6BC49373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gital (logic) and Analog Ports and Reference Models for I/O Buffer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343400" y="2057400"/>
          <a:ext cx="655308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6553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2057400"/>
          <a:ext cx="6400800" cy="274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6400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FC0D-4290-4EF7-AEEB-22F84987FC65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xisting IBIS or [External Model]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7760" y="1295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 under [Model] &lt;model_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&lt;selection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 &lt;typ,min,max files and model name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s &lt;analog and digital port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_to_A &lt;digital signals to Spice ramp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_to_D &lt;Spice thresholds to digital signal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or external reference suppl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connection or interconnection synta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143000"/>
          <a:ext cx="67816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6781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6C42-D24E-4A8D-9686-D3B78CCB84A3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ontrolled Model &amp; [External Circuit]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19720" y="12952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Circuit] &lt;circuit_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&lt;selection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 &lt;typ, min, max files, name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s &lt;port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 and [External Circuit] connected using internal and die nodes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ode Declarations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ternal node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ircuit Call] &lt;model or circuit 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_map &lt;port to node mapping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_port &lt;die nod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1295280"/>
          <a:ext cx="685800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6858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8A11-9BFE-4402-89F3-A3B63E44461F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roposal Includes Mor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ue and single-ended Differential buffe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ries eleme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edefined signal names support all combination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[Model] to die nodes (existing standar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[Model] through [External Circuit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External Model] to die no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External Model] through [External Circuit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Circuit Call] required for last three cases, optional for first, but its usage overrides conflicting IBIS conn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799F-05E1-4520-AFFB-80188E55BFDD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Two Exampl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SO Impact on Timing with Lossy Die Power Ne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site phase adjacent drivers: power burst, less del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hase adjacent drivers: power droop, more dela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grated Circuit Electromagnetic Model (ICEM) from Europ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 noise model for statistical currents drawn by internal clocks added to power nets for EMI current distrib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ing Applicaions and Issues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8B64-437B-4496-BCFC-00CA2174A836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Bob Ross</cp:lastModifiedBy>
  <cp:lastPrinted>2002-01-03T01:13:29Z</cp:lastPrinted>
  <dcterms:modified xsi:type="dcterms:W3CDTF">2002-06-10T01:10:21Z</dcterms:modified>
  <cp:revision>219</cp:revision>
  <dc:subject/>
  <dc:title>No Slide Title</dc:title>
</cp:coreProperties>
</file>