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029-0140-44B4-9380-E6CD6602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47C-0207-4DD4-A005-68D4B6D3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CE5-F153-4D57-B1AA-10E98A7D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870-20E2-4F84-BE88-5A68650C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5874-EEC4-4075-9D50-638F4060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61D4-27D9-44C7-99B8-89A9423E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E34B-DBF9-43F7-910E-22B148B6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1857-7B59-479F-9775-448FEDD6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4D2A-FDD3-40ED-B316-EA5E3BDA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5D8C-6FFF-49EC-AB08-56104149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4591-6C16-4367-9366-D0DE833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0EE-2161-4990-96E7-18C8089B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2185-2508-4457-9182-5113FE58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117F-5746-4779-9A97-6758212B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2F58-2DBF-4865-8F7E-0E4B117A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CE2A-48C6-4C8B-BD09-0C1C5F33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E4B5-9ED3-4B92-9616-D2C9B695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E1A-5E61-41AD-A956-58CA9482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4E7-CD60-4D24-AC4B-51915D01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491-A534-4DAD-8ED2-C9BBED9A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D31-BDBE-4EBF-AE33-2636AD3A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A3E-113A-417D-A9EA-F2947072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BA8-05CC-4E29-BE2F-E4CB05F5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C49-A7CE-47FC-8449-2ABC682E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7671-854E-419D-A726-8CE04F0847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IS Summit Jun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459C-0645-4D74-8ADF-A8EAC09A3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F645-F1ED-4369-97FC-36FFD4BAB2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IS Summi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EB26-2099-4250-84C9-A2A77E0A3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Interconnect Specific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Peters, Intel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A502-61DA-4349-B211-F89F1AA915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rrent Statu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rocess of final editori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 1.0 release set for June 20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on IBIS website under the “Connector Info”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changes/enhancements since the last re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d auto pinmap functionality, removed redundant info, streamlined keyword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the “G” to LRGC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support for non-regular interconnect (nodal path descrip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support for freq dependent transmission line parameters (via S-para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or” spec now encompasses both connectors and package interconne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E85-1A28-41DB-9BC6-542EC1064C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Overview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.icm file supports one (1) interconnect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nterconnect family includes one or more individual interconnect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interconnect descriptions include the follow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nfo like manufacture, description, mating conditions, model limit (max slew rate)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type (MLM, SLM or S-parame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th description, either ‘tree’ or ‘nodal’, that describes how the matrices are inter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pplicable, info that allows pin swa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between external pins/node of interconnect and the rows of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es contain either LRGC or S-parameter data (via external Touchstone fi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499-C91B-4B18-A9C8-B7E8CED067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Overview (cont.)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supports three different types of interconn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(no pins missing) rectangular 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thable, can use either path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, non-rectangular conne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swathable, can use either path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egular connector/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swathable, must use nodal path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vs. Tree type path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ree Path Description] cascades matrices back to back, each row of matrix corresponds to a single pin, same # of pins front an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Nodal Path Description] connects matrices via explicit node names, can build arbitrary structures with missing pins, different size matric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370-286F-4A8E-A46A-FB7BA0EC22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6069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LM and SLM Mode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M = Multi-line (coupled)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or including pin-to-pin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specifies partial inductance values and Maxwell capacitance values i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 is to support xtalk and return path sim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M = Single lines (un-coupled)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M_EvenMode/OddMode/Quiescent models have documented ground return paths(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M_General only documents GSR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specifies loop inductance i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nt is to ‘bracket’ interconnect performance under specif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arameter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inition are coupled models, unused terminals terminated by reference impe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5C5-449E-4828-8606-140F135080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ength vs. Multiplier Matrix Specific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description specifies how to interpret the data in an RLGC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 = per-unit-length, intended for distributed transmission line elements.  Expansion by multi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 = lumped elements, intended to be rendered into circuit netlists. Expansion by cascading 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parameter is always lumped, non-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erivation Method] keyword in matrix section provides a cross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tyles for two different purpo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unit length results from a 2-D extraction of parallel structures (I.e. package tr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multiplier results from a 3-D extraction of non-regular structure (I.e. conn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CE7-FE02-4105-B5E6-8D418A40BE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10:06Z</dcterms:created>
  <dc:creator>sjpeters</dc:creator>
  <dc:description/>
  <dc:language>en-US</dc:language>
  <cp:lastModifiedBy>Bob Ross</cp:lastModifiedBy>
  <dcterms:modified xsi:type="dcterms:W3CDTF">2002-06-12T00:00:34Z</dcterms:modified>
  <cp:revision>9</cp:revision>
  <dc:subject/>
  <dc:title>IBIS Interconnect Specification</dc:title>
</cp:coreProperties>
</file>