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93F6-C6F6-4B96-8599-913C8C6F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80E5-811F-4723-8706-7A000A1A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4093-D342-4C76-8889-BF60D4E5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F865-246A-4D61-A048-80290F5F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CACA-8656-4548-BB15-C0ECA3DD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867F-D790-4ACE-81B0-3CC1E736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F651-22E2-46DE-A98B-0800CEAF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BB03-798B-4C09-8B8F-B322793C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1087-3D27-4937-AA05-CE940818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8A02-3862-408B-AF5C-E4574F8A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D0CE-F258-4313-9641-25B734DD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7A6E-EFCE-4DC8-AEB1-E90967C6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B63B-70E0-4E51-B65B-76AC33D1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D890-31D1-4FBF-B958-E19534D3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1806-78AC-424C-95A3-FBC9771A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04A6-4FED-4962-A4E0-C7825462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29F7-E238-49CF-9E54-B5117935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2385-FEF0-4AD6-9289-5753AE20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2AD-9956-4DD6-9B69-335F4FF2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9583-F0CC-4B3D-8D47-F155C746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2371-D5D2-4209-8D7D-34023202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5445-D9D1-4D28-AA8A-06DE3CF6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A0D2-03AC-4B53-B325-2FE4E9C9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CE44-3D78-487C-B2D8-B48DDEB0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BIS Summit June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2B49-725C-4837-9F3F-AE84942C0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BIS Annual Repor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hen P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Co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13, 2002  New Orl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43BD-5306-484D-AAD2-BB1FDD7F60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Today's Meeting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IS Status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ion of Officers for 2002 –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from the Qualit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VDS and C_comp Modeling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IS 4.0 and Multi-lingual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connect Specification De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den Parser Open Source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Ad Hoc Discu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16F8-CF85-40C1-9305-7C528EC54F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60696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tatus Updat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Open Forum  - entering our tenth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3.2 is truly an international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 EMC standard leverage off of I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 interest continues thru E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 30 paid members, with 350-400 on the refl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 to 70 model sources available (up from last y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 economic downturn, we have a surplus of $2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Events this Pa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Quality Committee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d to Majordomo for mailing list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shifted from IBIS-X to Multi-lingual modeling proposal (BIRD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BIS is a vital part of the industry, and can remain that way into the foreseeabl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4E4F-C96D-4801-94C4-555132D5B8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439560"/>
            <a:ext cx="74674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Challenges For The Coming Year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the Roadmap Into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 IBIS 4.0, thereby enabling EDA vendors and parser writers to get to work on functionality not covered by BIRD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 quickly on the Multi-Lingual Modeling propo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IBIS package description needs by driving the Interconnect Spec to accep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IBIS Model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 model developers to </a:t>
            </a: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cre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quality mod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ower users to </a:t>
            </a: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dem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ood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track and support EMC and XML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d, where appropriate, IBIS to support EMC/E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 the desire/need for XML based par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he organization st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e financial solvency, retain current members (and find new on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62BA-BCFF-46DF-9358-EFBD0D4F85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Well Deserved Thanks Too…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b Ross, for his continued behind-the-scenes support and eff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Angulo, for leading the Majordomo eff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ry Katz for driving the formation of the IBIS quality sub-committ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y Leventhal, Syed Huq and Guy de Burg for their sup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pad Muranyi, Lynne Green and Gus Panella for their technical contrib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finally…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Y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he model maker and user community, for your suggestions, participation and caring enough to support the work of the IBIS Open For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D04E-E56F-4E14-A347-80A5E726E9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9:20:36Z</dcterms:created>
  <dc:creator>sjpeters</dc:creator>
  <dc:description/>
  <dc:language>en-US</dc:language>
  <cp:lastModifiedBy>Bob Ross</cp:lastModifiedBy>
  <dcterms:modified xsi:type="dcterms:W3CDTF">2002-06-12T13:52:20Z</dcterms:modified>
  <cp:revision>15</cp:revision>
  <dc:subject/>
  <dc:title>IBIS Annual Report</dc:title>
</cp:coreProperties>
</file>