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976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" name="Logo_grau_auf_gelb" descr=""/>
          <p:cNvPicPr/>
          <p:nvPr/>
        </p:nvPicPr>
        <p:blipFill>
          <a:blip r:embed="rId2"/>
          <a:stretch/>
        </p:blipFill>
        <p:spPr>
          <a:xfrm>
            <a:off x="7448400" y="277920"/>
            <a:ext cx="130176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8757360" y="4229280"/>
            <a:ext cx="53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179-92F5-4C72-8E0E-D69EE5AE2638}" type="slidenum">
              <a:rPr b="0" lang="en-US" sz="1000" spc="-1" strike="noStrike">
                <a:solidFill>
                  <a:srgbClr val="5f5f5f"/>
                </a:solidFill>
                <a:latin typeface="Siemens Sans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8782920" y="458172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pag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2120" y="6477120"/>
            <a:ext cx="74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6477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3366"/>
                </a:solidFill>
                <a:latin typeface="Arial"/>
              </a:rPr>
              <a:t>Information 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166212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64771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IBIS-models today, their parameters and their accuracy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 rot="16200000">
            <a:off x="8261280" y="5594400"/>
            <a:ext cx="15242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13</a:t>
            </a:r>
            <a:r>
              <a:rPr b="0" lang="en-US" sz="1400" spc="-1" strike="noStrike" baseline="30000">
                <a:solidFill>
                  <a:srgbClr val="003366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.Jun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reichstag_w_text" descr=""/>
          <p:cNvPicPr/>
          <p:nvPr/>
        </p:nvPicPr>
        <p:blipFill>
          <a:blip r:embed="rId3"/>
          <a:srcRect l="0" t="61465" r="0" b="7811"/>
          <a:stretch/>
        </p:blipFill>
        <p:spPr>
          <a:xfrm>
            <a:off x="0" y="6477120"/>
            <a:ext cx="1662120" cy="38088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 rot="16200000">
            <a:off x="8750160" y="39146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of   2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rot="16200000">
            <a:off x="7755120" y="224460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BIS summit meeting DAC 200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" name="Reichstag2" descr=""/>
          <p:cNvPicPr/>
          <p:nvPr/>
        </p:nvPicPr>
        <p:blipFill>
          <a:blip r:embed="rId4"/>
          <a:srcRect l="18885" t="0" r="0" b="33242"/>
          <a:stretch/>
        </p:blipFill>
        <p:spPr>
          <a:xfrm>
            <a:off x="0" y="0"/>
            <a:ext cx="1587600" cy="1139760"/>
          </a:xfrm>
          <a:prstGeom prst="rect">
            <a:avLst/>
          </a:prstGeom>
          <a:ln w="0">
            <a:noFill/>
          </a:ln>
        </p:spPr>
      </p:pic>
      <p:sp>
        <p:nvSpPr>
          <p:cNvPr id="22" name=""/>
          <p:cNvSpPr/>
          <p:nvPr/>
        </p:nvSpPr>
        <p:spPr>
          <a:xfrm>
            <a:off x="371520" y="6477120"/>
            <a:ext cx="9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</a:rPr>
              <a:t>E. Lenski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666800" cy="6864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85596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Arial"/>
              </a:rPr>
              <a:t>Information</a:t>
            </a:r>
            <a:br>
              <a:rPr sz="1200"/>
            </a:br>
            <a:r>
              <a:rPr b="0" sz="1200" spc="-1" strike="noStrike">
                <a:solidFill>
                  <a:srgbClr val="ffffff"/>
                </a:solidFill>
                <a:latin typeface="Arial"/>
              </a:rPr>
              <a:t>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19920" y="3429000"/>
            <a:ext cx="2437920" cy="388800"/>
            <a:chOff x="6019920" y="3429000"/>
            <a:chExt cx="2437920" cy="388800"/>
          </a:xfrm>
        </p:grpSpPr>
        <p:sp>
          <p:nvSpPr>
            <p:cNvPr id="73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415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415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97960" y="3436560"/>
              <a:ext cx="45684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97960" y="3436560"/>
              <a:ext cx="45684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ichstag2" descr=""/>
          <p:cNvPicPr/>
          <p:nvPr/>
        </p:nvPicPr>
        <p:blipFill>
          <a:blip r:embed="rId1"/>
          <a:srcRect l="18869" t="83384" r="0" b="0"/>
          <a:stretch/>
        </p:blipFill>
        <p:spPr>
          <a:xfrm>
            <a:off x="1660680" y="5710320"/>
            <a:ext cx="748332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"/>
              </a:rPr>
              <a:t>IBIS-models today, their parameters and their accuracy</a:t>
            </a:r>
            <a:endParaRPr b="1" lang="en-US" sz="39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18120" y="3429000"/>
            <a:ext cx="2438640" cy="388800"/>
            <a:chOff x="6018120" y="3429000"/>
            <a:chExt cx="2438640" cy="388800"/>
          </a:xfrm>
        </p:grpSpPr>
        <p:sp>
          <p:nvSpPr>
            <p:cNvPr id="127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97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97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96520" y="3436560"/>
              <a:ext cx="45720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96520" y="3436560"/>
              <a:ext cx="45720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41" name="Reichstag2" descr=""/>
          <p:cNvPicPr/>
          <p:nvPr/>
        </p:nvPicPr>
        <p:blipFill>
          <a:blip r:embed="rId2"/>
          <a:srcRect l="18885" t="0" r="0" b="33242"/>
          <a:stretch/>
        </p:blipFill>
        <p:spPr>
          <a:xfrm>
            <a:off x="1662120" y="0"/>
            <a:ext cx="748044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61760" y="5791320"/>
            <a:ext cx="748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ckhard Lenski     Siemens A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85960" y="625788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BIS summit meeting DAC 200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5781600" y="5011560"/>
            <a:ext cx="3117960" cy="102888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ceiver with three ran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520" y="1216080"/>
            <a:ext cx="4024080" cy="1613880"/>
            <a:chOff x="2520" y="1216080"/>
            <a:chExt cx="4024080" cy="1613880"/>
          </a:xfrm>
        </p:grpSpPr>
        <p:sp>
          <p:nvSpPr>
            <p:cNvPr id="545" name=""/>
            <p:cNvSpPr/>
            <p:nvPr/>
          </p:nvSpPr>
          <p:spPr>
            <a:xfrm>
              <a:off x="990720" y="203040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0720" y="2708280"/>
              <a:ext cx="16002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90720" y="243684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90720" y="1284120"/>
              <a:ext cx="0" cy="14241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43280" y="2436840"/>
              <a:ext cx="228600" cy="271440"/>
            </a:xfrm>
            <a:prstGeom prst="upDownArrow">
              <a:avLst>
                <a:gd name="adj1" fmla="val 50000"/>
                <a:gd name="adj2" fmla="val 23638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09680" y="2030400"/>
              <a:ext cx="228600" cy="406440"/>
            </a:xfrm>
            <a:prstGeom prst="upDownArrow">
              <a:avLst>
                <a:gd name="adj1" fmla="val 50000"/>
                <a:gd name="adj2" fmla="val 35394"/>
              </a:avLst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24200" y="1622520"/>
              <a:ext cx="266400" cy="407880"/>
            </a:xfrm>
            <a:prstGeom prst="upDownArrow">
              <a:avLst>
                <a:gd name="adj1" fmla="val 50000"/>
                <a:gd name="adj2" fmla="val 30480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92720" y="1622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High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91640" y="203040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3300"/>
                  </a:solidFill>
                  <a:latin typeface="Times New Roman"/>
                </a:rPr>
                <a:t>Forbidde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93080" y="237024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ow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20" y="12160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U [V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888720" y="1216080"/>
            <a:ext cx="3853800" cy="1613880"/>
            <a:chOff x="3888720" y="1216080"/>
            <a:chExt cx="3853800" cy="1613880"/>
          </a:xfrm>
        </p:grpSpPr>
        <p:sp>
          <p:nvSpPr>
            <p:cNvPr id="557" name=""/>
            <p:cNvSpPr/>
            <p:nvPr/>
          </p:nvSpPr>
          <p:spPr>
            <a:xfrm>
              <a:off x="4952880" y="203040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52880" y="2708280"/>
              <a:ext cx="16002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880" y="243684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52880" y="1284120"/>
              <a:ext cx="0" cy="14241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05440" y="2436840"/>
              <a:ext cx="228600" cy="271440"/>
            </a:xfrm>
            <a:prstGeom prst="upDownArrow">
              <a:avLst>
                <a:gd name="adj1" fmla="val 50000"/>
                <a:gd name="adj2" fmla="val 23638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72200" y="2030400"/>
              <a:ext cx="228600" cy="406440"/>
            </a:xfrm>
            <a:prstGeom prst="upDownArrow">
              <a:avLst>
                <a:gd name="adj1" fmla="val 50000"/>
                <a:gd name="adj2" fmla="val 3539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86360" y="1622520"/>
              <a:ext cx="266760" cy="407880"/>
            </a:xfrm>
            <a:prstGeom prst="upDownArrow">
              <a:avLst>
                <a:gd name="adj1" fmla="val 50000"/>
                <a:gd name="adj2" fmla="val 30438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4520" y="162252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ange 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54520" y="203040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ange 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54520" y="237024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ange 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88720" y="12160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U [V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951160" y="5105520"/>
            <a:ext cx="25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 IBIS-X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f-then-else-lo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480060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28600" y="2809800"/>
            <a:ext cx="3809520" cy="814320"/>
            <a:chOff x="228600" y="2809800"/>
            <a:chExt cx="3809520" cy="814320"/>
          </a:xfrm>
        </p:grpSpPr>
        <p:grpSp>
          <p:nvGrpSpPr>
            <p:cNvPr id="571" name=""/>
            <p:cNvGrpSpPr/>
            <p:nvPr/>
          </p:nvGrpSpPr>
          <p:grpSpPr>
            <a:xfrm>
              <a:off x="233280" y="2812680"/>
              <a:ext cx="3799440" cy="807840"/>
              <a:chOff x="233280" y="2812680"/>
              <a:chExt cx="3799440" cy="80784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233280" y="2812680"/>
                <a:ext cx="1266120" cy="403920"/>
                <a:chOff x="233280" y="2812680"/>
                <a:chExt cx="1266120" cy="4039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233280" y="281268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233280" y="2812680"/>
                  <a:ext cx="1265760" cy="403920"/>
                  <a:chOff x="233280" y="2812680"/>
                  <a:chExt cx="1265760" cy="4039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277560" y="281268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H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3280" y="281268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1499760" y="2812680"/>
                <a:ext cx="1266120" cy="403920"/>
                <a:chOff x="1499760" y="2812680"/>
                <a:chExt cx="1266120" cy="4039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499760" y="281268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9" name=""/>
                <p:cNvGrpSpPr/>
                <p:nvPr/>
              </p:nvGrpSpPr>
              <p:grpSpPr>
                <a:xfrm>
                  <a:off x="1499760" y="2812680"/>
                  <a:ext cx="1265760" cy="403920"/>
                  <a:chOff x="1499760" y="2812680"/>
                  <a:chExt cx="1265760" cy="4039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1544040" y="281268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0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1499760" y="281268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2" name=""/>
              <p:cNvGrpSpPr/>
              <p:nvPr/>
            </p:nvGrpSpPr>
            <p:grpSpPr>
              <a:xfrm>
                <a:off x="2766600" y="2812680"/>
                <a:ext cx="1266120" cy="403920"/>
                <a:chOff x="2766600" y="2812680"/>
                <a:chExt cx="1266120" cy="4039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2810880" y="2812680"/>
                  <a:ext cx="117684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cc+0.3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66600" y="2812680"/>
                  <a:ext cx="126612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233280" y="3216600"/>
                <a:ext cx="1266120" cy="403920"/>
                <a:chOff x="233280" y="3216600"/>
                <a:chExt cx="1266120" cy="40392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33280" y="321660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7" name=""/>
                <p:cNvGrpSpPr/>
                <p:nvPr/>
              </p:nvGrpSpPr>
              <p:grpSpPr>
                <a:xfrm>
                  <a:off x="233280" y="3216600"/>
                  <a:ext cx="1265760" cy="403920"/>
                  <a:chOff x="233280" y="3216600"/>
                  <a:chExt cx="1265760" cy="4039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277560" y="321660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L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3280" y="321660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0" name=""/>
              <p:cNvGrpSpPr/>
              <p:nvPr/>
            </p:nvGrpSpPr>
            <p:grpSpPr>
              <a:xfrm>
                <a:off x="1499760" y="3216600"/>
                <a:ext cx="1266120" cy="403920"/>
                <a:chOff x="1499760" y="3216600"/>
                <a:chExt cx="1266120" cy="40392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544040" y="3216600"/>
                  <a:ext cx="117684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-0.3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499760" y="3216600"/>
                  <a:ext cx="126612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2766600" y="3216600"/>
                <a:ext cx="1266120" cy="403920"/>
                <a:chOff x="2766600" y="3216600"/>
                <a:chExt cx="1266120" cy="4039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766600" y="321660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5" name=""/>
                <p:cNvGrpSpPr/>
                <p:nvPr/>
              </p:nvGrpSpPr>
              <p:grpSpPr>
                <a:xfrm>
                  <a:off x="2766600" y="3216600"/>
                  <a:ext cx="1265760" cy="403920"/>
                  <a:chOff x="2766600" y="3216600"/>
                  <a:chExt cx="1265760" cy="4039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2810880" y="321660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0.8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766600" y="321660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98" name=""/>
            <p:cNvSpPr/>
            <p:nvPr/>
          </p:nvSpPr>
          <p:spPr>
            <a:xfrm>
              <a:off x="228600" y="2809800"/>
              <a:ext cx="3809520" cy="81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059440" y="2813040"/>
            <a:ext cx="3849120" cy="1222560"/>
            <a:chOff x="5059440" y="2813040"/>
            <a:chExt cx="3849120" cy="1222560"/>
          </a:xfrm>
        </p:grpSpPr>
        <p:grpSp>
          <p:nvGrpSpPr>
            <p:cNvPr id="600" name=""/>
            <p:cNvGrpSpPr/>
            <p:nvPr/>
          </p:nvGrpSpPr>
          <p:grpSpPr>
            <a:xfrm>
              <a:off x="5059440" y="2819520"/>
              <a:ext cx="1493280" cy="404640"/>
              <a:chOff x="5059440" y="2819520"/>
              <a:chExt cx="1493280" cy="404640"/>
            </a:xfrm>
          </p:grpSpPr>
          <p:sp>
            <p:nvSpPr>
              <p:cNvPr id="601" name=""/>
              <p:cNvSpPr/>
              <p:nvPr/>
            </p:nvSpPr>
            <p:spPr>
              <a:xfrm>
                <a:off x="5111640" y="2819520"/>
                <a:ext cx="1387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-range3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59440" y="2819520"/>
                <a:ext cx="1493280" cy="404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6553080" y="2813040"/>
              <a:ext cx="8096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2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45160" y="2813040"/>
              <a:ext cx="870120" cy="405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7415280" y="2813040"/>
              <a:ext cx="1493280" cy="405000"/>
              <a:chOff x="7415280" y="2813040"/>
              <a:chExt cx="1493280" cy="405000"/>
            </a:xfrm>
          </p:grpSpPr>
          <p:sp>
            <p:nvSpPr>
              <p:cNvPr id="606" name=""/>
              <p:cNvSpPr/>
              <p:nvPr/>
            </p:nvSpPr>
            <p:spPr>
              <a:xfrm>
                <a:off x="7467480" y="2813040"/>
                <a:ext cx="1387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cc + 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415280" y="2813040"/>
                <a:ext cx="149328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5059440" y="3224160"/>
              <a:ext cx="1493280" cy="406440"/>
              <a:chOff x="5059440" y="3224160"/>
              <a:chExt cx="1493280" cy="406440"/>
            </a:xfrm>
          </p:grpSpPr>
          <p:sp>
            <p:nvSpPr>
              <p:cNvPr id="609" name=""/>
              <p:cNvSpPr/>
              <p:nvPr/>
            </p:nvSpPr>
            <p:spPr>
              <a:xfrm>
                <a:off x="5111640" y="3224160"/>
                <a:ext cx="138780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-range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59440" y="3224160"/>
                <a:ext cx="1493280" cy="406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545160" y="3218040"/>
              <a:ext cx="870120" cy="406080"/>
              <a:chOff x="6545160" y="3218040"/>
              <a:chExt cx="870120" cy="406080"/>
            </a:xfrm>
          </p:grpSpPr>
          <p:sp>
            <p:nvSpPr>
              <p:cNvPr id="612" name=""/>
              <p:cNvSpPr/>
              <p:nvPr/>
            </p:nvSpPr>
            <p:spPr>
              <a:xfrm>
                <a:off x="6553080" y="3218040"/>
                <a:ext cx="80964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1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545160" y="3218040"/>
                <a:ext cx="870120" cy="40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7415280" y="3218040"/>
              <a:ext cx="1493280" cy="406080"/>
              <a:chOff x="7415280" y="3218040"/>
              <a:chExt cx="1493280" cy="406080"/>
            </a:xfrm>
          </p:grpSpPr>
          <p:sp>
            <p:nvSpPr>
              <p:cNvPr id="615" name=""/>
              <p:cNvSpPr/>
              <p:nvPr/>
            </p:nvSpPr>
            <p:spPr>
              <a:xfrm>
                <a:off x="7467480" y="3218040"/>
                <a:ext cx="138780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15280" y="3218040"/>
                <a:ext cx="1493280" cy="40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5059440" y="3630600"/>
              <a:ext cx="1493280" cy="405000"/>
              <a:chOff x="5059440" y="3630600"/>
              <a:chExt cx="1493280" cy="405000"/>
            </a:xfrm>
          </p:grpSpPr>
          <p:sp>
            <p:nvSpPr>
              <p:cNvPr id="618" name=""/>
              <p:cNvSpPr/>
              <p:nvPr/>
            </p:nvSpPr>
            <p:spPr>
              <a:xfrm>
                <a:off x="5111640" y="3630600"/>
                <a:ext cx="1387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-range1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059440" y="3630600"/>
                <a:ext cx="149328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545160" y="3624120"/>
              <a:ext cx="870120" cy="405000"/>
              <a:chOff x="6545160" y="3624120"/>
              <a:chExt cx="870120" cy="405000"/>
            </a:xfrm>
          </p:grpSpPr>
          <p:sp>
            <p:nvSpPr>
              <p:cNvPr id="621" name=""/>
              <p:cNvSpPr/>
              <p:nvPr/>
            </p:nvSpPr>
            <p:spPr>
              <a:xfrm>
                <a:off x="6553080" y="3624120"/>
                <a:ext cx="8096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-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45160" y="3624120"/>
                <a:ext cx="87012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7415280" y="3624120"/>
              <a:ext cx="1493280" cy="405000"/>
              <a:chOff x="7415280" y="3624120"/>
              <a:chExt cx="1493280" cy="405000"/>
            </a:xfrm>
          </p:grpSpPr>
          <p:sp>
            <p:nvSpPr>
              <p:cNvPr id="624" name=""/>
              <p:cNvSpPr/>
              <p:nvPr/>
            </p:nvSpPr>
            <p:spPr>
              <a:xfrm>
                <a:off x="7467480" y="3624120"/>
                <a:ext cx="1387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0.8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415280" y="3624120"/>
                <a:ext cx="149328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199080" y="4267080"/>
            <a:ext cx="4586760" cy="2081160"/>
            <a:chOff x="199080" y="4267080"/>
            <a:chExt cx="4586760" cy="2081160"/>
          </a:xfrm>
        </p:grpSpPr>
        <p:sp>
          <p:nvSpPr>
            <p:cNvPr id="627" name=""/>
            <p:cNvSpPr/>
            <p:nvPr/>
          </p:nvSpPr>
          <p:spPr>
            <a:xfrm>
              <a:off x="982800" y="4267080"/>
              <a:ext cx="1272960" cy="307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982800" y="4267080"/>
              <a:ext cx="1272600" cy="307800"/>
              <a:chOff x="982800" y="4267080"/>
              <a:chExt cx="1272600" cy="307800"/>
            </a:xfrm>
          </p:grpSpPr>
          <p:sp>
            <p:nvSpPr>
              <p:cNvPr id="629" name=""/>
              <p:cNvSpPr/>
              <p:nvPr/>
            </p:nvSpPr>
            <p:spPr>
              <a:xfrm>
                <a:off x="1027440" y="4267080"/>
                <a:ext cx="1182960" cy="307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L-1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82800" y="4267080"/>
                <a:ext cx="1272600" cy="307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290680" y="4267080"/>
              <a:ext cx="935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-0.3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55760" y="4267080"/>
              <a:ext cx="1005120" cy="307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60880" y="4267080"/>
              <a:ext cx="1519200" cy="307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3260880" y="4267080"/>
              <a:ext cx="1518840" cy="307800"/>
              <a:chOff x="3260880" y="4267080"/>
              <a:chExt cx="1518840" cy="307800"/>
            </a:xfrm>
          </p:grpSpPr>
          <p:sp>
            <p:nvSpPr>
              <p:cNvPr id="635" name=""/>
              <p:cNvSpPr/>
              <p:nvPr/>
            </p:nvSpPr>
            <p:spPr>
              <a:xfrm>
                <a:off x="3314160" y="4267080"/>
                <a:ext cx="1411560" cy="307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0.8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60880" y="4267080"/>
                <a:ext cx="1518840" cy="307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982800" y="4574880"/>
              <a:ext cx="1272960" cy="308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982800" y="4574880"/>
              <a:ext cx="1272600" cy="308160"/>
              <a:chOff x="982800" y="4574880"/>
              <a:chExt cx="1272600" cy="308160"/>
            </a:xfrm>
          </p:grpSpPr>
          <p:sp>
            <p:nvSpPr>
              <p:cNvPr id="639" name=""/>
              <p:cNvSpPr/>
              <p:nvPr/>
            </p:nvSpPr>
            <p:spPr>
              <a:xfrm>
                <a:off x="1027440" y="4574880"/>
                <a:ext cx="1182960" cy="308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H-1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82800" y="4574880"/>
                <a:ext cx="1272600" cy="30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255760" y="4574880"/>
              <a:ext cx="1005120" cy="308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2255760" y="4574880"/>
              <a:ext cx="1005120" cy="308160"/>
              <a:chOff x="2255760" y="4574880"/>
              <a:chExt cx="1005120" cy="308160"/>
            </a:xfrm>
          </p:grpSpPr>
          <p:sp>
            <p:nvSpPr>
              <p:cNvPr id="643" name=""/>
              <p:cNvSpPr/>
              <p:nvPr/>
            </p:nvSpPr>
            <p:spPr>
              <a:xfrm>
                <a:off x="2291040" y="4574880"/>
                <a:ext cx="933840" cy="308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1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255760" y="4574880"/>
                <a:ext cx="1005120" cy="30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314880" y="4574880"/>
              <a:ext cx="14112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0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60880" y="4574880"/>
              <a:ext cx="1519200" cy="308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988920" y="4991040"/>
              <a:ext cx="1272960" cy="306360"/>
              <a:chOff x="988920" y="4991040"/>
              <a:chExt cx="1272960" cy="306360"/>
            </a:xfrm>
          </p:grpSpPr>
          <p:sp>
            <p:nvSpPr>
              <p:cNvPr id="648" name=""/>
              <p:cNvSpPr/>
              <p:nvPr/>
            </p:nvSpPr>
            <p:spPr>
              <a:xfrm>
                <a:off x="988920" y="4991040"/>
                <a:ext cx="127296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988920" y="4991040"/>
                <a:ext cx="1272600" cy="306360"/>
                <a:chOff x="988920" y="4991040"/>
                <a:chExt cx="1272600" cy="3063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1033560" y="4991040"/>
                  <a:ext cx="118296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inL-1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988920" y="4991040"/>
                  <a:ext cx="127260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2" name=""/>
            <p:cNvGrpSpPr/>
            <p:nvPr/>
          </p:nvGrpSpPr>
          <p:grpSpPr>
            <a:xfrm>
              <a:off x="2255760" y="4991040"/>
              <a:ext cx="1011240" cy="306360"/>
              <a:chOff x="2255760" y="4991040"/>
              <a:chExt cx="1011240" cy="306360"/>
            </a:xfrm>
          </p:grpSpPr>
          <p:sp>
            <p:nvSpPr>
              <p:cNvPr id="653" name=""/>
              <p:cNvSpPr/>
              <p:nvPr/>
            </p:nvSpPr>
            <p:spPr>
              <a:xfrm>
                <a:off x="2291040" y="4991040"/>
                <a:ext cx="93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-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55760" y="4991040"/>
                <a:ext cx="1011240" cy="30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267000" y="4991040"/>
              <a:ext cx="1518840" cy="306360"/>
              <a:chOff x="3267000" y="4991040"/>
              <a:chExt cx="1518840" cy="306360"/>
            </a:xfrm>
          </p:grpSpPr>
          <p:sp>
            <p:nvSpPr>
              <p:cNvPr id="656" name=""/>
              <p:cNvSpPr/>
              <p:nvPr/>
            </p:nvSpPr>
            <p:spPr>
              <a:xfrm>
                <a:off x="3267000" y="4991040"/>
                <a:ext cx="151884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3267000" y="4991040"/>
                <a:ext cx="1518480" cy="306360"/>
                <a:chOff x="3267000" y="4991040"/>
                <a:chExt cx="1518480" cy="30636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320280" y="4991040"/>
                  <a:ext cx="141120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0.8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267000" y="4991040"/>
                  <a:ext cx="151848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0" name=""/>
            <p:cNvGrpSpPr/>
            <p:nvPr/>
          </p:nvGrpSpPr>
          <p:grpSpPr>
            <a:xfrm>
              <a:off x="988920" y="5297400"/>
              <a:ext cx="1272960" cy="306360"/>
              <a:chOff x="988920" y="5297400"/>
              <a:chExt cx="1272960" cy="306360"/>
            </a:xfrm>
          </p:grpSpPr>
          <p:sp>
            <p:nvSpPr>
              <p:cNvPr id="661" name=""/>
              <p:cNvSpPr/>
              <p:nvPr/>
            </p:nvSpPr>
            <p:spPr>
              <a:xfrm>
                <a:off x="988920" y="5297400"/>
                <a:ext cx="127296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988920" y="5297400"/>
                <a:ext cx="1272600" cy="306360"/>
                <a:chOff x="988920" y="5297400"/>
                <a:chExt cx="1272600" cy="3063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1033560" y="5297400"/>
                  <a:ext cx="118296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inH-1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988920" y="5297400"/>
                  <a:ext cx="127260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5" name=""/>
            <p:cNvGrpSpPr/>
            <p:nvPr/>
          </p:nvGrpSpPr>
          <p:grpSpPr>
            <a:xfrm>
              <a:off x="2255760" y="5297400"/>
              <a:ext cx="1011240" cy="306360"/>
              <a:chOff x="2255760" y="5297400"/>
              <a:chExt cx="1011240" cy="306360"/>
            </a:xfrm>
          </p:grpSpPr>
          <p:sp>
            <p:nvSpPr>
              <p:cNvPr id="666" name=""/>
              <p:cNvSpPr/>
              <p:nvPr/>
            </p:nvSpPr>
            <p:spPr>
              <a:xfrm>
                <a:off x="2255760" y="5297400"/>
                <a:ext cx="101124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2255760" y="5297400"/>
                <a:ext cx="1011240" cy="306360"/>
                <a:chOff x="2255760" y="5297400"/>
                <a:chExt cx="1011240" cy="30636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2291040" y="5297400"/>
                  <a:ext cx="93960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.2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255760" y="5297400"/>
                  <a:ext cx="101124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0" name=""/>
            <p:cNvGrpSpPr/>
            <p:nvPr/>
          </p:nvGrpSpPr>
          <p:grpSpPr>
            <a:xfrm>
              <a:off x="3267000" y="5297400"/>
              <a:ext cx="1518840" cy="306360"/>
              <a:chOff x="3267000" y="5297400"/>
              <a:chExt cx="1518840" cy="306360"/>
            </a:xfrm>
          </p:grpSpPr>
          <p:sp>
            <p:nvSpPr>
              <p:cNvPr id="671" name=""/>
              <p:cNvSpPr/>
              <p:nvPr/>
            </p:nvSpPr>
            <p:spPr>
              <a:xfrm>
                <a:off x="3320280" y="5297400"/>
                <a:ext cx="141156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cc + 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267000" y="5297400"/>
                <a:ext cx="1518840" cy="30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982800" y="5733720"/>
              <a:ext cx="3796920" cy="614520"/>
              <a:chOff x="982800" y="5733720"/>
              <a:chExt cx="3796920" cy="61452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982800" y="5733720"/>
                <a:ext cx="1272600" cy="308160"/>
                <a:chOff x="982800" y="5733720"/>
                <a:chExt cx="1272600" cy="3081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982800" y="5733720"/>
                  <a:ext cx="1272600" cy="308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6" name=""/>
                <p:cNvGrpSpPr/>
                <p:nvPr/>
              </p:nvGrpSpPr>
              <p:grpSpPr>
                <a:xfrm>
                  <a:off x="982800" y="5733720"/>
                  <a:ext cx="1272240" cy="308160"/>
                  <a:chOff x="982800" y="5733720"/>
                  <a:chExt cx="1272240" cy="30816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1027440" y="5733720"/>
                    <a:ext cx="1182600" cy="308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L-23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982800" y="5733720"/>
                    <a:ext cx="1272240" cy="30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9" name=""/>
              <p:cNvGrpSpPr/>
              <p:nvPr/>
            </p:nvGrpSpPr>
            <p:grpSpPr>
              <a:xfrm>
                <a:off x="2255760" y="5733720"/>
                <a:ext cx="1005120" cy="308160"/>
                <a:chOff x="2255760" y="5733720"/>
                <a:chExt cx="1005120" cy="3081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2291040" y="5733720"/>
                  <a:ext cx="93384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1.0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255760" y="5733720"/>
                  <a:ext cx="1005120" cy="30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3260880" y="5733720"/>
                <a:ext cx="1518840" cy="308160"/>
                <a:chOff x="3260880" y="5733720"/>
                <a:chExt cx="1518840" cy="308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3260880" y="5733720"/>
                  <a:ext cx="1518840" cy="308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"/>
                <p:cNvGrpSpPr/>
                <p:nvPr/>
              </p:nvGrpSpPr>
              <p:grpSpPr>
                <a:xfrm>
                  <a:off x="3260880" y="5733720"/>
                  <a:ext cx="1518480" cy="308160"/>
                  <a:chOff x="3260880" y="5733720"/>
                  <a:chExt cx="1518480" cy="3081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3314160" y="5733720"/>
                    <a:ext cx="1411200" cy="308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0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260880" y="5733720"/>
                    <a:ext cx="1518480" cy="30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7" name=""/>
              <p:cNvGrpSpPr/>
              <p:nvPr/>
            </p:nvGrpSpPr>
            <p:grpSpPr>
              <a:xfrm>
                <a:off x="982800" y="6041880"/>
                <a:ext cx="1272600" cy="306360"/>
                <a:chOff x="982800" y="6041880"/>
                <a:chExt cx="1272600" cy="3063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982800" y="6041880"/>
                  <a:ext cx="127260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982800" y="6041880"/>
                  <a:ext cx="1272240" cy="306360"/>
                  <a:chOff x="982800" y="6041880"/>
                  <a:chExt cx="1272240" cy="30636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1027440" y="6041880"/>
                    <a:ext cx="1182600" cy="3063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H-23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982800" y="6041880"/>
                    <a:ext cx="127224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255760" y="6041880"/>
                <a:ext cx="1005120" cy="306360"/>
                <a:chOff x="2255760" y="6041880"/>
                <a:chExt cx="1005120" cy="3063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255760" y="6041880"/>
                  <a:ext cx="100512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255760" y="6041880"/>
                  <a:ext cx="1005120" cy="306360"/>
                  <a:chOff x="2255760" y="6041880"/>
                  <a:chExt cx="1005120" cy="30636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2291040" y="6041880"/>
                    <a:ext cx="933840" cy="3063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2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255760" y="6041880"/>
                    <a:ext cx="100512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3260880" y="6041880"/>
                <a:ext cx="1518840" cy="306360"/>
                <a:chOff x="3260880" y="6041880"/>
                <a:chExt cx="1518840" cy="30636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314160" y="6041880"/>
                  <a:ext cx="1411560" cy="3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cc + 0.3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60880" y="6041880"/>
                  <a:ext cx="151884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0" name=""/>
            <p:cNvSpPr/>
            <p:nvPr/>
          </p:nvSpPr>
          <p:spPr>
            <a:xfrm>
              <a:off x="199080" y="441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6000" y="5105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6000" y="5790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-360" y="373392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hat to do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824FD-E4FA-45E8-B8A9-52F5B8D580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5433840" y="5175360"/>
            <a:ext cx="3465720" cy="99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put with series resisto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2280" y="1227240"/>
            <a:ext cx="8991720" cy="4856040"/>
            <a:chOff x="152280" y="1227240"/>
            <a:chExt cx="8991720" cy="4856040"/>
          </a:xfrm>
        </p:grpSpPr>
        <p:grpSp>
          <p:nvGrpSpPr>
            <p:cNvPr id="707" name=""/>
            <p:cNvGrpSpPr/>
            <p:nvPr/>
          </p:nvGrpSpPr>
          <p:grpSpPr>
            <a:xfrm>
              <a:off x="198000" y="4121280"/>
              <a:ext cx="4865040" cy="1837440"/>
              <a:chOff x="198000" y="4121280"/>
              <a:chExt cx="4865040" cy="183744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808560" y="4121280"/>
                <a:ext cx="4254480" cy="1769400"/>
                <a:chOff x="808560" y="4121280"/>
                <a:chExt cx="4254480" cy="17694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2027160" y="4210920"/>
                  <a:ext cx="0" cy="16797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65040" y="5096520"/>
                  <a:ext cx="342900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163040" y="5252400"/>
                  <a:ext cx="90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U [V]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08560" y="4121280"/>
                  <a:ext cx="102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 [mA]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98000" y="5095800"/>
                <a:ext cx="1523880" cy="862920"/>
                <a:chOff x="198000" y="5095800"/>
                <a:chExt cx="1523880" cy="862920"/>
              </a:xfrm>
            </p:grpSpPr>
            <p:sp>
              <p:nvSpPr>
                <p:cNvPr id="714" name=""/>
                <p:cNvSpPr/>
                <p:nvPr/>
              </p:nvSpPr>
              <p:spPr>
                <a:xfrm flipH="1">
                  <a:off x="198000" y="5095800"/>
                  <a:ext cx="1523880" cy="36288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5" name=""/>
                <p:cNvGrpSpPr/>
                <p:nvPr/>
              </p:nvGrpSpPr>
              <p:grpSpPr>
                <a:xfrm>
                  <a:off x="1188360" y="5095800"/>
                  <a:ext cx="533520" cy="862920"/>
                  <a:chOff x="1188360" y="5095800"/>
                  <a:chExt cx="533520" cy="86292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flipH="1">
                    <a:off x="1417320" y="5095800"/>
                    <a:ext cx="304560" cy="22716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>
                    <a:off x="1188360" y="5322960"/>
                    <a:ext cx="228600" cy="63576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8" name=""/>
              <p:cNvGrpSpPr/>
              <p:nvPr/>
            </p:nvGrpSpPr>
            <p:grpSpPr>
              <a:xfrm>
                <a:off x="3093480" y="4233960"/>
                <a:ext cx="1523880" cy="861480"/>
                <a:chOff x="3093480" y="4233960"/>
                <a:chExt cx="1523880" cy="861480"/>
              </a:xfrm>
            </p:grpSpPr>
            <p:sp>
              <p:nvSpPr>
                <p:cNvPr id="719" name=""/>
                <p:cNvSpPr/>
                <p:nvPr/>
              </p:nvSpPr>
              <p:spPr>
                <a:xfrm flipH="1">
                  <a:off x="3093480" y="4731840"/>
                  <a:ext cx="1523880" cy="36324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0" name=""/>
                <p:cNvGrpSpPr/>
                <p:nvPr/>
              </p:nvGrpSpPr>
              <p:grpSpPr>
                <a:xfrm>
                  <a:off x="3094200" y="4233960"/>
                  <a:ext cx="533520" cy="861480"/>
                  <a:chOff x="3094200" y="4233960"/>
                  <a:chExt cx="533520" cy="86148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 flipV="1">
                    <a:off x="3094200" y="4868640"/>
                    <a:ext cx="304560" cy="22680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V="1">
                    <a:off x="3399120" y="4233960"/>
                    <a:ext cx="228600" cy="63468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23" name=""/>
            <p:cNvSpPr/>
            <p:nvPr/>
          </p:nvSpPr>
          <p:spPr>
            <a:xfrm>
              <a:off x="4100040" y="4381560"/>
              <a:ext cx="48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eries resistor visible in clamp-curv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33920" y="397044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eries resistor not visible in clamp-curv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52280" y="1227240"/>
              <a:ext cx="4114800" cy="2700000"/>
              <a:chOff x="152280" y="1227240"/>
              <a:chExt cx="4114800" cy="270000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21480" y="1301040"/>
                <a:ext cx="3678840" cy="2626200"/>
                <a:chOff x="321480" y="1301040"/>
                <a:chExt cx="3678840" cy="262620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411200" y="3250440"/>
                  <a:ext cx="585720" cy="17640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5400000">
                  <a:off x="383040" y="2014200"/>
                  <a:ext cx="675000" cy="4665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6200000">
                  <a:off x="383040" y="3073680"/>
                  <a:ext cx="675000" cy="4665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0" name=""/>
                <p:cNvGrpSpPr/>
                <p:nvPr/>
              </p:nvGrpSpPr>
              <p:grpSpPr>
                <a:xfrm>
                  <a:off x="2776680" y="2995920"/>
                  <a:ext cx="237960" cy="181080"/>
                  <a:chOff x="2776680" y="2995920"/>
                  <a:chExt cx="237960" cy="18108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2781360" y="3000960"/>
                    <a:ext cx="228240" cy="17604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776680" y="2995920"/>
                    <a:ext cx="2379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2776680" y="2185200"/>
                  <a:ext cx="237960" cy="181440"/>
                  <a:chOff x="2776680" y="2185200"/>
                  <a:chExt cx="237960" cy="1814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2781360" y="2190240"/>
                    <a:ext cx="228240" cy="1764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776680" y="2185200"/>
                    <a:ext cx="2379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6" name=""/>
                <p:cNvSpPr/>
                <p:nvPr/>
              </p:nvSpPr>
              <p:spPr>
                <a:xfrm>
                  <a:off x="2895480" y="1624320"/>
                  <a:ext cx="0" cy="56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895480" y="2372400"/>
                  <a:ext cx="0" cy="623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895480" y="3182760"/>
                  <a:ext cx="0" cy="623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928440" y="3369960"/>
                  <a:ext cx="4777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001960" y="3369960"/>
                  <a:ext cx="357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2359080" y="2247480"/>
                  <a:ext cx="0" cy="1122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928800" y="2247840"/>
                  <a:ext cx="14302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2359080" y="2684160"/>
                  <a:ext cx="5364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305080" y="2626920"/>
                  <a:ext cx="10944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841480" y="2626920"/>
                  <a:ext cx="10800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2895120" y="2684160"/>
                  <a:ext cx="5367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527920" y="1301040"/>
                  <a:ext cx="806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160440" y="3472560"/>
                  <a:ext cx="8398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216080" y="2860560"/>
                  <a:ext cx="1324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300 Ohm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21480" y="1427040"/>
                  <a:ext cx="571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out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56480" y="272412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n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432240" y="2497320"/>
                  <a:ext cx="357120" cy="3740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269880" y="2971080"/>
                  <a:ext cx="621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pa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"/>
              <p:cNvSpPr/>
              <p:nvPr/>
            </p:nvSpPr>
            <p:spPr>
              <a:xfrm>
                <a:off x="152280" y="1227240"/>
                <a:ext cx="4114800" cy="26809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4724280" y="1227240"/>
              <a:ext cx="4114800" cy="2700000"/>
              <a:chOff x="4724280" y="1227240"/>
              <a:chExt cx="4114800" cy="270000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4817520" y="1289160"/>
                <a:ext cx="3652560" cy="2638080"/>
                <a:chOff x="4817520" y="1289160"/>
                <a:chExt cx="3652560" cy="263808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027920" y="2610000"/>
                  <a:ext cx="585720" cy="17676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5400000">
                  <a:off x="4856040" y="2002320"/>
                  <a:ext cx="675360" cy="4669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16200000">
                  <a:off x="4856400" y="3088080"/>
                  <a:ext cx="675360" cy="4669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0" name=""/>
                <p:cNvGrpSpPr/>
                <p:nvPr/>
              </p:nvGrpSpPr>
              <p:grpSpPr>
                <a:xfrm>
                  <a:off x="6146640" y="2984040"/>
                  <a:ext cx="238320" cy="181440"/>
                  <a:chOff x="6146640" y="2984040"/>
                  <a:chExt cx="238320" cy="18144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6151320" y="2989080"/>
                    <a:ext cx="228600" cy="1764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146640" y="2984040"/>
                    <a:ext cx="2383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6146640" y="2173680"/>
                  <a:ext cx="238320" cy="181080"/>
                  <a:chOff x="6146640" y="2173680"/>
                  <a:chExt cx="238320" cy="1810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6151320" y="2178720"/>
                    <a:ext cx="228600" cy="17604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146640" y="2173680"/>
                    <a:ext cx="2383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6" name=""/>
                <p:cNvSpPr/>
                <p:nvPr/>
              </p:nvSpPr>
              <p:spPr>
                <a:xfrm>
                  <a:off x="6265800" y="1612440"/>
                  <a:ext cx="0" cy="56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265800" y="2360880"/>
                  <a:ext cx="0" cy="623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265800" y="3171240"/>
                  <a:ext cx="0" cy="6235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5427360" y="3358440"/>
                  <a:ext cx="3049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637400" y="2672280"/>
                  <a:ext cx="357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5732640" y="2235600"/>
                  <a:ext cx="0" cy="1122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427720" y="2235960"/>
                  <a:ext cx="3078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676840" y="2610000"/>
                  <a:ext cx="10944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211800" y="2615400"/>
                  <a:ext cx="10800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>
                  <a:off x="6265440" y="2672280"/>
                  <a:ext cx="762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898240" y="1289160"/>
                  <a:ext cx="806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478560" y="3472560"/>
                  <a:ext cx="8398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494400" y="2860560"/>
                  <a:ext cx="1324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300 Ohm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817520" y="1426680"/>
                  <a:ext cx="571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out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876200" y="278568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n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927920" y="2497320"/>
                  <a:ext cx="357120" cy="3740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848360" y="2910240"/>
                  <a:ext cx="621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pa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5732640" y="2672280"/>
                  <a:ext cx="5364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4724280" y="1227240"/>
                <a:ext cx="4114800" cy="268128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5472360" y="5257800"/>
              <a:ext cx="325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ut in package-model !?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esistor needed at all 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6019920" y="510552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C2EBD-77E9-4120-AD51-B661B45E3A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8080" y="5705640"/>
            <a:ext cx="6594480" cy="630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ver-undershoot for driv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230400" y="1162080"/>
            <a:ext cx="7936560" cy="4209840"/>
            <a:chOff x="230400" y="1162080"/>
            <a:chExt cx="7936560" cy="4209840"/>
          </a:xfrm>
        </p:grpSpPr>
        <p:grpSp>
          <p:nvGrpSpPr>
            <p:cNvPr id="790" name=""/>
            <p:cNvGrpSpPr/>
            <p:nvPr/>
          </p:nvGrpSpPr>
          <p:grpSpPr>
            <a:xfrm>
              <a:off x="838080" y="2819520"/>
              <a:ext cx="5319000" cy="2552400"/>
              <a:chOff x="838080" y="2819520"/>
              <a:chExt cx="5319000" cy="2552400"/>
            </a:xfrm>
          </p:grpSpPr>
          <p:sp>
            <p:nvSpPr>
              <p:cNvPr id="791" name=""/>
              <p:cNvSpPr/>
              <p:nvPr/>
            </p:nvSpPr>
            <p:spPr>
              <a:xfrm>
                <a:off x="1774800" y="4822920"/>
                <a:ext cx="34290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27080" y="2819520"/>
                <a:ext cx="0" cy="255240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38080" y="28573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794" name=""/>
              <p:cNvGrpSpPr/>
              <p:nvPr/>
            </p:nvGrpSpPr>
            <p:grpSpPr>
              <a:xfrm>
                <a:off x="1963440" y="3409920"/>
                <a:ext cx="3240000" cy="1928520"/>
                <a:chOff x="1963440" y="3409920"/>
                <a:chExt cx="3240000" cy="1928520"/>
              </a:xfrm>
            </p:grpSpPr>
            <p:grpSp>
              <p:nvGrpSpPr>
                <p:cNvPr id="795" name=""/>
                <p:cNvGrpSpPr/>
                <p:nvPr/>
              </p:nvGrpSpPr>
              <p:grpSpPr>
                <a:xfrm>
                  <a:off x="1965240" y="3457440"/>
                  <a:ext cx="3225240" cy="1881000"/>
                  <a:chOff x="1965240" y="3457440"/>
                  <a:chExt cx="3225240" cy="188100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1965240" y="4829040"/>
                    <a:ext cx="52056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>
                    <a:off x="2460240" y="4253760"/>
                    <a:ext cx="156960" cy="57492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630160" y="4267080"/>
                    <a:ext cx="67896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V="1">
                    <a:off x="3309480" y="3470040"/>
                    <a:ext cx="209520" cy="78408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3519360" y="3457440"/>
                    <a:ext cx="25992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3806640" y="3470040"/>
                    <a:ext cx="90000" cy="39204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>
                    <a:off x="3911400" y="3836880"/>
                    <a:ext cx="64800" cy="252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001760" y="3822480"/>
                    <a:ext cx="209160" cy="83664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223880" y="4659120"/>
                    <a:ext cx="12996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4368600" y="4659120"/>
                    <a:ext cx="90000" cy="4176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4458960" y="5076720"/>
                    <a:ext cx="10440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4576320" y="5090760"/>
                    <a:ext cx="52200" cy="23508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V="1">
                    <a:off x="4628880" y="5325480"/>
                    <a:ext cx="339480" cy="126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V="1">
                    <a:off x="4995720" y="4881240"/>
                    <a:ext cx="194760" cy="4572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1963440" y="3409920"/>
                  <a:ext cx="3240000" cy="1920960"/>
                  <a:chOff x="1963440" y="3409920"/>
                  <a:chExt cx="3240000" cy="192096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V="1">
                    <a:off x="1963440" y="4821120"/>
                    <a:ext cx="888840" cy="126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V="1">
                    <a:off x="2841480" y="3436560"/>
                    <a:ext cx="311040" cy="139068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3165120" y="3436920"/>
                    <a:ext cx="430200" cy="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595320" y="3422880"/>
                    <a:ext cx="93600" cy="9684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V="1">
                    <a:off x="3687480" y="3422520"/>
                    <a:ext cx="117360" cy="918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3817800" y="3409920"/>
                    <a:ext cx="379440" cy="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4209840" y="3409920"/>
                    <a:ext cx="79200" cy="73188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V="1">
                    <a:off x="4289040" y="4062600"/>
                    <a:ext cx="117720" cy="792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4419360" y="4049640"/>
                    <a:ext cx="38160" cy="126684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V="1">
                    <a:off x="4444560" y="5316480"/>
                    <a:ext cx="758880" cy="144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1" name=""/>
              <p:cNvGrpSpPr/>
              <p:nvPr/>
            </p:nvGrpSpPr>
            <p:grpSpPr>
              <a:xfrm>
                <a:off x="1963440" y="3724200"/>
                <a:ext cx="3240360" cy="1107720"/>
                <a:chOff x="1963440" y="3724200"/>
                <a:chExt cx="3240360" cy="1107720"/>
              </a:xfrm>
            </p:grpSpPr>
            <p:grpSp>
              <p:nvGrpSpPr>
                <p:cNvPr id="822" name=""/>
                <p:cNvGrpSpPr/>
                <p:nvPr/>
              </p:nvGrpSpPr>
              <p:grpSpPr>
                <a:xfrm>
                  <a:off x="1963440" y="3724200"/>
                  <a:ext cx="2703600" cy="1107720"/>
                  <a:chOff x="1963440" y="3724200"/>
                  <a:chExt cx="2703600" cy="110772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V="1">
                    <a:off x="1963440" y="4827240"/>
                    <a:ext cx="189000" cy="468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V="1">
                    <a:off x="2152440" y="4274640"/>
                    <a:ext cx="152640" cy="54468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305080" y="4287600"/>
                    <a:ext cx="1226880" cy="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V="1">
                    <a:off x="3531960" y="3736800"/>
                    <a:ext cx="115920" cy="55080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3647880" y="3724200"/>
                    <a:ext cx="104760" cy="23508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752640" y="3971880"/>
                    <a:ext cx="92160" cy="60156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3857400" y="4586400"/>
                    <a:ext cx="809640" cy="2520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0" name=""/>
                <p:cNvSpPr/>
                <p:nvPr/>
              </p:nvSpPr>
              <p:spPr>
                <a:xfrm>
                  <a:off x="4651200" y="4599000"/>
                  <a:ext cx="552600" cy="92160"/>
                </a:xfrm>
                <a:prstGeom prst="line">
                  <a:avLst/>
                </a:prstGeom>
                <a:ln w="5724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444640" y="463392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32" name=""/>
              <p:cNvGrpSpPr/>
              <p:nvPr/>
            </p:nvGrpSpPr>
            <p:grpSpPr>
              <a:xfrm>
                <a:off x="1927080" y="4838760"/>
                <a:ext cx="2743200" cy="152280"/>
                <a:chOff x="1927080" y="4838760"/>
                <a:chExt cx="2743200" cy="15228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28414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9270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6702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7558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1774440" y="3314520"/>
                <a:ext cx="152280" cy="1905120"/>
                <a:chOff x="1774440" y="3314520"/>
                <a:chExt cx="152280" cy="1905120"/>
              </a:xfrm>
            </p:grpSpPr>
            <p:sp>
              <p:nvSpPr>
                <p:cNvPr id="838" name=""/>
                <p:cNvSpPr/>
                <p:nvPr/>
              </p:nvSpPr>
              <p:spPr>
                <a:xfrm flipH="1">
                  <a:off x="1774440" y="4838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1774440" y="4457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1774440" y="407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1774440" y="3695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1774440" y="3314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1774440" y="5219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4" name=""/>
              <p:cNvSpPr/>
              <p:nvPr/>
            </p:nvSpPr>
            <p:spPr>
              <a:xfrm>
                <a:off x="1312200" y="3924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312200" y="4610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94680" y="48387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312200" y="3162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80280" y="48387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766240" y="4838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5790960" y="1828800"/>
              <a:ext cx="2172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O3     drivin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Drv2   3-stat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O1     receivin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230400" y="1162080"/>
              <a:ext cx="4921920" cy="1523160"/>
              <a:chOff x="230400" y="1162080"/>
              <a:chExt cx="4921920" cy="152316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230400" y="1390680"/>
                <a:ext cx="4921920" cy="1294560"/>
                <a:chOff x="230400" y="1390680"/>
                <a:chExt cx="4921920" cy="1294560"/>
              </a:xfrm>
            </p:grpSpPr>
            <p:grpSp>
              <p:nvGrpSpPr>
                <p:cNvPr id="853" name=""/>
                <p:cNvGrpSpPr/>
                <p:nvPr/>
              </p:nvGrpSpPr>
              <p:grpSpPr>
                <a:xfrm>
                  <a:off x="380880" y="1542960"/>
                  <a:ext cx="4570920" cy="1142280"/>
                  <a:chOff x="380880" y="1542960"/>
                  <a:chExt cx="4570920" cy="11422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3009240" y="1542960"/>
                    <a:ext cx="838080" cy="304920"/>
                  </a:xfrm>
                  <a:prstGeom prst="flowChartMagneticDrum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360160" y="2075040"/>
                    <a:ext cx="685440" cy="609480"/>
                  </a:xfrm>
                  <a:prstGeom prst="flowChartExtract">
                    <a:avLst/>
                  </a:prstGeom>
                  <a:solidFill>
                    <a:srgbClr val="ff66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1637640" y="1542960"/>
                    <a:ext cx="838080" cy="304920"/>
                  </a:xfrm>
                  <a:prstGeom prst="flowChartMagneticDrum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028160" y="16956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323440" y="16956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3695040" y="169560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0" name=""/>
                  <p:cNvGrpSpPr/>
                  <p:nvPr/>
                </p:nvGrpSpPr>
                <p:grpSpPr>
                  <a:xfrm>
                    <a:off x="380880" y="1695600"/>
                    <a:ext cx="1294560" cy="989640"/>
                    <a:chOff x="380880" y="1695600"/>
                    <a:chExt cx="1294560" cy="989640"/>
                  </a:xfrm>
                </p:grpSpPr>
                <p:grpSp>
                  <p:nvGrpSpPr>
                    <p:cNvPr id="861" name=""/>
                    <p:cNvGrpSpPr/>
                    <p:nvPr/>
                  </p:nvGrpSpPr>
                  <p:grpSpPr>
                    <a:xfrm>
                      <a:off x="380880" y="1923840"/>
                      <a:ext cx="1294560" cy="761400"/>
                      <a:chOff x="380880" y="1923840"/>
                      <a:chExt cx="1294560" cy="761400"/>
                    </a:xfrm>
                  </p:grpSpPr>
                  <p:sp>
                    <p:nvSpPr>
                      <p:cNvPr id="862" name=""/>
                      <p:cNvSpPr/>
                      <p:nvPr/>
                    </p:nvSpPr>
                    <p:spPr>
                      <a:xfrm rot="10800000">
                        <a:off x="990000" y="2075400"/>
                        <a:ext cx="685440" cy="609480"/>
                      </a:xfrm>
                      <a:prstGeom prst="flowChartExtract">
                        <a:avLst/>
                      </a:prstGeom>
                      <a:solidFill>
                        <a:srgbClr val="66ff33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3" name=""/>
                      <p:cNvSpPr/>
                      <p:nvPr/>
                    </p:nvSpPr>
                    <p:spPr>
                      <a:xfrm flipH="1">
                        <a:off x="380880" y="2075760"/>
                        <a:ext cx="685440" cy="609480"/>
                      </a:xfrm>
                      <a:prstGeom prst="flowChartExtract">
                        <a:avLst/>
                      </a:prstGeom>
                      <a:solidFill>
                        <a:srgbClr val="66ff33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723240" y="192384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133272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72324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1028160" y="1695600"/>
                      <a:ext cx="0" cy="22824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3656520" y="1695600"/>
                    <a:ext cx="1295280" cy="989640"/>
                    <a:chOff x="3656520" y="1695600"/>
                    <a:chExt cx="1295280" cy="989640"/>
                  </a:xfrm>
                </p:grpSpPr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3656520" y="1923840"/>
                      <a:ext cx="1295280" cy="761400"/>
                      <a:chOff x="3656520" y="1923840"/>
                      <a:chExt cx="1295280" cy="76140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 rot="10800000">
                        <a:off x="4266000" y="2075400"/>
                        <a:ext cx="685800" cy="609480"/>
                      </a:xfrm>
                      <a:prstGeom prst="flowChartExtract">
                        <a:avLst/>
                      </a:prstGeom>
                      <a:solidFill>
                        <a:srgbClr val="3366ff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 flipH="1">
                        <a:off x="3656160" y="2075760"/>
                        <a:ext cx="685800" cy="609480"/>
                      </a:xfrm>
                      <a:prstGeom prst="flowChartExtract">
                        <a:avLst/>
                      </a:prstGeom>
                      <a:solidFill>
                        <a:srgbClr val="3366ff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>
                        <a:off x="3999600" y="1923840"/>
                        <a:ext cx="609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>
                        <a:off x="460908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399960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4304520" y="1695600"/>
                      <a:ext cx="0" cy="22824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6" name=""/>
                  <p:cNvSpPr/>
                  <p:nvPr/>
                </p:nvSpPr>
                <p:spPr>
                  <a:xfrm>
                    <a:off x="2704680" y="16956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974160" y="1854360"/>
                    <a:ext cx="107640" cy="13968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250880" y="1854360"/>
                    <a:ext cx="107280" cy="13968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650680" y="1625760"/>
                    <a:ext cx="107280" cy="13968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0" name=""/>
                <p:cNvSpPr/>
                <p:nvPr/>
              </p:nvSpPr>
              <p:spPr>
                <a:xfrm>
                  <a:off x="230400" y="1390680"/>
                  <a:ext cx="65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O3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830240" y="2076480"/>
                  <a:ext cx="807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Drv2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497480" y="1390680"/>
                  <a:ext cx="65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O1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3" name=""/>
              <p:cNvSpPr/>
              <p:nvPr/>
            </p:nvSpPr>
            <p:spPr>
              <a:xfrm>
                <a:off x="1829880" y="1162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125160" y="1162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563080" y="3657600"/>
              <a:ext cx="26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Undershoot at Drv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257800" y="4191120"/>
              <a:ext cx="380880" cy="857160"/>
            </a:xfrm>
            <a:prstGeom prst="line">
              <a:avLst/>
            </a:prstGeom>
            <a:ln cap="rnd" w="38160">
              <a:solidFill>
                <a:srgbClr val="ff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304920" y="594360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51640" y="5791320"/>
            <a:ext cx="64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Over-Undershoot parameter needed also for driv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99DB0-92FA-40ED-BD0D-B2F89F43D3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at is an accurate model 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475000" y="4946760"/>
            <a:ext cx="2637720" cy="931680"/>
            <a:chOff x="2475000" y="4946760"/>
            <a:chExt cx="2637720" cy="931680"/>
          </a:xfrm>
        </p:grpSpPr>
        <p:sp>
          <p:nvSpPr>
            <p:cNvPr id="894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896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2760120" y="496404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900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902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907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909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915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918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921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924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925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AEA17-0321-4C99-923D-C66571C4938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2008080" y="5680080"/>
            <a:ext cx="54882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imulus form, number of sta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79440" y="2976480"/>
            <a:ext cx="1788840" cy="549360"/>
            <a:chOff x="379440" y="2976480"/>
            <a:chExt cx="1788840" cy="549360"/>
          </a:xfrm>
        </p:grpSpPr>
        <p:grpSp>
          <p:nvGrpSpPr>
            <p:cNvPr id="931" name=""/>
            <p:cNvGrpSpPr/>
            <p:nvPr/>
          </p:nvGrpSpPr>
          <p:grpSpPr>
            <a:xfrm>
              <a:off x="825480" y="2976480"/>
              <a:ext cx="851040" cy="549360"/>
              <a:chOff x="825480" y="2976480"/>
              <a:chExt cx="851040" cy="549360"/>
            </a:xfrm>
          </p:grpSpPr>
          <p:sp>
            <p:nvSpPr>
              <p:cNvPr id="932" name=""/>
              <p:cNvSpPr/>
              <p:nvPr/>
            </p:nvSpPr>
            <p:spPr>
              <a:xfrm flipH="1" rot="5400000">
                <a:off x="976320" y="3081240"/>
                <a:ext cx="549360" cy="339840"/>
              </a:xfrm>
              <a:prstGeom prst="flowChartExtra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25480" y="3251160"/>
                <a:ext cx="255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420920" y="3251160"/>
                <a:ext cx="255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379440" y="3005280"/>
              <a:ext cx="340920" cy="426960"/>
              <a:chOff x="379440" y="3005280"/>
              <a:chExt cx="340920" cy="426960"/>
            </a:xfrm>
          </p:grpSpPr>
          <p:sp>
            <p:nvSpPr>
              <p:cNvPr id="936" name=""/>
              <p:cNvSpPr/>
              <p:nvPr/>
            </p:nvSpPr>
            <p:spPr>
              <a:xfrm>
                <a:off x="635400" y="300528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464400" y="3005280"/>
                <a:ext cx="17064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79440" y="343224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1827360" y="3005280"/>
              <a:ext cx="340920" cy="426960"/>
              <a:chOff x="1827360" y="3005280"/>
              <a:chExt cx="340920" cy="426960"/>
            </a:xfrm>
          </p:grpSpPr>
          <p:sp>
            <p:nvSpPr>
              <p:cNvPr id="940" name=""/>
              <p:cNvSpPr/>
              <p:nvPr/>
            </p:nvSpPr>
            <p:spPr>
              <a:xfrm>
                <a:off x="2083320" y="300528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1912320" y="3005280"/>
                <a:ext cx="17064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827360" y="343224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3" name=""/>
          <p:cNvGrpSpPr/>
          <p:nvPr/>
        </p:nvGrpSpPr>
        <p:grpSpPr>
          <a:xfrm>
            <a:off x="465120" y="4394160"/>
            <a:ext cx="1778760" cy="1115280"/>
            <a:chOff x="465120" y="4394160"/>
            <a:chExt cx="1778760" cy="1115280"/>
          </a:xfrm>
        </p:grpSpPr>
        <p:grpSp>
          <p:nvGrpSpPr>
            <p:cNvPr id="944" name=""/>
            <p:cNvGrpSpPr/>
            <p:nvPr/>
          </p:nvGrpSpPr>
          <p:grpSpPr>
            <a:xfrm>
              <a:off x="465120" y="4394160"/>
              <a:ext cx="525240" cy="439920"/>
              <a:chOff x="465120" y="4394160"/>
              <a:chExt cx="525240" cy="439920"/>
            </a:xfrm>
          </p:grpSpPr>
          <p:sp>
            <p:nvSpPr>
              <p:cNvPr id="945" name=""/>
              <p:cNvSpPr/>
              <p:nvPr/>
            </p:nvSpPr>
            <p:spPr>
              <a:xfrm>
                <a:off x="859320" y="4394160"/>
                <a:ext cx="1310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596160" y="4394160"/>
                <a:ext cx="262800" cy="4399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65120" y="4834080"/>
                <a:ext cx="1310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465120" y="5016600"/>
              <a:ext cx="339840" cy="426960"/>
              <a:chOff x="465120" y="5016600"/>
              <a:chExt cx="339840" cy="426960"/>
            </a:xfrm>
          </p:grpSpPr>
          <p:sp>
            <p:nvSpPr>
              <p:cNvPr id="949" name=""/>
              <p:cNvSpPr/>
              <p:nvPr/>
            </p:nvSpPr>
            <p:spPr>
              <a:xfrm flipH="1">
                <a:off x="634680" y="5016600"/>
                <a:ext cx="4248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7520" y="5016600"/>
                <a:ext cx="1274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65120" y="5443560"/>
                <a:ext cx="1695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924120" y="504972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rise 1p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35280" y="440676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rise 1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28600" y="1920600"/>
            <a:ext cx="2895840" cy="549000"/>
            <a:chOff x="228600" y="1920600"/>
            <a:chExt cx="2895840" cy="549000"/>
          </a:xfrm>
        </p:grpSpPr>
        <p:cxnSp>
          <p:nvCxnSpPr>
            <p:cNvPr id="955" name=""/>
            <p:cNvCxnSpPr/>
            <p:nvPr/>
          </p:nvCxnSpPr>
          <p:spPr>
            <a:xfrm flipV="1">
              <a:off x="2782800" y="1976040"/>
              <a:ext cx="342000" cy="427680"/>
            </a:xfrm>
            <a:prstGeom prst="curvedConnector5">
              <a:avLst>
                <a:gd name="adj1" fmla="val 49947"/>
                <a:gd name="adj2" fmla="val 49957"/>
                <a:gd name="adj3" fmla="val 49947"/>
              </a:avLst>
            </a:prstGeom>
            <a:ln w="38160">
              <a:solidFill>
                <a:srgbClr val="003366"/>
              </a:solidFill>
              <a:miter/>
            </a:ln>
          </p:spPr>
        </p:cxnSp>
        <p:grpSp>
          <p:nvGrpSpPr>
            <p:cNvPr id="956" name=""/>
            <p:cNvGrpSpPr/>
            <p:nvPr/>
          </p:nvGrpSpPr>
          <p:grpSpPr>
            <a:xfrm>
              <a:off x="228600" y="1976400"/>
              <a:ext cx="340920" cy="426960"/>
              <a:chOff x="228600" y="1976400"/>
              <a:chExt cx="340920" cy="426960"/>
            </a:xfrm>
          </p:grpSpPr>
          <p:sp>
            <p:nvSpPr>
              <p:cNvPr id="957" name=""/>
              <p:cNvSpPr/>
              <p:nvPr/>
            </p:nvSpPr>
            <p:spPr>
              <a:xfrm>
                <a:off x="484560" y="197640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313560" y="1976400"/>
                <a:ext cx="17064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" y="240336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839880" y="1920600"/>
              <a:ext cx="1599840" cy="549000"/>
              <a:chOff x="839880" y="1920600"/>
              <a:chExt cx="1599840" cy="549000"/>
            </a:xfrm>
          </p:grpSpPr>
          <p:grpSp>
            <p:nvGrpSpPr>
              <p:cNvPr id="961" name=""/>
              <p:cNvGrpSpPr/>
              <p:nvPr/>
            </p:nvGrpSpPr>
            <p:grpSpPr>
              <a:xfrm>
                <a:off x="915840" y="1920600"/>
                <a:ext cx="304920" cy="549000"/>
                <a:chOff x="915840" y="1920600"/>
                <a:chExt cx="304920" cy="549000"/>
              </a:xfrm>
            </p:grpSpPr>
            <p:sp>
              <p:nvSpPr>
                <p:cNvPr id="962" name=""/>
                <p:cNvSpPr/>
                <p:nvPr/>
              </p:nvSpPr>
              <p:spPr>
                <a:xfrm flipH="1" rot="5400000">
                  <a:off x="75528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14480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" name=""/>
              <p:cNvSpPr/>
              <p:nvPr/>
            </p:nvSpPr>
            <p:spPr>
              <a:xfrm>
                <a:off x="839880" y="2195280"/>
                <a:ext cx="763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220400" y="1920600"/>
                <a:ext cx="304920" cy="549000"/>
                <a:chOff x="1220400" y="1920600"/>
                <a:chExt cx="304920" cy="549000"/>
              </a:xfrm>
            </p:grpSpPr>
            <p:sp>
              <p:nvSpPr>
                <p:cNvPr id="966" name=""/>
                <p:cNvSpPr/>
                <p:nvPr/>
              </p:nvSpPr>
              <p:spPr>
                <a:xfrm flipH="1" rot="5400000">
                  <a:off x="105984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44936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525320" y="1920600"/>
                <a:ext cx="304920" cy="549000"/>
                <a:chOff x="1525320" y="1920600"/>
                <a:chExt cx="304920" cy="549000"/>
              </a:xfrm>
            </p:grpSpPr>
            <p:sp>
              <p:nvSpPr>
                <p:cNvPr id="969" name=""/>
                <p:cNvSpPr/>
                <p:nvPr/>
              </p:nvSpPr>
              <p:spPr>
                <a:xfrm flipH="1" rot="5400000">
                  <a:off x="136476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75428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1830240" y="1920600"/>
                <a:ext cx="304920" cy="549000"/>
                <a:chOff x="1830240" y="1920600"/>
                <a:chExt cx="304920" cy="549000"/>
              </a:xfrm>
            </p:grpSpPr>
            <p:sp>
              <p:nvSpPr>
                <p:cNvPr id="972" name=""/>
                <p:cNvSpPr/>
                <p:nvPr/>
              </p:nvSpPr>
              <p:spPr>
                <a:xfrm flipH="1" rot="5400000">
                  <a:off x="166968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05920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2134800" y="1920600"/>
                <a:ext cx="304920" cy="549000"/>
                <a:chOff x="2134800" y="1920600"/>
                <a:chExt cx="304920" cy="549000"/>
              </a:xfrm>
            </p:grpSpPr>
            <p:sp>
              <p:nvSpPr>
                <p:cNvPr id="975" name=""/>
                <p:cNvSpPr/>
                <p:nvPr/>
              </p:nvSpPr>
              <p:spPr>
                <a:xfrm flipH="1" rot="5400000">
                  <a:off x="197424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36376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77" name=""/>
          <p:cNvGrpSpPr/>
          <p:nvPr/>
        </p:nvGrpSpPr>
        <p:grpSpPr>
          <a:xfrm>
            <a:off x="3278520" y="2138400"/>
            <a:ext cx="5662440" cy="3249000"/>
            <a:chOff x="3278520" y="2138400"/>
            <a:chExt cx="5662440" cy="3249000"/>
          </a:xfrm>
        </p:grpSpPr>
        <p:sp>
          <p:nvSpPr>
            <p:cNvPr id="978" name=""/>
            <p:cNvSpPr/>
            <p:nvPr/>
          </p:nvSpPr>
          <p:spPr>
            <a:xfrm>
              <a:off x="6208920" y="5021280"/>
              <a:ext cx="109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me [ns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78520" y="2395440"/>
              <a:ext cx="72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 [V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354800" y="2573280"/>
              <a:ext cx="1586160" cy="2574720"/>
              <a:chOff x="7354800" y="2573280"/>
              <a:chExt cx="1586160" cy="2574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354800" y="2724840"/>
                <a:ext cx="320400" cy="216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705440" y="2573280"/>
                <a:ext cx="1206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1ps-vc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354800" y="3179160"/>
                <a:ext cx="320400" cy="21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04360" y="3027600"/>
                <a:ext cx="1236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1ps-gn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354800" y="3633840"/>
                <a:ext cx="320400" cy="2160"/>
              </a:xfrm>
              <a:prstGeom prst="line">
                <a:avLst/>
              </a:prstGeom>
              <a:ln w="7632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705440" y="3482280"/>
                <a:ext cx="1206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2ns-vc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354800" y="4087800"/>
                <a:ext cx="320400" cy="2520"/>
              </a:xfrm>
              <a:prstGeom prst="line">
                <a:avLst/>
              </a:prstGeom>
              <a:ln w="7632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704360" y="3936600"/>
                <a:ext cx="1236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2ns-gn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354800" y="4562280"/>
                <a:ext cx="320400" cy="2520"/>
              </a:xfrm>
              <a:prstGeom prst="line">
                <a:avLst/>
              </a:prstGeom>
              <a:ln cap="rnd" w="284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707240" y="4388400"/>
                <a:ext cx="639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n-1p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354800" y="5016960"/>
                <a:ext cx="320400" cy="2160"/>
              </a:xfrm>
              <a:prstGeom prst="line">
                <a:avLst/>
              </a:prstGeom>
              <a:ln cap="rnd" w="284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707240" y="4842720"/>
                <a:ext cx="639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n-2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3836160" y="2138400"/>
              <a:ext cx="3388320" cy="3053160"/>
              <a:chOff x="3836160" y="2138400"/>
              <a:chExt cx="3388320" cy="3053160"/>
            </a:xfrm>
          </p:grpSpPr>
          <p:grpSp>
            <p:nvGrpSpPr>
              <p:cNvPr id="994" name=""/>
              <p:cNvGrpSpPr/>
              <p:nvPr/>
            </p:nvGrpSpPr>
            <p:grpSpPr>
              <a:xfrm>
                <a:off x="3969000" y="2308320"/>
                <a:ext cx="45720" cy="1863000"/>
                <a:chOff x="3969000" y="2308320"/>
                <a:chExt cx="45720" cy="18630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969000" y="4168800"/>
                  <a:ext cx="45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969000" y="3540240"/>
                  <a:ext cx="457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969000" y="2936880"/>
                  <a:ext cx="45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969000" y="2308320"/>
                  <a:ext cx="457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3836160" y="2138400"/>
                <a:ext cx="3388320" cy="3053160"/>
                <a:chOff x="3836160" y="2138400"/>
                <a:chExt cx="3388320" cy="305316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4018680" y="4151160"/>
                  <a:ext cx="29610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18680" y="3522600"/>
                  <a:ext cx="296100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18680" y="2919600"/>
                  <a:ext cx="29610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4014720" y="2289240"/>
                  <a:ext cx="3240" cy="259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18680" y="4757760"/>
                  <a:ext cx="29610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5006880" y="4757760"/>
                  <a:ext cx="720" cy="8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5992560" y="4757760"/>
                  <a:ext cx="2160" cy="8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V="1">
                  <a:off x="6979680" y="4757760"/>
                  <a:ext cx="2160" cy="8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836160" y="46069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836160" y="40006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836160" y="33717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836160" y="27669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836160" y="213840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6476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07456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08292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09560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"/>
            <p:cNvSpPr/>
            <p:nvPr/>
          </p:nvSpPr>
          <p:spPr>
            <a:xfrm>
              <a:off x="3959280" y="4781520"/>
              <a:ext cx="4608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4005360" y="4781520"/>
              <a:ext cx="3240" cy="8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05360" y="4781520"/>
              <a:ext cx="1116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16520" y="4781520"/>
              <a:ext cx="9180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08320" y="4781520"/>
              <a:ext cx="10332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11640" y="4781520"/>
              <a:ext cx="10332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314960" y="4781520"/>
              <a:ext cx="9180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06760" y="4781520"/>
              <a:ext cx="10332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10080" y="4781520"/>
              <a:ext cx="9216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4602240" y="4759200"/>
              <a:ext cx="102960" cy="223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4705200" y="4716000"/>
              <a:ext cx="103320" cy="428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4808520" y="4671720"/>
              <a:ext cx="90360" cy="442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898880" y="4606560"/>
              <a:ext cx="104760" cy="651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003640" y="4541400"/>
              <a:ext cx="90720" cy="651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5094360" y="4478400"/>
              <a:ext cx="104760" cy="633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5199120" y="4346640"/>
              <a:ext cx="101520" cy="1317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5300640" y="4217760"/>
              <a:ext cx="93600" cy="1285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5394240" y="4065480"/>
              <a:ext cx="101520" cy="1526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5495760" y="3936600"/>
              <a:ext cx="93960" cy="1285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5589720" y="3806640"/>
              <a:ext cx="101520" cy="1299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5691240" y="3676680"/>
              <a:ext cx="104760" cy="1303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796000" y="3568680"/>
              <a:ext cx="90360" cy="10800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886360" y="3483000"/>
              <a:ext cx="103320" cy="856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5989680" y="3393720"/>
              <a:ext cx="92160" cy="889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6081840" y="3330720"/>
              <a:ext cx="102960" cy="633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6184800" y="3308400"/>
              <a:ext cx="103320" cy="223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6288120" y="3287520"/>
              <a:ext cx="92160" cy="205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380280" y="3287880"/>
              <a:ext cx="1029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83240" y="3287880"/>
              <a:ext cx="921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575400" y="3287880"/>
              <a:ext cx="10332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678720" y="3287880"/>
              <a:ext cx="1029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81680" y="3287880"/>
              <a:ext cx="9072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72400" y="3287880"/>
              <a:ext cx="1047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05360" y="4478400"/>
              <a:ext cx="11160" cy="14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16520" y="4478400"/>
              <a:ext cx="91800" cy="14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108320" y="4456080"/>
              <a:ext cx="103320" cy="22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11640" y="4456080"/>
              <a:ext cx="103320" cy="4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314960" y="4456080"/>
              <a:ext cx="91800" cy="4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406760" y="4435200"/>
              <a:ext cx="103320" cy="20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4510080" y="4413240"/>
              <a:ext cx="92160" cy="22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4602240" y="4389480"/>
              <a:ext cx="102960" cy="237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4705200" y="4346280"/>
              <a:ext cx="103320" cy="42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808520" y="4303440"/>
              <a:ext cx="90360" cy="42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898880" y="4218120"/>
              <a:ext cx="104760" cy="85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5003640" y="4065480"/>
              <a:ext cx="90720" cy="152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5094360" y="3914280"/>
              <a:ext cx="104760" cy="150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99120" y="3739680"/>
              <a:ext cx="101520" cy="174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5300640" y="3588840"/>
              <a:ext cx="93600" cy="150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394240" y="3416400"/>
              <a:ext cx="101520" cy="1728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5495760" y="3242880"/>
              <a:ext cx="93960" cy="1731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589720" y="3090600"/>
              <a:ext cx="101520" cy="1522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691240" y="2941200"/>
              <a:ext cx="104760" cy="1494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5796000" y="2809800"/>
              <a:ext cx="90360" cy="1317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886360" y="2766600"/>
              <a:ext cx="103320" cy="42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989680" y="2744640"/>
              <a:ext cx="92160" cy="22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81840" y="2744640"/>
              <a:ext cx="1029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184800" y="2744640"/>
              <a:ext cx="10332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288120" y="2744640"/>
              <a:ext cx="921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80280" y="2744640"/>
              <a:ext cx="1029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83240" y="2744640"/>
              <a:ext cx="921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575400" y="2744640"/>
              <a:ext cx="10332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678720" y="2744640"/>
              <a:ext cx="1029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781680" y="2744640"/>
              <a:ext cx="9072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872400" y="2744640"/>
              <a:ext cx="1047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761160" y="3293640"/>
              <a:ext cx="214200" cy="18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05360" y="4781520"/>
              <a:ext cx="11160" cy="1440"/>
            </a:xfrm>
            <a:prstGeom prst="line">
              <a:avLst/>
            </a:prstGeom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16520" y="2744640"/>
              <a:ext cx="91800" cy="203688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4108320" y="2744640"/>
              <a:ext cx="1881000" cy="4680"/>
              <a:chOff x="4108320" y="2744640"/>
              <a:chExt cx="1881000" cy="4680"/>
            </a:xfrm>
          </p:grpSpPr>
          <p:sp>
            <p:nvSpPr>
              <p:cNvPr id="1085" name=""/>
              <p:cNvSpPr/>
              <p:nvPr/>
            </p:nvSpPr>
            <p:spPr>
              <a:xfrm>
                <a:off x="4108320" y="2744640"/>
                <a:ext cx="10260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210920" y="2744640"/>
                <a:ext cx="1036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314600" y="2744640"/>
                <a:ext cx="914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40604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10080" y="2744640"/>
                <a:ext cx="910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60152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705560" y="2744640"/>
                <a:ext cx="1022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807800" y="2744640"/>
                <a:ext cx="910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888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003280" y="2744640"/>
                <a:ext cx="914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094720" y="2744640"/>
                <a:ext cx="1036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198400" y="2744640"/>
                <a:ext cx="10260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301000" y="2744640"/>
                <a:ext cx="9252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393880" y="2744640"/>
                <a:ext cx="1022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496480" y="2744640"/>
                <a:ext cx="9252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589000" y="2744640"/>
                <a:ext cx="1022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9160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795640" y="2744640"/>
                <a:ext cx="910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86720" y="2744640"/>
                <a:ext cx="10260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4005360" y="4781520"/>
              <a:ext cx="11160" cy="144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016520" y="2744640"/>
              <a:ext cx="2466360" cy="2036160"/>
              <a:chOff x="4016520" y="2744640"/>
              <a:chExt cx="2466360" cy="2036160"/>
            </a:xfrm>
          </p:grpSpPr>
          <p:sp>
            <p:nvSpPr>
              <p:cNvPr id="1106" name=""/>
              <p:cNvSpPr/>
              <p:nvPr/>
            </p:nvSpPr>
            <p:spPr>
              <a:xfrm flipV="1">
                <a:off x="4016520" y="4692240"/>
                <a:ext cx="92520" cy="8856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4109040" y="4586400"/>
                <a:ext cx="102600" cy="1058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4211640" y="4477320"/>
                <a:ext cx="1033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315320" y="4388760"/>
                <a:ext cx="91080" cy="882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406760" y="4283280"/>
                <a:ext cx="103680" cy="1058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4510800" y="4174560"/>
                <a:ext cx="907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4601880" y="4066200"/>
                <a:ext cx="103680" cy="1080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4705920" y="3980160"/>
                <a:ext cx="102240" cy="8568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4808160" y="3871440"/>
                <a:ext cx="907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4899240" y="3762360"/>
                <a:ext cx="10368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5003280" y="3654360"/>
                <a:ext cx="91080" cy="1080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5094720" y="3568320"/>
                <a:ext cx="103320" cy="8568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5198400" y="3459600"/>
                <a:ext cx="10260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5301000" y="3351240"/>
                <a:ext cx="92520" cy="1080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5393880" y="3265200"/>
                <a:ext cx="102240" cy="8568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5496120" y="3156480"/>
                <a:ext cx="925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5589000" y="3047400"/>
                <a:ext cx="10224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5691240" y="2941560"/>
                <a:ext cx="103680" cy="1058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5795280" y="2853000"/>
                <a:ext cx="90720" cy="882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5886360" y="2744640"/>
                <a:ext cx="10260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88960" y="2744640"/>
                <a:ext cx="9216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081480" y="2744640"/>
                <a:ext cx="10260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184080" y="2744640"/>
                <a:ext cx="10368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379200" y="2744640"/>
                <a:ext cx="10368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4033800" y="3281400"/>
              <a:ext cx="2765520" cy="1493640"/>
              <a:chOff x="4033800" y="3281400"/>
              <a:chExt cx="2765520" cy="1493640"/>
            </a:xfrm>
          </p:grpSpPr>
          <p:sp>
            <p:nvSpPr>
              <p:cNvPr id="1131" name=""/>
              <p:cNvSpPr/>
              <p:nvPr/>
            </p:nvSpPr>
            <p:spPr>
              <a:xfrm>
                <a:off x="6202440" y="3303720"/>
                <a:ext cx="10332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305760" y="3303720"/>
                <a:ext cx="9180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397560" y="3303720"/>
                <a:ext cx="10332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500880" y="3303720"/>
                <a:ext cx="10332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604200" y="3303720"/>
                <a:ext cx="9036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94560" y="3303720"/>
                <a:ext cx="10476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033800" y="473220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0" y="12"/>
                    </a:moveTo>
                    <a:lnTo>
                      <a:pt x="30" y="12"/>
                    </a:lnTo>
                    <a:lnTo>
                      <a:pt x="42" y="6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137120" y="4494240"/>
                <a:ext cx="92160" cy="2379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12" y="60"/>
                    </a:lnTo>
                    <a:lnTo>
                      <a:pt x="24" y="42"/>
                    </a:lnTo>
                    <a:lnTo>
                      <a:pt x="36" y="24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229280" y="3562200"/>
                <a:ext cx="102960" cy="932040"/>
              </a:xfrm>
              <a:custGeom>
                <a:avLst/>
                <a:gdLst/>
                <a:ahLst/>
                <a:rect l="l" t="t" r="r" b="b"/>
                <a:pathLst>
                  <a:path w="54" h="258">
                    <a:moveTo>
                      <a:pt x="0" y="258"/>
                    </a:moveTo>
                    <a:lnTo>
                      <a:pt x="6" y="234"/>
                    </a:lnTo>
                    <a:lnTo>
                      <a:pt x="12" y="204"/>
                    </a:lnTo>
                    <a:lnTo>
                      <a:pt x="18" y="162"/>
                    </a:lnTo>
                    <a:lnTo>
                      <a:pt x="24" y="126"/>
                    </a:lnTo>
                    <a:lnTo>
                      <a:pt x="36" y="90"/>
                    </a:lnTo>
                    <a:lnTo>
                      <a:pt x="42" y="54"/>
                    </a:lnTo>
                    <a:lnTo>
                      <a:pt x="48" y="24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4332240" y="3438360"/>
                <a:ext cx="138240" cy="1209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30" y="18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630680" y="3346560"/>
                <a:ext cx="90720" cy="428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24" y="6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721400" y="3324240"/>
                <a:ext cx="104760" cy="22320"/>
              </a:xfrm>
              <a:custGeom>
                <a:avLst/>
                <a:gdLst/>
                <a:ahLst/>
                <a:rect l="l" t="t" r="r" b="b"/>
                <a:pathLst>
                  <a:path w="54" h="6">
                    <a:moveTo>
                      <a:pt x="0" y="6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826160" y="32814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24" y="6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916520" y="3281400"/>
                <a:ext cx="104760" cy="144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21280" y="3281400"/>
                <a:ext cx="101520" cy="144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22800" y="3281400"/>
                <a:ext cx="93960" cy="144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16760" y="3281400"/>
                <a:ext cx="101520" cy="22320"/>
              </a:xfrm>
              <a:custGeom>
                <a:avLst/>
                <a:gdLst/>
                <a:ahLst/>
                <a:rect l="l" t="t" r="r" b="b"/>
                <a:pathLst>
                  <a:path w="54" h="6">
                    <a:moveTo>
                      <a:pt x="0" y="0"/>
                    </a:moveTo>
                    <a:lnTo>
                      <a:pt x="24" y="0"/>
                    </a:lnTo>
                    <a:lnTo>
                      <a:pt x="54" y="6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318280" y="3303720"/>
                <a:ext cx="9360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11880" y="3303720"/>
                <a:ext cx="1015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513400" y="3303720"/>
                <a:ext cx="1047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618160" y="3303720"/>
                <a:ext cx="907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708880" y="3303720"/>
                <a:ext cx="102960" cy="288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11840" y="3303720"/>
                <a:ext cx="921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904000" y="3303720"/>
                <a:ext cx="1033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07320" y="3303720"/>
                <a:ext cx="1029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10280" y="3303720"/>
                <a:ext cx="921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202440" y="3303720"/>
                <a:ext cx="103320" cy="288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305760" y="3303720"/>
                <a:ext cx="9180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97560" y="3303720"/>
                <a:ext cx="1033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0880" y="3303720"/>
                <a:ext cx="1033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604200" y="3303720"/>
                <a:ext cx="903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94560" y="3303720"/>
                <a:ext cx="1047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551480" y="33894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24" y="6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4459320" y="3427200"/>
                <a:ext cx="92160" cy="2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3951360" y="2732040"/>
              <a:ext cx="2549520" cy="1765080"/>
              <a:chOff x="3951360" y="2732040"/>
              <a:chExt cx="2549520" cy="1765080"/>
            </a:xfrm>
          </p:grpSpPr>
          <p:sp>
            <p:nvSpPr>
              <p:cNvPr id="1166" name=""/>
              <p:cNvSpPr/>
              <p:nvPr/>
            </p:nvSpPr>
            <p:spPr>
              <a:xfrm>
                <a:off x="560556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08880" y="2732040"/>
                <a:ext cx="1029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11840" y="2732040"/>
                <a:ext cx="921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90400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007320" y="2732040"/>
                <a:ext cx="9180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9912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0244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305760" y="2732040"/>
                <a:ext cx="903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396120" y="2732040"/>
                <a:ext cx="1047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4118040" y="2958840"/>
                <a:ext cx="304920" cy="125892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4422960" y="2884680"/>
                <a:ext cx="104760" cy="10800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4527720" y="2820600"/>
                <a:ext cx="90360" cy="6372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4618080" y="2777760"/>
                <a:ext cx="104760" cy="428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4722840" y="2754360"/>
                <a:ext cx="101520" cy="2376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824360" y="2754360"/>
                <a:ext cx="93960" cy="32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V="1">
                <a:off x="4918320" y="2732040"/>
                <a:ext cx="101520" cy="2232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019840" y="2732040"/>
                <a:ext cx="9360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13440" y="2732040"/>
                <a:ext cx="1015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214960" y="2732040"/>
                <a:ext cx="1047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319720" y="2732040"/>
                <a:ext cx="907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10440" y="2732040"/>
                <a:ext cx="1029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13400" y="2732040"/>
                <a:ext cx="921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60556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708880" y="2732040"/>
                <a:ext cx="1029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11840" y="2732040"/>
                <a:ext cx="921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90400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007320" y="2732040"/>
                <a:ext cx="9180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09912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20244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05760" y="2732040"/>
                <a:ext cx="903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396120" y="2732040"/>
                <a:ext cx="1047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4027680" y="4321080"/>
                <a:ext cx="47520" cy="15228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070520" y="4206600"/>
                <a:ext cx="52200" cy="11916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3951360" y="4463640"/>
                <a:ext cx="104760" cy="3348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6488280" y="2730600"/>
              <a:ext cx="515880" cy="1584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195480" y="3844800"/>
            <a:ext cx="167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imuli for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7640" y="1336680"/>
            <a:ext cx="222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umber of sta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97640" y="256068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304000" y="2560680"/>
            <a:ext cx="39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4920" y="594360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053800" y="579132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5 or more stages and a stimulus of 1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1636D-078A-4F46-8D91-751FDDB47F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1587600" y="5524560"/>
            <a:ext cx="7275240" cy="630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rting points of wavefor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98000" y="1295280"/>
            <a:ext cx="7634520" cy="4117320"/>
            <a:chOff x="198000" y="1295280"/>
            <a:chExt cx="7634520" cy="4117320"/>
          </a:xfrm>
        </p:grpSpPr>
        <p:grpSp>
          <p:nvGrpSpPr>
            <p:cNvPr id="1210" name=""/>
            <p:cNvGrpSpPr/>
            <p:nvPr/>
          </p:nvGrpSpPr>
          <p:grpSpPr>
            <a:xfrm>
              <a:off x="198000" y="1295280"/>
              <a:ext cx="3581640" cy="4117320"/>
              <a:chOff x="198000" y="1295280"/>
              <a:chExt cx="3581640" cy="4117320"/>
            </a:xfrm>
          </p:grpSpPr>
          <p:sp>
            <p:nvSpPr>
              <p:cNvPr id="1211" name=""/>
              <p:cNvSpPr/>
              <p:nvPr/>
            </p:nvSpPr>
            <p:spPr>
              <a:xfrm>
                <a:off x="2700720" y="495288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198000" y="1295280"/>
                <a:ext cx="3581640" cy="3964680"/>
                <a:chOff x="198000" y="1295280"/>
                <a:chExt cx="3581640" cy="39646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385640" y="3692160"/>
                  <a:ext cx="0" cy="12844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265040" y="4952880"/>
                  <a:ext cx="25146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385640" y="4951080"/>
                  <a:ext cx="55728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V="1">
                  <a:off x="1942920" y="4190760"/>
                  <a:ext cx="703440" cy="76032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646360" y="4190760"/>
                  <a:ext cx="70308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241280" y="4190760"/>
                  <a:ext cx="2332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98360" y="3276360"/>
                  <a:ext cx="2511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resistance to 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05440" y="388584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0066"/>
                      </a:solidFill>
                      <a:latin typeface="Times New Roman"/>
                    </a:rPr>
                    <a:t>V1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430200" y="4800240"/>
                  <a:ext cx="83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0066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379520" y="1703160"/>
                  <a:ext cx="0" cy="1284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341360" y="2971440"/>
                  <a:ext cx="24382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1379520" y="2653920"/>
                  <a:ext cx="355680" cy="1440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1735200" y="1905840"/>
                  <a:ext cx="703080" cy="76068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8280" y="1893600"/>
                  <a:ext cx="70344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1299960" y="265392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22200" y="189360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98000" y="1295280"/>
                  <a:ext cx="247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resistance to 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04720" y="1599840"/>
                  <a:ext cx="67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6600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05440" y="259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6600"/>
                      </a:solidFill>
                      <a:latin typeface="Times New Roman"/>
                    </a:rPr>
                    <a:t>V2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2686680" y="29984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4174560" y="1317240"/>
              <a:ext cx="3657960" cy="4095360"/>
              <a:chOff x="4174560" y="1317240"/>
              <a:chExt cx="3657960" cy="4095360"/>
            </a:xfrm>
          </p:grpSpPr>
          <p:sp>
            <p:nvSpPr>
              <p:cNvPr id="1234" name=""/>
              <p:cNvSpPr/>
              <p:nvPr/>
            </p:nvSpPr>
            <p:spPr>
              <a:xfrm>
                <a:off x="5367240" y="3692160"/>
                <a:ext cx="0" cy="12844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18200" y="4973400"/>
                <a:ext cx="2538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367240" y="4200120"/>
                <a:ext cx="3128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54520" y="4192200"/>
                <a:ext cx="701640" cy="76068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356160" y="4952880"/>
                <a:ext cx="85896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218200" y="4213080"/>
                <a:ext cx="2332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175280" y="3298680"/>
                <a:ext cx="251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esistance to GN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2000" y="39081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0066"/>
                    </a:solidFill>
                    <a:latin typeface="Times New Roman"/>
                  </a:rPr>
                  <a:t>V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407120" y="48225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0066"/>
                    </a:solidFill>
                    <a:latin typeface="Times New Roman"/>
                  </a:rPr>
                  <a:t>GN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906240" y="495288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356080" y="1725480"/>
                <a:ext cx="0" cy="1284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76880" y="2960280"/>
                <a:ext cx="2555640" cy="82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376960" y="1927080"/>
                <a:ext cx="7030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080040" y="1927080"/>
                <a:ext cx="701640" cy="7603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781680" y="2687400"/>
                <a:ext cx="858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276880" y="2676240"/>
                <a:ext cx="23472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199120" y="1915920"/>
                <a:ext cx="23472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74560" y="1317240"/>
                <a:ext cx="247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esistance to VCC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481280" y="162216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6600"/>
                    </a:solidFill>
                    <a:latin typeface="Times New Roman"/>
                  </a:rPr>
                  <a:t>Vcc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482000" y="26128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6600"/>
                    </a:solidFill>
                    <a:latin typeface="Times New Roman"/>
                  </a:rPr>
                  <a:t>V2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852240" y="29937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55" name=""/>
            <p:cNvSpPr/>
            <p:nvPr/>
          </p:nvSpPr>
          <p:spPr>
            <a:xfrm>
              <a:off x="5643360" y="4167000"/>
              <a:ext cx="7488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933560" y="4906800"/>
              <a:ext cx="7452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973160" y="4701960"/>
              <a:ext cx="0" cy="484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704960" y="2469960"/>
              <a:ext cx="0" cy="698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6054480" y="1774440"/>
              <a:ext cx="12960" cy="1349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689440" y="3970080"/>
              <a:ext cx="0" cy="1155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68240" y="2916000"/>
              <a:ext cx="7488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16680" y="1885680"/>
              <a:ext cx="7452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5383080" y="3105000"/>
            <a:ext cx="711360" cy="0"/>
          </a:xfrm>
          <a:prstGeom prst="line">
            <a:avLst/>
          </a:prstGeom>
          <a:ln w="5724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373040" y="5183280"/>
            <a:ext cx="628920" cy="0"/>
          </a:xfrm>
          <a:prstGeom prst="line">
            <a:avLst/>
          </a:prstGeom>
          <a:ln w="5724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574640" y="5589720"/>
            <a:ext cx="72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Lead-in-time“ 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(described in ibis-4);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how much is allowed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6320" y="569124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1054080" y="3087720"/>
            <a:ext cx="1047600" cy="12600"/>
            <a:chOff x="1054080" y="3087720"/>
            <a:chExt cx="1047600" cy="12600"/>
          </a:xfrm>
        </p:grpSpPr>
        <p:sp>
          <p:nvSpPr>
            <p:cNvPr id="1268" name=""/>
            <p:cNvSpPr/>
            <p:nvPr/>
          </p:nvSpPr>
          <p:spPr>
            <a:xfrm>
              <a:off x="1752480" y="30877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1054080" y="30877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992840" y="5132520"/>
            <a:ext cx="1047600" cy="12600"/>
            <a:chOff x="4992840" y="5132520"/>
            <a:chExt cx="1047600" cy="12600"/>
          </a:xfrm>
        </p:grpSpPr>
        <p:sp>
          <p:nvSpPr>
            <p:cNvPr id="1271" name=""/>
            <p:cNvSpPr/>
            <p:nvPr/>
          </p:nvSpPr>
          <p:spPr>
            <a:xfrm>
              <a:off x="5691240" y="51325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4992840" y="51325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AD1AB-E29D-4B45-B239-2B0DCFC7EB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2149560" y="5538960"/>
            <a:ext cx="5487840" cy="630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ditions for min-typ-max model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591120" y="1143000"/>
            <a:ext cx="7234200" cy="4289400"/>
            <a:chOff x="591120" y="1143000"/>
            <a:chExt cx="7234200" cy="4289400"/>
          </a:xfrm>
        </p:grpSpPr>
        <p:grpSp>
          <p:nvGrpSpPr>
            <p:cNvPr id="1276" name=""/>
            <p:cNvGrpSpPr/>
            <p:nvPr/>
          </p:nvGrpSpPr>
          <p:grpSpPr>
            <a:xfrm>
              <a:off x="1917720" y="3309840"/>
              <a:ext cx="1792440" cy="448920"/>
              <a:chOff x="1917720" y="3309840"/>
              <a:chExt cx="1792440" cy="448920"/>
            </a:xfrm>
          </p:grpSpPr>
          <p:sp>
            <p:nvSpPr>
              <p:cNvPr id="1277" name=""/>
              <p:cNvSpPr/>
              <p:nvPr/>
            </p:nvSpPr>
            <p:spPr>
              <a:xfrm>
                <a:off x="1954080" y="3615480"/>
                <a:ext cx="841680" cy="5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917720" y="3615480"/>
                <a:ext cx="1792440" cy="143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917720" y="3453120"/>
                <a:ext cx="822240" cy="162000"/>
              </a:xfrm>
              <a:prstGeom prst="rect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917720" y="3309840"/>
                <a:ext cx="1627200" cy="14328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1905120" y="2647800"/>
              <a:ext cx="1547640" cy="450720"/>
              <a:chOff x="1905120" y="2647800"/>
              <a:chExt cx="1547640" cy="450720"/>
            </a:xfrm>
          </p:grpSpPr>
          <p:sp>
            <p:nvSpPr>
              <p:cNvPr id="1282" name=""/>
              <p:cNvSpPr/>
              <p:nvPr/>
            </p:nvSpPr>
            <p:spPr>
              <a:xfrm>
                <a:off x="1905120" y="2954520"/>
                <a:ext cx="1547640" cy="14400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905120" y="2791440"/>
                <a:ext cx="1122120" cy="162720"/>
              </a:xfrm>
              <a:prstGeom prst="rect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905120" y="2647800"/>
                <a:ext cx="1334880" cy="14364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1905120" y="1898640"/>
              <a:ext cx="3276360" cy="442440"/>
              <a:chOff x="1905120" y="1898640"/>
              <a:chExt cx="3276360" cy="442440"/>
            </a:xfrm>
          </p:grpSpPr>
          <p:sp>
            <p:nvSpPr>
              <p:cNvPr id="1286" name=""/>
              <p:cNvSpPr/>
              <p:nvPr/>
            </p:nvSpPr>
            <p:spPr>
              <a:xfrm>
                <a:off x="1905120" y="2198160"/>
                <a:ext cx="3276360" cy="14292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905120" y="2048040"/>
                <a:ext cx="3273480" cy="162000"/>
              </a:xfrm>
              <a:prstGeom prst="rect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905120" y="1898640"/>
                <a:ext cx="3276360" cy="14328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591120" y="1143000"/>
              <a:ext cx="679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Example : typical model parameters from 3 vendo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290" name=""/>
            <p:cNvGrpSpPr/>
            <p:nvPr/>
          </p:nvGrpSpPr>
          <p:grpSpPr>
            <a:xfrm>
              <a:off x="4113360" y="3173400"/>
              <a:ext cx="528120" cy="755640"/>
              <a:chOff x="4113360" y="3173400"/>
              <a:chExt cx="528120" cy="755640"/>
            </a:xfrm>
          </p:grpSpPr>
          <p:sp>
            <p:nvSpPr>
              <p:cNvPr id="1291" name=""/>
              <p:cNvSpPr/>
              <p:nvPr/>
            </p:nvSpPr>
            <p:spPr>
              <a:xfrm>
                <a:off x="4113360" y="3623760"/>
                <a:ext cx="52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55°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113360" y="3398400"/>
                <a:ext cx="52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25°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113360" y="3173400"/>
                <a:ext cx="52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50°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3503160" y="2498760"/>
              <a:ext cx="633240" cy="754920"/>
              <a:chOff x="3503160" y="2498760"/>
              <a:chExt cx="633240" cy="754920"/>
            </a:xfrm>
          </p:grpSpPr>
          <p:sp>
            <p:nvSpPr>
              <p:cNvPr id="1295" name=""/>
              <p:cNvSpPr/>
              <p:nvPr/>
            </p:nvSpPr>
            <p:spPr>
              <a:xfrm>
                <a:off x="3503160" y="2948400"/>
                <a:ext cx="633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3.3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503160" y="2736000"/>
                <a:ext cx="633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3.0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503160" y="2498760"/>
                <a:ext cx="633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3.15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5789880" y="1747800"/>
              <a:ext cx="439560" cy="755640"/>
              <a:chOff x="5789880" y="1747800"/>
              <a:chExt cx="439560" cy="755640"/>
            </a:xfrm>
          </p:grpSpPr>
          <p:sp>
            <p:nvSpPr>
              <p:cNvPr id="1299" name=""/>
              <p:cNvSpPr/>
              <p:nvPr/>
            </p:nvSpPr>
            <p:spPr>
              <a:xfrm>
                <a:off x="5789880" y="219816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yp?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789880" y="1972800"/>
                <a:ext cx="32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yp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789880" y="174780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yp?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02" name=""/>
            <p:cNvSpPr/>
            <p:nvPr/>
          </p:nvSpPr>
          <p:spPr>
            <a:xfrm>
              <a:off x="1515600" y="33814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j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14000" y="2716200"/>
              <a:ext cx="41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35920" y="20480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112160" y="2390760"/>
              <a:ext cx="163440" cy="162000"/>
            </a:xfrm>
            <a:prstGeom prst="rect">
              <a:avLst/>
            </a:prstGeom>
            <a:solidFill>
              <a:srgbClr val="66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67400" y="23194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112160" y="2805120"/>
              <a:ext cx="163440" cy="16200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367760" y="27320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112160" y="3220920"/>
              <a:ext cx="163440" cy="16056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367760" y="31464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910200" y="182232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en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762120" y="4299120"/>
              <a:ext cx="6566760" cy="1133280"/>
              <a:chOff x="762120" y="4299120"/>
              <a:chExt cx="6566760" cy="1133280"/>
            </a:xfrm>
          </p:grpSpPr>
          <p:sp>
            <p:nvSpPr>
              <p:cNvPr id="1313" name=""/>
              <p:cNvSpPr/>
              <p:nvPr/>
            </p:nvSpPr>
            <p:spPr>
              <a:xfrm flipH="1" rot="5400000">
                <a:off x="3319200" y="4519440"/>
                <a:ext cx="675360" cy="609480"/>
              </a:xfrm>
              <a:prstGeom prst="flowChartExtract">
                <a:avLst/>
              </a:prstGeom>
              <a:solidFill>
                <a:srgbClr val="3366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14" name=""/>
              <p:cNvGrpSpPr/>
              <p:nvPr/>
            </p:nvGrpSpPr>
            <p:grpSpPr>
              <a:xfrm>
                <a:off x="1410120" y="4674240"/>
                <a:ext cx="1981080" cy="300240"/>
                <a:chOff x="1410120" y="4674240"/>
                <a:chExt cx="1981080" cy="30024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2019600" y="4674240"/>
                  <a:ext cx="838080" cy="300240"/>
                </a:xfrm>
                <a:prstGeom prst="flowChartMagneticDrum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410120" y="48240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705400" y="48240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992880" y="49726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u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211480" y="42991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802400" y="42991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21" name=""/>
              <p:cNvGrpSpPr/>
              <p:nvPr/>
            </p:nvGrpSpPr>
            <p:grpSpPr>
              <a:xfrm>
                <a:off x="3962520" y="4674240"/>
                <a:ext cx="1981440" cy="300240"/>
                <a:chOff x="3962520" y="4674240"/>
                <a:chExt cx="1981440" cy="30024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4648320" y="4674240"/>
                  <a:ext cx="838440" cy="300240"/>
                </a:xfrm>
                <a:prstGeom prst="flowChartMagneticDrum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962520" y="48243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334120" y="4824360"/>
                  <a:ext cx="60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5" name=""/>
              <p:cNvSpPr/>
              <p:nvPr/>
            </p:nvSpPr>
            <p:spPr>
              <a:xfrm flipH="1" rot="5400000">
                <a:off x="729000" y="4519440"/>
                <a:ext cx="675360" cy="609840"/>
              </a:xfrm>
              <a:prstGeom prst="flowChartExtract">
                <a:avLst/>
              </a:prstGeom>
              <a:solidFill>
                <a:srgbClr val="66ff33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 rot="5400000">
                <a:off x="5910120" y="4519440"/>
                <a:ext cx="675360" cy="609480"/>
              </a:xfrm>
              <a:prstGeom prst="flowChartExtract">
                <a:avLst/>
              </a:prstGeom>
              <a:solidFill>
                <a:srgbClr val="ff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506040" y="497268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Buffe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096600" y="4972680"/>
                <a:ext cx="1232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Memory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9" name=""/>
          <p:cNvSpPr/>
          <p:nvPr/>
        </p:nvSpPr>
        <p:spPr>
          <a:xfrm>
            <a:off x="2290320" y="560556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How to make a reasonable simulation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28600" y="576432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AD397-435F-4E10-8D2F-BE7496EE48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198360" y="4433760"/>
            <a:ext cx="54882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752480" y="5052960"/>
            <a:ext cx="1030320" cy="1197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imestep for waveform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54040" y="1378080"/>
            <a:ext cx="304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[Ramp]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dV/dt_r          1.14V/0.30ns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R_load = 50.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88280" y="2897280"/>
            <a:ext cx="57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different  timestep for simulation and print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88080" y="452124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imestep for printing should b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61240" y="1378080"/>
            <a:ext cx="2766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[Rising Waveform]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R_fixture = 50.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V_fixture = 0.0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   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...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0.40nS         1.58mV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0.60nS        -5.84mV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0.80nS         0.0834V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1.00nS         0.76V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1.20nS         1.51V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1.40nS         1.76V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…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.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1883520" y="5135400"/>
            <a:ext cx="749160" cy="1011960"/>
            <a:chOff x="1883520" y="5135400"/>
            <a:chExt cx="749160" cy="1011960"/>
          </a:xfrm>
        </p:grpSpPr>
        <p:sp>
          <p:nvSpPr>
            <p:cNvPr id="1339" name=""/>
            <p:cNvSpPr/>
            <p:nvPr/>
          </p:nvSpPr>
          <p:spPr>
            <a:xfrm>
              <a:off x="1883520" y="513540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dt_r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972080" y="56876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10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20960" y="5667120"/>
              <a:ext cx="6397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5448240" y="3375000"/>
            <a:ext cx="668520" cy="3729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3206880" y="2085840"/>
            <a:ext cx="0" cy="7351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94040" y="378288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smaller value of dt_r or dt_f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72920" y="54468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( =  30ps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" y="555948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0700A-256C-4CB3-A980-5030A8A46D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 GHz Model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198360" y="5394240"/>
            <a:ext cx="2565360" cy="917640"/>
            <a:chOff x="198360" y="5394240"/>
            <a:chExt cx="2565360" cy="917640"/>
          </a:xfrm>
        </p:grpSpPr>
        <p:sp>
          <p:nvSpPr>
            <p:cNvPr id="1349" name=""/>
            <p:cNvSpPr/>
            <p:nvPr/>
          </p:nvSpPr>
          <p:spPr>
            <a:xfrm>
              <a:off x="198360" y="5394240"/>
              <a:ext cx="25653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49360" y="6216480"/>
              <a:ext cx="189000" cy="95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70680" y="557208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2475000" y="4925880"/>
            <a:ext cx="2637720" cy="952560"/>
            <a:chOff x="2475000" y="4925880"/>
            <a:chExt cx="2637720" cy="952560"/>
          </a:xfrm>
        </p:grpSpPr>
        <p:sp>
          <p:nvSpPr>
            <p:cNvPr id="1353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355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2760120" y="492588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359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1361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1366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67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1368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1374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1377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1380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2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1383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1384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C85BF-D402-4D88-B790-F09BDF032C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4441680" y="3952800"/>
            <a:ext cx="3530880" cy="2524320"/>
          </a:xfrm>
          <a:prstGeom prst="bevel">
            <a:avLst>
              <a:gd name="adj" fmla="val 125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finition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694400" y="4208400"/>
            <a:ext cx="303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e have to separate 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O-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Package 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426960" y="2292480"/>
            <a:ext cx="1752840" cy="1066680"/>
            <a:chOff x="426960" y="2292480"/>
            <a:chExt cx="1752840" cy="1066680"/>
          </a:xfrm>
        </p:grpSpPr>
        <p:sp>
          <p:nvSpPr>
            <p:cNvPr id="1391" name=""/>
            <p:cNvSpPr/>
            <p:nvPr/>
          </p:nvSpPr>
          <p:spPr>
            <a:xfrm>
              <a:off x="426960" y="3359160"/>
              <a:ext cx="2311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58436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65808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022040" y="2292480"/>
              <a:ext cx="561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48320" y="3359160"/>
              <a:ext cx="2314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951200" y="3054240"/>
            <a:ext cx="0" cy="838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408400" y="3054240"/>
            <a:ext cx="0" cy="838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55560" y="198756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036800" y="198756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951200" y="3740040"/>
            <a:ext cx="45720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74680" y="213984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1036800" y="213984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2179800" y="2292480"/>
            <a:ext cx="1752480" cy="1066680"/>
            <a:chOff x="2179800" y="2292480"/>
            <a:chExt cx="1752480" cy="1066680"/>
          </a:xfrm>
        </p:grpSpPr>
        <p:sp>
          <p:nvSpPr>
            <p:cNvPr id="1404" name=""/>
            <p:cNvSpPr/>
            <p:nvPr/>
          </p:nvSpPr>
          <p:spPr>
            <a:xfrm>
              <a:off x="2179800" y="3359160"/>
              <a:ext cx="2311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3720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241092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774880" y="2292480"/>
              <a:ext cx="561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0800" y="3359160"/>
              <a:ext cx="2314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09" name=""/>
          <p:cNvSpPr/>
          <p:nvPr/>
        </p:nvSpPr>
        <p:spPr>
          <a:xfrm>
            <a:off x="1951200" y="1835280"/>
            <a:ext cx="0" cy="1676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569960" y="183528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89080" y="198756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1951200" y="198756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36800" y="358776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98720" y="1378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r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27160" y="1378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f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876320" y="39686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lo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59520" y="39686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hig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52200" y="14479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rise = Tfall = Thigh = Tlow = Tperiod/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877920" y="232092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f  =  1 / Tperiod  =  1 GH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78640" y="28494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rise = 250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855880" y="433548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3F1D5-A4DD-4807-A2F6-8A247EDC0C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ble of conte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475000" y="4913280"/>
            <a:ext cx="2599560" cy="965160"/>
            <a:chOff x="2475000" y="4913280"/>
            <a:chExt cx="2599560" cy="965160"/>
          </a:xfrm>
        </p:grpSpPr>
        <p:sp>
          <p:nvSpPr>
            <p:cNvPr id="149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51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721960" y="491328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55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157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162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164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170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297480" y="1130400"/>
            <a:ext cx="2567160" cy="757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73680" y="13190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112160" y="1951200"/>
            <a:ext cx="938160" cy="237600"/>
            <a:chOff x="7112160" y="1951200"/>
            <a:chExt cx="938160" cy="237600"/>
          </a:xfrm>
        </p:grpSpPr>
        <p:sp>
          <p:nvSpPr>
            <p:cNvPr id="175" name=""/>
            <p:cNvSpPr/>
            <p:nvPr/>
          </p:nvSpPr>
          <p:spPr>
            <a:xfrm>
              <a:off x="7518600" y="2093760"/>
              <a:ext cx="187560" cy="95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12160" y="1951200"/>
              <a:ext cx="938160" cy="94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178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51837-0FAD-426A-9D3C-592AC03391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590400" y="5035680"/>
            <a:ext cx="8218800" cy="912600"/>
          </a:xfrm>
          <a:prstGeom prst="bevel">
            <a:avLst>
              <a:gd name="adj" fmla="val 125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O-mod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1640" y="5095800"/>
            <a:ext cx="812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s with rise-falltime of 250ps  like  LVDS, PECL and ev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MOS show good results , </a:t>
            </a:r>
            <a:r>
              <a:rPr b="0" lang="de-DE" sz="2400" spc="-1" strike="noStrike" u="sng">
                <a:solidFill>
                  <a:srgbClr val="003366"/>
                </a:solidFill>
                <a:uFillTx/>
                <a:latin typeface="Times New Roman"/>
              </a:rPr>
              <a:t>but without package 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051640" y="42800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228680" y="3281400"/>
            <a:ext cx="0" cy="10191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154160" y="4281480"/>
            <a:ext cx="15732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1228680" y="3676680"/>
            <a:ext cx="828360" cy="603360"/>
            <a:chOff x="1228680" y="3676680"/>
            <a:chExt cx="828360" cy="603360"/>
          </a:xfrm>
        </p:grpSpPr>
        <p:sp>
          <p:nvSpPr>
            <p:cNvPr id="1429" name=""/>
            <p:cNvSpPr/>
            <p:nvPr/>
          </p:nvSpPr>
          <p:spPr>
            <a:xfrm>
              <a:off x="1228680" y="4280040"/>
              <a:ext cx="23544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1464120" y="3676680"/>
              <a:ext cx="296640" cy="60336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760760" y="3676680"/>
              <a:ext cx="2962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1138320" y="3676680"/>
            <a:ext cx="1458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250640" y="31431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50 Ohm to G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78600" y="3433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32160" y="4159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225440" y="1701720"/>
            <a:ext cx="0" cy="10191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01680" y="2708280"/>
            <a:ext cx="15256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1225440" y="1852560"/>
            <a:ext cx="676440" cy="615960"/>
            <a:chOff x="1225440" y="1852560"/>
            <a:chExt cx="676440" cy="615960"/>
          </a:xfrm>
        </p:grpSpPr>
        <p:sp>
          <p:nvSpPr>
            <p:cNvPr id="1439" name=""/>
            <p:cNvSpPr/>
            <p:nvPr/>
          </p:nvSpPr>
          <p:spPr>
            <a:xfrm>
              <a:off x="1225440" y="2455920"/>
              <a:ext cx="136440" cy="126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1361880" y="1863720"/>
              <a:ext cx="269640" cy="6033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31880" y="1852560"/>
              <a:ext cx="2700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1174680" y="2455920"/>
            <a:ext cx="1476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127160" y="1852560"/>
            <a:ext cx="1461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276920" y="131436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50 Ohm to VC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77880" y="16192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78600" y="2406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43720" y="2730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20960" y="3279600"/>
            <a:ext cx="0" cy="10209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627360" y="4297320"/>
            <a:ext cx="1589040" cy="1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3720960" y="3676680"/>
            <a:ext cx="742680" cy="604800"/>
            <a:chOff x="3720960" y="3676680"/>
            <a:chExt cx="742680" cy="604800"/>
          </a:xfrm>
        </p:grpSpPr>
        <p:sp>
          <p:nvSpPr>
            <p:cNvPr id="1451" name=""/>
            <p:cNvSpPr/>
            <p:nvPr/>
          </p:nvSpPr>
          <p:spPr>
            <a:xfrm>
              <a:off x="3720960" y="3683160"/>
              <a:ext cx="12564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36160" y="3676680"/>
              <a:ext cx="282240" cy="60480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18760" y="4281480"/>
              <a:ext cx="3448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3627360" y="3693960"/>
            <a:ext cx="1461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167640" y="3451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119760" y="41781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83600" y="42800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14840" y="1719360"/>
            <a:ext cx="0" cy="10191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64080" y="2700360"/>
            <a:ext cx="1600200" cy="468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3727440" y="1879560"/>
            <a:ext cx="874800" cy="603360"/>
            <a:chOff x="3727440" y="1879560"/>
            <a:chExt cx="874800" cy="603360"/>
          </a:xfrm>
        </p:grpSpPr>
        <p:sp>
          <p:nvSpPr>
            <p:cNvPr id="1461" name=""/>
            <p:cNvSpPr/>
            <p:nvPr/>
          </p:nvSpPr>
          <p:spPr>
            <a:xfrm>
              <a:off x="3727440" y="1879560"/>
              <a:ext cx="271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998880" y="1879560"/>
              <a:ext cx="271440" cy="6033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270680" y="2482920"/>
              <a:ext cx="3315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3664080" y="2473200"/>
            <a:ext cx="1476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616200" y="1870200"/>
            <a:ext cx="1461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166920" y="16365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67640" y="24242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651200" y="27255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991840" y="2001960"/>
            <a:ext cx="25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V-t-waveforms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Look the same for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1ns  or 100p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8360" y="477360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3E551-BDC7-4B58-8BF9-12C06BF5D1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ckage model  -1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853320" y="2606760"/>
            <a:ext cx="9360" cy="17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853320" y="2940120"/>
            <a:ext cx="93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97280" y="131112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Schematic of BGA-Pac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8280" y="3179880"/>
            <a:ext cx="2000160" cy="31752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84320" y="3749760"/>
            <a:ext cx="285408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57360" y="3747960"/>
            <a:ext cx="253800" cy="21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928880" y="3749760"/>
            <a:ext cx="253800" cy="21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3638520"/>
            <a:ext cx="900360" cy="50760"/>
          </a:xfrm>
          <a:prstGeom prst="rect">
            <a:avLst/>
          </a:prstGeom>
          <a:solidFill>
            <a:srgbClr val="0033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2225520" y="2989080"/>
            <a:ext cx="0" cy="185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225520" y="2989440"/>
            <a:ext cx="2476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 rot="5400000">
            <a:off x="2197080" y="3074040"/>
            <a:ext cx="46080" cy="152280"/>
          </a:xfrm>
          <a:prstGeom prst="flowChartDelay">
            <a:avLst/>
          </a:prstGeom>
          <a:solidFill>
            <a:srgbClr val="0033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 rot="5400000">
            <a:off x="2669400" y="3526560"/>
            <a:ext cx="46080" cy="152640"/>
          </a:xfrm>
          <a:prstGeom prst="flowChartDelay">
            <a:avLst/>
          </a:prstGeom>
          <a:solidFill>
            <a:srgbClr val="0033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468520" y="2984400"/>
            <a:ext cx="223920" cy="595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027240" y="2755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u 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025080" y="37465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Solder b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026520" y="22845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d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025080" y="32511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etal 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1663560" y="2538360"/>
            <a:ext cx="1362240" cy="446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2654280" y="2984400"/>
            <a:ext cx="371520" cy="277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2450880" y="3427560"/>
            <a:ext cx="587160" cy="164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flipV="1">
            <a:off x="2235240" y="3846240"/>
            <a:ext cx="79056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49240" y="4840200"/>
            <a:ext cx="44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EPBGA with 1600 pin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ire length  up to 2.5 cm ( 1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6387840" y="2076480"/>
            <a:ext cx="1976760" cy="2127240"/>
            <a:chOff x="6387840" y="2076480"/>
            <a:chExt cx="1976760" cy="2127240"/>
          </a:xfrm>
        </p:grpSpPr>
        <p:sp>
          <p:nvSpPr>
            <p:cNvPr id="1495" name=""/>
            <p:cNvSpPr/>
            <p:nvPr/>
          </p:nvSpPr>
          <p:spPr>
            <a:xfrm>
              <a:off x="6388200" y="2076480"/>
              <a:ext cx="1976400" cy="2127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567480" y="2333520"/>
              <a:ext cx="1617840" cy="16131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6387840" y="3753000"/>
              <a:ext cx="179280" cy="322200"/>
              <a:chOff x="6387840" y="3753000"/>
              <a:chExt cx="179280" cy="32220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6477480" y="3753000"/>
                <a:ext cx="896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477840" y="3753000"/>
                <a:ext cx="0" cy="3222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6387840" y="4075200"/>
                <a:ext cx="896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1" name=""/>
          <p:cNvSpPr/>
          <p:nvPr/>
        </p:nvSpPr>
        <p:spPr>
          <a:xfrm>
            <a:off x="4999680" y="2792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d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99320" y="203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587920" y="3009960"/>
            <a:ext cx="11559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283360" y="2438280"/>
            <a:ext cx="1155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000040" y="3541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283360" y="3949560"/>
            <a:ext cx="1155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388200" y="4381560"/>
            <a:ext cx="19684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190920" y="4457880"/>
            <a:ext cx="25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~ 6 cm ( 2.4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BABEB-F401-4A9B-AFDD-D8DF4F0B9D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1752480" y="5580000"/>
            <a:ext cx="6531120" cy="89712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ckage model  -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853320" y="2606760"/>
            <a:ext cx="9360" cy="17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3320" y="2940120"/>
            <a:ext cx="93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744560" y="5654520"/>
            <a:ext cx="64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ackages used with model rise-falltimes &lt; 250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ust be modeled as  ( coupled ) transmission li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98360" y="581184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198360" y="3673440"/>
            <a:ext cx="5641920" cy="1755720"/>
            <a:chOff x="198360" y="3673440"/>
            <a:chExt cx="5641920" cy="1755720"/>
          </a:xfrm>
        </p:grpSpPr>
        <p:sp>
          <p:nvSpPr>
            <p:cNvPr id="1516" name=""/>
            <p:cNvSpPr/>
            <p:nvPr/>
          </p:nvSpPr>
          <p:spPr>
            <a:xfrm>
              <a:off x="198360" y="3673440"/>
              <a:ext cx="5641920" cy="1755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05000" y="374652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27520" y="374652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94400" y="374652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6060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3960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17952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1484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1792440" y="4292640"/>
              <a:ext cx="709560" cy="260280"/>
              <a:chOff x="1792440" y="4292640"/>
              <a:chExt cx="709560" cy="260280"/>
            </a:xfrm>
          </p:grpSpPr>
          <p:sp>
            <p:nvSpPr>
              <p:cNvPr id="1525" name=""/>
              <p:cNvSpPr/>
              <p:nvPr/>
            </p:nvSpPr>
            <p:spPr>
              <a:xfrm>
                <a:off x="188100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01420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14740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28024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29" name=""/>
              <p:cNvGrpSpPr/>
              <p:nvPr/>
            </p:nvGrpSpPr>
            <p:grpSpPr>
              <a:xfrm>
                <a:off x="1792440" y="4404240"/>
                <a:ext cx="709560" cy="0"/>
                <a:chOff x="1792440" y="4404240"/>
                <a:chExt cx="709560" cy="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179244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241344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2" name=""/>
            <p:cNvGrpSpPr/>
            <p:nvPr/>
          </p:nvGrpSpPr>
          <p:grpSpPr>
            <a:xfrm>
              <a:off x="379440" y="4330800"/>
              <a:ext cx="707760" cy="145800"/>
              <a:chOff x="379440" y="4330800"/>
              <a:chExt cx="707760" cy="145800"/>
            </a:xfrm>
          </p:grpSpPr>
          <p:sp>
            <p:nvSpPr>
              <p:cNvPr id="1533" name=""/>
              <p:cNvSpPr/>
              <p:nvPr/>
            </p:nvSpPr>
            <p:spPr>
              <a:xfrm>
                <a:off x="467640" y="4330800"/>
                <a:ext cx="531000" cy="1458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999000" y="4403520"/>
                <a:ext cx="882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79440" y="4403520"/>
                <a:ext cx="882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955800" y="4795920"/>
              <a:ext cx="261720" cy="225360"/>
              <a:chOff x="955800" y="4795920"/>
              <a:chExt cx="261720" cy="225360"/>
            </a:xfrm>
          </p:grpSpPr>
          <p:sp>
            <p:nvSpPr>
              <p:cNvPr id="1537" name=""/>
              <p:cNvSpPr/>
              <p:nvPr/>
            </p:nvSpPr>
            <p:spPr>
              <a:xfrm>
                <a:off x="955800" y="4870800"/>
                <a:ext cx="261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955800" y="4946040"/>
                <a:ext cx="261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086480" y="4795920"/>
                <a:ext cx="0" cy="748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086480" y="4946040"/>
                <a:ext cx="0" cy="752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2502000" y="4348080"/>
              <a:ext cx="659880" cy="147600"/>
              <a:chOff x="2502000" y="4348080"/>
              <a:chExt cx="659880" cy="147600"/>
            </a:xfrm>
          </p:grpSpPr>
          <p:sp>
            <p:nvSpPr>
              <p:cNvPr id="1542" name=""/>
              <p:cNvSpPr/>
              <p:nvPr/>
            </p:nvSpPr>
            <p:spPr>
              <a:xfrm rot="5400000">
                <a:off x="2757600" y="4179600"/>
                <a:ext cx="147600" cy="484200"/>
              </a:xfrm>
              <a:prstGeom prst="can">
                <a:avLst>
                  <a:gd name="adj" fmla="val 25000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02000" y="442188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074040" y="442188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117960" y="4292640"/>
              <a:ext cx="709560" cy="260280"/>
              <a:chOff x="3117960" y="4292640"/>
              <a:chExt cx="709560" cy="260280"/>
            </a:xfrm>
          </p:grpSpPr>
          <p:sp>
            <p:nvSpPr>
              <p:cNvPr id="1546" name=""/>
              <p:cNvSpPr/>
              <p:nvPr/>
            </p:nvSpPr>
            <p:spPr>
              <a:xfrm>
                <a:off x="320652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33972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47292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60576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50" name=""/>
              <p:cNvGrpSpPr/>
              <p:nvPr/>
            </p:nvGrpSpPr>
            <p:grpSpPr>
              <a:xfrm>
                <a:off x="3117960" y="4404240"/>
                <a:ext cx="709560" cy="0"/>
                <a:chOff x="3117960" y="4404240"/>
                <a:chExt cx="709560" cy="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311796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373896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3" name=""/>
            <p:cNvGrpSpPr/>
            <p:nvPr/>
          </p:nvGrpSpPr>
          <p:grpSpPr>
            <a:xfrm>
              <a:off x="1087560" y="4330800"/>
              <a:ext cx="704520" cy="145800"/>
              <a:chOff x="1087560" y="4330800"/>
              <a:chExt cx="704520" cy="145800"/>
            </a:xfrm>
          </p:grpSpPr>
          <p:sp>
            <p:nvSpPr>
              <p:cNvPr id="1554" name=""/>
              <p:cNvSpPr/>
              <p:nvPr/>
            </p:nvSpPr>
            <p:spPr>
              <a:xfrm>
                <a:off x="1175400" y="4330800"/>
                <a:ext cx="528840" cy="1458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704240" y="440352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087560" y="440352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2984400" y="4795920"/>
              <a:ext cx="265320" cy="225360"/>
              <a:chOff x="2984400" y="4795920"/>
              <a:chExt cx="265320" cy="225360"/>
            </a:xfrm>
          </p:grpSpPr>
          <p:sp>
            <p:nvSpPr>
              <p:cNvPr id="1558" name=""/>
              <p:cNvSpPr/>
              <p:nvPr/>
            </p:nvSpPr>
            <p:spPr>
              <a:xfrm>
                <a:off x="2984400" y="4870800"/>
                <a:ext cx="2653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984400" y="4946040"/>
                <a:ext cx="2653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116880" y="4795920"/>
                <a:ext cx="0" cy="748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116880" y="4946040"/>
                <a:ext cx="0" cy="752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5240160" y="4424400"/>
              <a:ext cx="889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8756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3827520" y="4349880"/>
              <a:ext cx="704520" cy="145800"/>
              <a:chOff x="3827520" y="4349880"/>
              <a:chExt cx="704520" cy="145800"/>
            </a:xfrm>
          </p:grpSpPr>
          <p:sp>
            <p:nvSpPr>
              <p:cNvPr id="1565" name=""/>
              <p:cNvSpPr/>
              <p:nvPr/>
            </p:nvSpPr>
            <p:spPr>
              <a:xfrm>
                <a:off x="3915360" y="4349880"/>
                <a:ext cx="528840" cy="1458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444200" y="442260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827520" y="442260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311796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2752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53240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24016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08756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1796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82752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3240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4016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09720" y="5356080"/>
              <a:ext cx="352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940120" y="5356080"/>
              <a:ext cx="3556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49680" y="5356080"/>
              <a:ext cx="352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57800" y="5356080"/>
              <a:ext cx="352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062680" y="5356080"/>
              <a:ext cx="3538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0052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25144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87072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704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4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27544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227640" y="3673440"/>
            <a:ext cx="2256120" cy="1739880"/>
            <a:chOff x="6227640" y="3673440"/>
            <a:chExt cx="2256120" cy="1739880"/>
          </a:xfrm>
        </p:grpSpPr>
        <p:sp>
          <p:nvSpPr>
            <p:cNvPr id="1588" name=""/>
            <p:cNvSpPr/>
            <p:nvPr/>
          </p:nvSpPr>
          <p:spPr>
            <a:xfrm>
              <a:off x="6227640" y="3673440"/>
              <a:ext cx="2256120" cy="1739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89" name=""/>
            <p:cNvGrpSpPr/>
            <p:nvPr/>
          </p:nvGrpSpPr>
          <p:grpSpPr>
            <a:xfrm>
              <a:off x="7291440" y="4300560"/>
              <a:ext cx="671400" cy="258840"/>
              <a:chOff x="7291440" y="4300560"/>
              <a:chExt cx="671400" cy="258840"/>
            </a:xfrm>
          </p:grpSpPr>
          <p:sp>
            <p:nvSpPr>
              <p:cNvPr id="1590" name=""/>
              <p:cNvSpPr/>
              <p:nvPr/>
            </p:nvSpPr>
            <p:spPr>
              <a:xfrm>
                <a:off x="737532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50132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62732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75296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7291440" y="4411440"/>
                <a:ext cx="671400" cy="0"/>
                <a:chOff x="7291440" y="4411440"/>
                <a:chExt cx="671400" cy="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7291440" y="4411440"/>
                  <a:ext cx="8388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878960" y="4411440"/>
                  <a:ext cx="8388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7" name=""/>
            <p:cNvGrpSpPr/>
            <p:nvPr/>
          </p:nvGrpSpPr>
          <p:grpSpPr>
            <a:xfrm>
              <a:off x="6618240" y="4300560"/>
              <a:ext cx="672840" cy="146160"/>
              <a:chOff x="6618240" y="4300560"/>
              <a:chExt cx="672840" cy="146160"/>
            </a:xfrm>
          </p:grpSpPr>
          <p:sp>
            <p:nvSpPr>
              <p:cNvPr id="1598" name=""/>
              <p:cNvSpPr/>
              <p:nvPr/>
            </p:nvSpPr>
            <p:spPr>
              <a:xfrm>
                <a:off x="6702120" y="4300560"/>
                <a:ext cx="505080" cy="1461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207200" y="4373640"/>
                <a:ext cx="838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618240" y="4373640"/>
                <a:ext cx="838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7165800" y="4764240"/>
              <a:ext cx="252720" cy="222120"/>
              <a:chOff x="7165800" y="4764240"/>
              <a:chExt cx="252720" cy="222120"/>
            </a:xfrm>
          </p:grpSpPr>
          <p:sp>
            <p:nvSpPr>
              <p:cNvPr id="1602" name=""/>
              <p:cNvSpPr/>
              <p:nvPr/>
            </p:nvSpPr>
            <p:spPr>
              <a:xfrm>
                <a:off x="7165800" y="4838040"/>
                <a:ext cx="252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165800" y="4912200"/>
                <a:ext cx="252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292160" y="4764240"/>
                <a:ext cx="0" cy="738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292160" y="4912200"/>
                <a:ext cx="0" cy="741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291440" y="4394160"/>
              <a:ext cx="0" cy="3700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91440" y="4950000"/>
              <a:ext cx="0" cy="3697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22960" y="5319720"/>
              <a:ext cx="3351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361280" y="4761000"/>
              <a:ext cx="8406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pk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07280" y="3749760"/>
              <a:ext cx="8406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pk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52560" y="3746520"/>
              <a:ext cx="823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pk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3695760" y="4795920"/>
            <a:ext cx="264960" cy="225360"/>
            <a:chOff x="3695760" y="4795920"/>
            <a:chExt cx="264960" cy="225360"/>
          </a:xfrm>
        </p:grpSpPr>
        <p:sp>
          <p:nvSpPr>
            <p:cNvPr id="1613" name=""/>
            <p:cNvSpPr/>
            <p:nvPr/>
          </p:nvSpPr>
          <p:spPr>
            <a:xfrm>
              <a:off x="3695760" y="487080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695760" y="494604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828240" y="4795920"/>
              <a:ext cx="0" cy="748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8240" y="494604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4398840" y="4795920"/>
            <a:ext cx="265320" cy="225360"/>
            <a:chOff x="4398840" y="4795920"/>
            <a:chExt cx="265320" cy="225360"/>
          </a:xfrm>
        </p:grpSpPr>
        <p:sp>
          <p:nvSpPr>
            <p:cNvPr id="1618" name=""/>
            <p:cNvSpPr/>
            <p:nvPr/>
          </p:nvSpPr>
          <p:spPr>
            <a:xfrm>
              <a:off x="4398840" y="4870800"/>
              <a:ext cx="2653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98840" y="4946040"/>
              <a:ext cx="2653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531320" y="4795920"/>
              <a:ext cx="0" cy="748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531320" y="494604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5118120" y="4782960"/>
            <a:ext cx="264960" cy="225720"/>
            <a:chOff x="5118120" y="4782960"/>
            <a:chExt cx="264960" cy="225720"/>
          </a:xfrm>
        </p:grpSpPr>
        <p:sp>
          <p:nvSpPr>
            <p:cNvPr id="1623" name=""/>
            <p:cNvSpPr/>
            <p:nvPr/>
          </p:nvSpPr>
          <p:spPr>
            <a:xfrm>
              <a:off x="5118120" y="485820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118120" y="493344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250600" y="478296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250600" y="493344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6413400" y="3755880"/>
            <a:ext cx="1968480" cy="1670040"/>
            <a:chOff x="6413400" y="3755880"/>
            <a:chExt cx="1968480" cy="1670040"/>
          </a:xfrm>
        </p:grpSpPr>
        <p:sp>
          <p:nvSpPr>
            <p:cNvPr id="1628" name=""/>
            <p:cNvSpPr/>
            <p:nvPr/>
          </p:nvSpPr>
          <p:spPr>
            <a:xfrm>
              <a:off x="6413400" y="3755880"/>
              <a:ext cx="1968480" cy="16700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6413400" y="3755880"/>
              <a:ext cx="1968480" cy="16700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4559400" y="4361040"/>
            <a:ext cx="698400" cy="147600"/>
            <a:chOff x="4559400" y="4361040"/>
            <a:chExt cx="698400" cy="147600"/>
          </a:xfrm>
        </p:grpSpPr>
        <p:sp>
          <p:nvSpPr>
            <p:cNvPr id="1631" name=""/>
            <p:cNvSpPr/>
            <p:nvPr/>
          </p:nvSpPr>
          <p:spPr>
            <a:xfrm rot="5400000">
              <a:off x="4834440" y="4178880"/>
              <a:ext cx="147600" cy="5119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559400" y="4434840"/>
              <a:ext cx="928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64560" y="4434840"/>
              <a:ext cx="932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828000" y="129852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orrelation between package parameters and rise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14520" y="1860480"/>
            <a:ext cx="37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Risetime   Crit. Line leng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1 ns          4 cm   ( 1.57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250 ps      1 cm   ( 0.39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95840" y="188604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rit. Line delay = Tr / 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rop. Delay  5ns/m ( 1.52 ns/feet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B9EAF-25D3-4A2A-AF1D-B5BC6548EE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198360" y="5394240"/>
            <a:ext cx="2565360" cy="917640"/>
            <a:chOff x="198360" y="5394240"/>
            <a:chExt cx="2565360" cy="917640"/>
          </a:xfrm>
        </p:grpSpPr>
        <p:sp>
          <p:nvSpPr>
            <p:cNvPr id="1639" name=""/>
            <p:cNvSpPr/>
            <p:nvPr/>
          </p:nvSpPr>
          <p:spPr>
            <a:xfrm>
              <a:off x="198360" y="5394240"/>
              <a:ext cx="25653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9360" y="6216480"/>
              <a:ext cx="189000" cy="95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70680" y="557208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2475000" y="4938840"/>
            <a:ext cx="2637720" cy="939600"/>
            <a:chOff x="2475000" y="4938840"/>
            <a:chExt cx="2637720" cy="939600"/>
          </a:xfrm>
        </p:grpSpPr>
        <p:sp>
          <p:nvSpPr>
            <p:cNvPr id="1643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44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645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47" name=""/>
            <p:cNvSpPr/>
            <p:nvPr/>
          </p:nvSpPr>
          <p:spPr>
            <a:xfrm>
              <a:off x="2760120" y="493884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649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50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1651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54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1656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57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1658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62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1664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1667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69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1670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2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1673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1674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76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16E89-89DF-46D2-BDA4-20C34565D7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210960" y="2259000"/>
            <a:ext cx="8535960" cy="2654280"/>
            <a:chOff x="210960" y="2259000"/>
            <a:chExt cx="8535960" cy="2654280"/>
          </a:xfrm>
        </p:grpSpPr>
        <p:sp>
          <p:nvSpPr>
            <p:cNvPr id="1679" name=""/>
            <p:cNvSpPr/>
            <p:nvPr/>
          </p:nvSpPr>
          <p:spPr>
            <a:xfrm>
              <a:off x="862200" y="2259000"/>
              <a:ext cx="7884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many missing parameters can be taken out of the datashee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IBIS-X and/or IBIS-4 could help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clarify the conditions how to create a model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IBIS models work well up to 1GH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10960" y="233208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10960" y="449424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10960" y="378288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10960" y="304632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92114-E8C0-4A68-879C-0C2EB8EAB4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533520" y="2717640"/>
            <a:ext cx="3733560" cy="24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5" name="tikal2" descr=""/>
          <p:cNvPicPr/>
          <p:nvPr/>
        </p:nvPicPr>
        <p:blipFill>
          <a:blip r:embed="rId1"/>
          <a:stretch/>
        </p:blipFill>
        <p:spPr>
          <a:xfrm>
            <a:off x="4656240" y="2738520"/>
            <a:ext cx="3852720" cy="2454120"/>
          </a:xfrm>
          <a:prstGeom prst="rect">
            <a:avLst/>
          </a:prstGeom>
          <a:ln w="0">
            <a:noFill/>
          </a:ln>
        </p:spPr>
      </p:pic>
      <p:pic>
        <p:nvPicPr>
          <p:cNvPr id="1686" name="tikal6244" descr=""/>
          <p:cNvPicPr/>
          <p:nvPr/>
        </p:nvPicPr>
        <p:blipFill>
          <a:blip r:embed="rId2"/>
          <a:stretch/>
        </p:blipFill>
        <p:spPr>
          <a:xfrm>
            <a:off x="546120" y="2724120"/>
            <a:ext cx="3718080" cy="2481120"/>
          </a:xfrm>
          <a:prstGeom prst="rect">
            <a:avLst/>
          </a:prstGeom>
          <a:ln w="0">
            <a:noFill/>
          </a:ln>
        </p:spPr>
      </p:pic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It‘s getting clear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7C113-FFF5-4A4C-9A80-3258D73F11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676520"/>
            <a:ext cx="5721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Times New Roman"/>
              </a:rPr>
              <a:t>ICN WN OP TDC TC 3     Modeling grou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3720" y="2209680"/>
            <a:ext cx="383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Behavioral models since 199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40" y="5105520"/>
            <a:ext cx="5833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Library with more than 1500 models ( of IOs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8040" y="5638680"/>
            <a:ext cx="784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s for new technologies        ( LVDS , CAN , PCML , ...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8400" y="2743200"/>
            <a:ext cx="321084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-sour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measurements       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HSPICE              4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IBIS                     5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Databook              9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0C1DE-B9A3-424F-B10D-8387A7DF24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sheet defini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475000" y="4913280"/>
            <a:ext cx="2599560" cy="965160"/>
            <a:chOff x="2475000" y="4913280"/>
            <a:chExt cx="2599560" cy="965160"/>
          </a:xfrm>
        </p:grpSpPr>
        <p:sp>
          <p:nvSpPr>
            <p:cNvPr id="193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95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721960" y="491328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99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201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206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208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214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97480" y="1130400"/>
            <a:ext cx="2567160" cy="757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73680" y="13190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112160" y="1951200"/>
            <a:ext cx="938160" cy="237600"/>
            <a:chOff x="7112160" y="1951200"/>
            <a:chExt cx="938160" cy="237600"/>
          </a:xfrm>
        </p:grpSpPr>
        <p:sp>
          <p:nvSpPr>
            <p:cNvPr id="219" name=""/>
            <p:cNvSpPr/>
            <p:nvPr/>
          </p:nvSpPr>
          <p:spPr>
            <a:xfrm>
              <a:off x="7518600" y="2093760"/>
              <a:ext cx="187560" cy="95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12160" y="1951200"/>
              <a:ext cx="938160" cy="94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222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223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D8D9E-3FBD-4AC3-80B7-B83F0C5733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8480" y="5576760"/>
            <a:ext cx="5553000" cy="90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ver-undershoot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891680" y="1311120"/>
            <a:ext cx="3837240" cy="1819800"/>
            <a:chOff x="4891680" y="1311120"/>
            <a:chExt cx="3837240" cy="1819800"/>
          </a:xfrm>
        </p:grpSpPr>
        <p:grpSp>
          <p:nvGrpSpPr>
            <p:cNvPr id="229" name=""/>
            <p:cNvGrpSpPr/>
            <p:nvPr/>
          </p:nvGrpSpPr>
          <p:grpSpPr>
            <a:xfrm>
              <a:off x="4891680" y="1311120"/>
              <a:ext cx="3837240" cy="1819800"/>
              <a:chOff x="4891680" y="1311120"/>
              <a:chExt cx="3837240" cy="1819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721560" y="2160720"/>
                <a:ext cx="1447200" cy="509400"/>
                <a:chOff x="6721560" y="2160720"/>
                <a:chExt cx="1447200" cy="50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721560" y="2160720"/>
                  <a:ext cx="30456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026120" y="2670120"/>
                  <a:ext cx="83772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026120" y="2160720"/>
                  <a:ext cx="0" cy="5094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864200" y="2160720"/>
                  <a:ext cx="0" cy="5094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864200" y="2160720"/>
                  <a:ext cx="30456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6188040" y="216072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40320" y="2670120"/>
                <a:ext cx="7621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92400" y="2041560"/>
                <a:ext cx="7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-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91680" y="2494080"/>
                <a:ext cx="125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 –1.2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26120" y="1765440"/>
                <a:ext cx="0" cy="1188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64560" y="1765440"/>
                <a:ext cx="0" cy="1188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26120" y="306720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28360" y="27320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5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26120" y="2160720"/>
                <a:ext cx="838440" cy="509400"/>
              </a:xfrm>
              <a:prstGeom prst="rect">
                <a:avLst/>
              </a:prstGeom>
              <a:noFill/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07160" y="2049480"/>
                <a:ext cx="23619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3480" y="181620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83120" y="2049480"/>
                <a:ext cx="25146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35760" y="1368360"/>
                <a:ext cx="0" cy="9064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73640" y="13111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16480" y="216216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337800" y="1324080"/>
              <a:ext cx="126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66ff"/>
                  </a:solidFill>
                  <a:latin typeface="Times New Roman"/>
                </a:rPr>
                <a:t>Vendor 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62160" y="3394080"/>
            <a:ext cx="4107960" cy="2089080"/>
            <a:chOff x="4862160" y="3394080"/>
            <a:chExt cx="4107960" cy="2089080"/>
          </a:xfrm>
        </p:grpSpPr>
        <p:grpSp>
          <p:nvGrpSpPr>
            <p:cNvPr id="253" name=""/>
            <p:cNvGrpSpPr/>
            <p:nvPr/>
          </p:nvGrpSpPr>
          <p:grpSpPr>
            <a:xfrm>
              <a:off x="4862160" y="3394080"/>
              <a:ext cx="4107960" cy="2089080"/>
              <a:chOff x="4862160" y="3394080"/>
              <a:chExt cx="4107960" cy="2089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667120" y="4268520"/>
                <a:ext cx="3124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81520" y="4865040"/>
                <a:ext cx="7621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4880" y="412344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62160" y="474552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D-over-low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48360" y="4005000"/>
                <a:ext cx="14400" cy="10868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59640" y="3993120"/>
                <a:ext cx="12600" cy="1098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62760" y="497844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79360" y="508428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D-over-time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591160" y="3676680"/>
                <a:ext cx="3123720" cy="1188360"/>
                <a:chOff x="5591160" y="3676680"/>
                <a:chExt cx="3123720" cy="11883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591160" y="3676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048360" y="3676680"/>
                  <a:ext cx="1218960" cy="11883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7266960" y="4016520"/>
                  <a:ext cx="838440" cy="8481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05760" y="4016520"/>
                  <a:ext cx="457200" cy="4521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8562600" y="4299480"/>
                  <a:ext cx="152280" cy="169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6581520" y="4582440"/>
                <a:ext cx="12956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87360" y="4461120"/>
                <a:ext cx="132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S-over-low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962760" y="4582440"/>
                <a:ext cx="609480" cy="28224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92760" y="4268520"/>
                <a:ext cx="3124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72040" y="3507120"/>
                <a:ext cx="0" cy="9057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09920" y="339408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257680" y="446904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405480" y="33940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IBIS-spe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1440" y="3394080"/>
            <a:ext cx="4192560" cy="2019600"/>
            <a:chOff x="-1440" y="3394080"/>
            <a:chExt cx="4192560" cy="2019600"/>
          </a:xfrm>
        </p:grpSpPr>
        <p:sp>
          <p:nvSpPr>
            <p:cNvPr id="277" name=""/>
            <p:cNvSpPr/>
            <p:nvPr/>
          </p:nvSpPr>
          <p:spPr>
            <a:xfrm>
              <a:off x="762120" y="4268880"/>
              <a:ext cx="3200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3880" y="4867200"/>
              <a:ext cx="1067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618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inH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40" y="41227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1440" y="4748040"/>
              <a:ext cx="12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ss - 1.0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09680" y="4054320"/>
              <a:ext cx="14400" cy="1038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819160" y="4044960"/>
              <a:ext cx="12600" cy="1047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09680" y="4979880"/>
              <a:ext cx="609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3640" y="5014800"/>
              <a:ext cx="17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20% tcyc(min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914400" y="3675240"/>
              <a:ext cx="3048120" cy="1191960"/>
              <a:chOff x="914400" y="3675240"/>
              <a:chExt cx="3048120" cy="1191960"/>
            </a:xfrm>
          </p:grpSpPr>
          <p:sp>
            <p:nvSpPr>
              <p:cNvPr id="287" name=""/>
              <p:cNvSpPr/>
              <p:nvPr/>
            </p:nvSpPr>
            <p:spPr>
              <a:xfrm>
                <a:off x="914400" y="3675240"/>
                <a:ext cx="38088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95280" y="3675240"/>
                <a:ext cx="1219320" cy="11919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514600" y="4015800"/>
                <a:ext cx="838080" cy="851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2680" y="4015800"/>
                <a:ext cx="457200" cy="4539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809880" y="4299120"/>
                <a:ext cx="152640" cy="1706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523880" y="458316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6880" y="4462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9680" y="4583160"/>
              <a:ext cx="609840" cy="284040"/>
            </a:xfrm>
            <a:prstGeom prst="rect">
              <a:avLst/>
            </a:prstGeom>
            <a:noFill/>
            <a:ln cap="rnd" w="5724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6680" y="4287960"/>
              <a:ext cx="31244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19320" y="3506760"/>
              <a:ext cx="0" cy="9064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200" y="339408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U [V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52320" y="44704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 [ns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61200" y="3394080"/>
              <a:ext cx="127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9966"/>
                  </a:solidFill>
                  <a:latin typeface="Times New Roman"/>
                </a:rPr>
                <a:t>Vendor 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98360" y="1303200"/>
            <a:ext cx="4494960" cy="1878120"/>
            <a:chOff x="198360" y="1303200"/>
            <a:chExt cx="4494960" cy="1878120"/>
          </a:xfrm>
        </p:grpSpPr>
        <p:grpSp>
          <p:nvGrpSpPr>
            <p:cNvPr id="301" name=""/>
            <p:cNvGrpSpPr/>
            <p:nvPr/>
          </p:nvGrpSpPr>
          <p:grpSpPr>
            <a:xfrm>
              <a:off x="198360" y="1312920"/>
              <a:ext cx="4494960" cy="1868400"/>
              <a:chOff x="198360" y="1312920"/>
              <a:chExt cx="4494960" cy="18684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085760" y="1879560"/>
                <a:ext cx="3276720" cy="792360"/>
                <a:chOff x="1085760" y="1879560"/>
                <a:chExt cx="3276720" cy="7923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085760" y="1879560"/>
                  <a:ext cx="38088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305080" y="2671920"/>
                  <a:ext cx="83808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466640" y="1879560"/>
                  <a:ext cx="838440" cy="7923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3143160" y="1879560"/>
                  <a:ext cx="838080" cy="7923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981240" y="1879560"/>
                  <a:ext cx="38124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085760" y="2162160"/>
                <a:ext cx="2895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85760" y="2671920"/>
                <a:ext cx="14479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360" y="1652760"/>
                <a:ext cx="78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0.8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360" y="2098800"/>
                <a:ext cx="7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-0.5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8360" y="2552760"/>
                <a:ext cx="7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-2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6664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0508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4316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8124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66640" y="318132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05080" y="306864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43160" y="318132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381040" y="277668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0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42960" y="277668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0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19480" y="277668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0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05080" y="2162160"/>
                <a:ext cx="838080" cy="509760"/>
              </a:xfrm>
              <a:prstGeom prst="rect">
                <a:avLst/>
              </a:prstGeom>
              <a:noFill/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33480" y="2049480"/>
                <a:ext cx="35812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9080" y="187308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62080" y="2049480"/>
                <a:ext cx="3124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14360" y="1368360"/>
                <a:ext cx="0" cy="9082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2240" y="13129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80880" y="210348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861200" y="1303200"/>
              <a:ext cx="127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ff"/>
                  </a:solidFill>
                  <a:latin typeface="Times New Roman"/>
                </a:rPr>
                <a:t>Vendor 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070000" y="5654520"/>
            <a:ext cx="43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dc. cond. for static-over an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ax. rat. for dynamic-over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440" y="582948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48D65-CBE5-4D4A-825D-E362F51EBF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52480" y="5884920"/>
            <a:ext cx="67374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chmitt-Trigg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74560" y="1284120"/>
            <a:ext cx="8386560" cy="4583160"/>
            <a:chOff x="574560" y="1284120"/>
            <a:chExt cx="8386560" cy="4583160"/>
          </a:xfrm>
        </p:grpSpPr>
        <p:grpSp>
          <p:nvGrpSpPr>
            <p:cNvPr id="336" name=""/>
            <p:cNvGrpSpPr/>
            <p:nvPr/>
          </p:nvGrpSpPr>
          <p:grpSpPr>
            <a:xfrm>
              <a:off x="4452840" y="1287360"/>
              <a:ext cx="4508280" cy="2476080"/>
              <a:chOff x="4452840" y="1287360"/>
              <a:chExt cx="4508280" cy="24760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533840" y="1287360"/>
                <a:ext cx="4110120" cy="2462400"/>
                <a:chOff x="4533840" y="1287360"/>
                <a:chExt cx="4110120" cy="246240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4533840" y="3736800"/>
                  <a:ext cx="3322800" cy="129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348160" y="1287360"/>
                  <a:ext cx="329580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5880240" y="1287360"/>
                  <a:ext cx="380880" cy="2449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6945480" y="1287360"/>
                  <a:ext cx="379080" cy="2449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7856640" y="1287360"/>
                  <a:ext cx="380880" cy="2449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4968720" y="1287360"/>
                  <a:ext cx="379440" cy="2449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5848920" y="325440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inH-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931520" y="3303720"/>
                <a:ext cx="10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inH+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52840" y="1297080"/>
                <a:ext cx="92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inL-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68400" y="1309680"/>
                <a:ext cx="99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inL+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838080" y="1284120"/>
              <a:ext cx="3352320" cy="3018960"/>
              <a:chOff x="838080" y="1284120"/>
              <a:chExt cx="3352320" cy="301896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1447560" y="1284120"/>
                <a:ext cx="381240" cy="244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895480" y="1284120"/>
                <a:ext cx="380880" cy="244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1523880" y="1284120"/>
                <a:ext cx="23623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08480" y="3843360"/>
                <a:ext cx="168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 hysteresi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425680" y="1284120"/>
                <a:ext cx="380880" cy="2448000"/>
              </a:xfrm>
              <a:prstGeom prst="line">
                <a:avLst/>
              </a:prstGeom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3200400" y="1284120"/>
                <a:ext cx="380880" cy="244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143000" y="1284120"/>
                <a:ext cx="380880" cy="244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828800" y="1284120"/>
                <a:ext cx="380880" cy="2448000"/>
              </a:xfrm>
              <a:prstGeom prst="line">
                <a:avLst/>
              </a:prstGeom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838080" y="3732120"/>
                <a:ext cx="23623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74560" y="4303800"/>
              <a:ext cx="8000280" cy="1563480"/>
              <a:chOff x="574560" y="4303800"/>
              <a:chExt cx="8000280" cy="15634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584640" y="4306320"/>
                <a:ext cx="7978680" cy="1557000"/>
                <a:chOff x="584640" y="4306320"/>
                <a:chExt cx="7978680" cy="155700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584640" y="4306320"/>
                  <a:ext cx="3869280" cy="389160"/>
                  <a:chOff x="584640" y="4306320"/>
                  <a:chExt cx="3869280" cy="38916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680760" y="4306320"/>
                    <a:ext cx="36763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84640" y="4306320"/>
                    <a:ext cx="386928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4454640" y="4306320"/>
                  <a:ext cx="1369440" cy="389160"/>
                  <a:chOff x="4454640" y="4306320"/>
                  <a:chExt cx="1369440" cy="3891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4551840" y="4306320"/>
                    <a:ext cx="117504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Min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454640" y="4306320"/>
                    <a:ext cx="136944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5825160" y="4306320"/>
                  <a:ext cx="1368720" cy="389160"/>
                  <a:chOff x="5825160" y="4306320"/>
                  <a:chExt cx="1368720" cy="3891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5921280" y="430632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825160" y="430632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194600" y="4306320"/>
                  <a:ext cx="1368720" cy="389160"/>
                  <a:chOff x="7194600" y="4306320"/>
                  <a:chExt cx="1368720" cy="38916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7290720" y="430632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Max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194600" y="430632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584640" y="4695480"/>
                  <a:ext cx="3869280" cy="389160"/>
                  <a:chOff x="584640" y="4695480"/>
                  <a:chExt cx="3869280" cy="3891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680760" y="4695480"/>
                    <a:ext cx="36763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Negative trigger voltage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84640" y="4695480"/>
                    <a:ext cx="386928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4454640" y="4695480"/>
                  <a:ext cx="1369440" cy="389160"/>
                  <a:chOff x="4454640" y="4695480"/>
                  <a:chExt cx="1369440" cy="38916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4551840" y="4695480"/>
                    <a:ext cx="117504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0.8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454640" y="4695480"/>
                    <a:ext cx="136944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5825160" y="4695480"/>
                  <a:ext cx="1368720" cy="389160"/>
                  <a:chOff x="5825160" y="4695480"/>
                  <a:chExt cx="1368720" cy="3891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5921280" y="469548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25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825160" y="469548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194600" y="4695480"/>
                  <a:ext cx="1368720" cy="389160"/>
                  <a:chOff x="7194600" y="4695480"/>
                  <a:chExt cx="1368720" cy="3891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7290720" y="469548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7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194600" y="469548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584640" y="5085000"/>
                  <a:ext cx="3869280" cy="389160"/>
                  <a:chOff x="584640" y="5085000"/>
                  <a:chExt cx="3869280" cy="3891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680760" y="5085000"/>
                    <a:ext cx="36763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Positiv trigger voltage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84640" y="5085000"/>
                    <a:ext cx="386928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4454640" y="5085000"/>
                  <a:ext cx="1369440" cy="389160"/>
                  <a:chOff x="4454640" y="5085000"/>
                  <a:chExt cx="1369440" cy="3891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4551840" y="5085000"/>
                    <a:ext cx="117504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3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454640" y="5085000"/>
                    <a:ext cx="136944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5825160" y="5085000"/>
                  <a:ext cx="1368720" cy="389160"/>
                  <a:chOff x="5825160" y="5085000"/>
                  <a:chExt cx="1368720" cy="3891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5921280" y="508500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85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5825160" y="508500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194600" y="5085000"/>
                  <a:ext cx="1368720" cy="389160"/>
                  <a:chOff x="7194600" y="5085000"/>
                  <a:chExt cx="1368720" cy="3891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7290720" y="508500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4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194600" y="508500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584640" y="5474160"/>
                  <a:ext cx="3869280" cy="389160"/>
                  <a:chOff x="584640" y="5474160"/>
                  <a:chExt cx="3869280" cy="38916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680760" y="5474160"/>
                    <a:ext cx="36763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ysteresis voltage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584640" y="5474160"/>
                    <a:ext cx="386928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4454640" y="5474160"/>
                  <a:ext cx="1369440" cy="389160"/>
                  <a:chOff x="4454640" y="5474160"/>
                  <a:chExt cx="1369440" cy="38916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4551840" y="5474160"/>
                    <a:ext cx="117504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0.2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454640" y="5474160"/>
                    <a:ext cx="136944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5825160" y="5474160"/>
                  <a:ext cx="1368720" cy="389160"/>
                  <a:chOff x="5825160" y="5474160"/>
                  <a:chExt cx="1368720" cy="38916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5921280" y="547416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0.6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5825160" y="547416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7194600" y="5474160"/>
                  <a:ext cx="1368720" cy="389160"/>
                  <a:chOff x="7194600" y="5474160"/>
                  <a:chExt cx="1368720" cy="3891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7290720" y="5474160"/>
                    <a:ext cx="1176120" cy="38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1.0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194600" y="5474160"/>
                    <a:ext cx="1368720" cy="38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8" name=""/>
              <p:cNvSpPr/>
              <p:nvPr/>
            </p:nvSpPr>
            <p:spPr>
              <a:xfrm>
                <a:off x="574560" y="4303800"/>
                <a:ext cx="8000280" cy="15634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1928520" y="5991120"/>
            <a:ext cx="65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 values of trigger voltages, don‘t use hysteresis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360" y="616752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684600" y="969840"/>
            <a:ext cx="4073040" cy="3315600"/>
            <a:chOff x="3684600" y="969840"/>
            <a:chExt cx="4073040" cy="3315600"/>
          </a:xfrm>
        </p:grpSpPr>
        <p:sp>
          <p:nvSpPr>
            <p:cNvPr id="412" name=""/>
            <p:cNvSpPr/>
            <p:nvPr/>
          </p:nvSpPr>
          <p:spPr>
            <a:xfrm>
              <a:off x="4351320" y="3909960"/>
              <a:ext cx="3406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457520" y="994680"/>
              <a:ext cx="0" cy="3008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64200" y="3825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84600" y="969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800" y="968400"/>
            <a:ext cx="4073400" cy="3033720"/>
            <a:chOff x="1800" y="968400"/>
            <a:chExt cx="4073400" cy="3033720"/>
          </a:xfrm>
        </p:grpSpPr>
        <p:sp>
          <p:nvSpPr>
            <p:cNvPr id="417" name=""/>
            <p:cNvSpPr/>
            <p:nvPr/>
          </p:nvSpPr>
          <p:spPr>
            <a:xfrm>
              <a:off x="668520" y="3908520"/>
              <a:ext cx="34066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74720" y="993960"/>
              <a:ext cx="0" cy="3008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00" y="968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64EC3-02D5-4E6D-972A-143EDD13C0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sal and ques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475000" y="4946760"/>
            <a:ext cx="2637720" cy="931680"/>
            <a:chOff x="2475000" y="4946760"/>
            <a:chExt cx="2637720" cy="931680"/>
          </a:xfrm>
        </p:grpSpPr>
        <p:sp>
          <p:nvSpPr>
            <p:cNvPr id="425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427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2760120" y="496404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431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433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438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440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446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449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452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455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456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F5B9F-CCAD-4173-B0B4-52F9DED555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model selector   -1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-1080" y="1143000"/>
            <a:ext cx="9145080" cy="5086440"/>
            <a:chOff x="-1080" y="1143000"/>
            <a:chExt cx="9145080" cy="5086440"/>
          </a:xfrm>
        </p:grpSpPr>
        <p:grpSp>
          <p:nvGrpSpPr>
            <p:cNvPr id="461" name=""/>
            <p:cNvGrpSpPr/>
            <p:nvPr/>
          </p:nvGrpSpPr>
          <p:grpSpPr>
            <a:xfrm>
              <a:off x="304920" y="3873240"/>
              <a:ext cx="8839080" cy="1618560"/>
              <a:chOff x="304920" y="3873240"/>
              <a:chExt cx="8839080" cy="1618560"/>
            </a:xfrm>
          </p:grpSpPr>
          <p:sp>
            <p:nvSpPr>
              <p:cNvPr id="462" name=""/>
              <p:cNvSpPr/>
              <p:nvPr/>
            </p:nvSpPr>
            <p:spPr>
              <a:xfrm>
                <a:off x="304920" y="3873240"/>
                <a:ext cx="441972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1     Control     ALVC_REC-XXX-1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2     </a:t>
                </a:r>
                <a:r>
                  <a:rPr b="0" lang="en-GB" sz="2000" spc="-1" strike="noStrike">
                    <a:solidFill>
                      <a:srgbClr val="ff9966"/>
                    </a:solidFill>
                    <a:latin typeface="Times New Roman"/>
                    <a:ea typeface="Courier New"/>
                  </a:rPr>
                  <a:t>Eclpos      PECL_REC-XXX-2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3     </a:t>
                </a:r>
                <a:r>
                  <a:rPr b="0" lang="en-GB" sz="2000" spc="-1" strike="noStrike">
                    <a:solidFill>
                      <a:srgbClr val="ff9966"/>
                    </a:solidFill>
                    <a:latin typeface="Times New Roman"/>
                    <a:ea typeface="Courier New"/>
                  </a:rPr>
                  <a:t>Eclneg      PECL_REC-XXX-3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4     1A1          ALVC_IO-XXX-1_BI 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…</a:t>
                </a: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..</a:t>
                </a:r>
                <a:r>
                  <a:rPr b="0" lang="it-IT" sz="1000" spc="-1" strike="noStrike">
                    <a:solidFill>
                      <a:srgbClr val="003366"/>
                    </a:solidFill>
                    <a:latin typeface="Courier New"/>
                    <a:ea typeface="Courier New"/>
                  </a:rPr>
                  <a:t>                  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24640" y="3873240"/>
                <a:ext cx="4419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1     Control    ALVC_REC-XXX-1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2     </a:t>
                </a:r>
                <a:r>
                  <a:rPr b="0" lang="it-IT" sz="2000" spc="-1" strike="noStrike">
                    <a:solidFill>
                      <a:srgbClr val="a50021"/>
                    </a:solidFill>
                    <a:latin typeface="Times New Roman"/>
                    <a:ea typeface="Courier New"/>
                  </a:rPr>
                  <a:t>ttl-in        TTL_REC-XXX-4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3     </a:t>
                </a:r>
                <a:r>
                  <a:rPr b="0" lang="it-IT" sz="2000" spc="-1" strike="noStrike">
                    <a:solidFill>
                      <a:srgbClr val="a50021"/>
                    </a:solidFill>
                    <a:latin typeface="Times New Roman"/>
                    <a:ea typeface="Courier New"/>
                  </a:rPr>
                  <a:t>Nc           N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4     1A1         ALVC_IO-XXX-1_BI 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…</a:t>
                </a: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..                   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609480" y="1430280"/>
              <a:ext cx="7773120" cy="1805400"/>
              <a:chOff x="609480" y="1430280"/>
              <a:chExt cx="7773120" cy="18054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609480" y="1430280"/>
                <a:ext cx="3658320" cy="1805400"/>
                <a:chOff x="609480" y="1430280"/>
                <a:chExt cx="3658320" cy="18054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421360" y="1430280"/>
                  <a:ext cx="184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control-ecl/ttl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25680" y="2184480"/>
                  <a:ext cx="1113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ff9966"/>
                      </a:solidFill>
                      <a:latin typeface="Times New Roman"/>
                    </a:rPr>
                    <a:t>Ecl-po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09480" y="2775960"/>
                  <a:ext cx="1130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ff9966"/>
                      </a:solidFill>
                      <a:latin typeface="Times New Roman"/>
                    </a:rPr>
                    <a:t>Ecl-neg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1968120" y="1807200"/>
                  <a:ext cx="2145960" cy="1346400"/>
                  <a:chOff x="1968120" y="1807200"/>
                  <a:chExt cx="2145960" cy="13464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2501640" y="2076480"/>
                    <a:ext cx="1066680" cy="1077120"/>
                  </a:xfrm>
                  <a:prstGeom prst="rect">
                    <a:avLst/>
                  </a:pr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1968120" y="234576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1968120" y="288468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035160" y="1807200"/>
                    <a:ext cx="0" cy="269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3580920" y="261504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5" name=""/>
              <p:cNvGrpSpPr/>
              <p:nvPr/>
            </p:nvGrpSpPr>
            <p:grpSpPr>
              <a:xfrm>
                <a:off x="4725000" y="1430280"/>
                <a:ext cx="3657600" cy="1805400"/>
                <a:chOff x="4725000" y="1430280"/>
                <a:chExt cx="3657600" cy="18054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536160" y="1430280"/>
                  <a:ext cx="184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control-ecl/ttl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473440" y="2184480"/>
                  <a:ext cx="43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a50021"/>
                      </a:solidFill>
                      <a:latin typeface="Times New Roman"/>
                    </a:rPr>
                    <a:t>ttl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725000" y="2775960"/>
                  <a:ext cx="1358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a50021"/>
                      </a:solidFill>
                      <a:latin typeface="Times New Roman"/>
                    </a:rPr>
                    <a:t>n.c. (gnd)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6082920" y="1807200"/>
                  <a:ext cx="2145960" cy="1346400"/>
                  <a:chOff x="6082920" y="1807200"/>
                  <a:chExt cx="2145960" cy="13464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6616440" y="2076480"/>
                    <a:ext cx="1066680" cy="1077120"/>
                  </a:xfrm>
                  <a:prstGeom prst="rect">
                    <a:avLst/>
                  </a:pr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6082920" y="234576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6082920" y="288468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49960" y="1807200"/>
                    <a:ext cx="0" cy="269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7695720" y="261504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5" name=""/>
            <p:cNvSpPr/>
            <p:nvPr/>
          </p:nvSpPr>
          <p:spPr>
            <a:xfrm>
              <a:off x="-1080" y="1143000"/>
              <a:ext cx="28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chematic   </a:t>
              </a:r>
              <a:r>
                <a:rPr b="0" lang="de-DE" sz="1200" spc="-1" strike="noStrike">
                  <a:solidFill>
                    <a:srgbClr val="003366"/>
                  </a:solidFill>
                  <a:latin typeface="Times New Roman"/>
                </a:rPr>
                <a:t>Not all pins show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360" y="3441960"/>
              <a:ext cx="23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infile   </a:t>
              </a:r>
              <a:r>
                <a:rPr b="0" lang="de-DE" sz="1200" spc="-1" strike="noStrike">
                  <a:solidFill>
                    <a:srgbClr val="003366"/>
                  </a:solidFill>
                  <a:latin typeface="Times New Roman"/>
                </a:rPr>
                <a:t>Not all pins show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8600" y="5525640"/>
              <a:ext cx="891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66"/>
                  </a:solidFill>
                  <a:latin typeface="Times New Roman"/>
                  <a:ea typeface="Courier New"/>
                </a:rPr>
                <a:t>[Diff Pin]  inv_pin  vdiff    tdelay_typ tdelay_min tdelay_max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66"/>
                  </a:solidFill>
                  <a:latin typeface="Times New Roman"/>
                  <a:ea typeface="Courier New"/>
                </a:rPr>
                <a:t> </a:t>
              </a:r>
              <a:r>
                <a:rPr b="0" lang="en-GB" sz="2000" spc="-1" strike="noStrike">
                  <a:solidFill>
                    <a:srgbClr val="ff9966"/>
                  </a:solidFill>
                  <a:latin typeface="Times New Roman"/>
                  <a:ea typeface="Courier New"/>
                </a:rPr>
                <a:t>2               3           150mV    0ns         0ns             0ns       | for Ecl only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940C0-9CC1-4A29-B10E-66B6F92B09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752480" y="5796000"/>
            <a:ext cx="54882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model selector   -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1336680"/>
            <a:ext cx="441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1     Control    ALVC_REC-XXX-1_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2     pos          YYYY_REC-XXX-5_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3     neg          ZZZZ_REC-XXX-6_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4     1A1         ALVC_IO-XXX-1_BI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…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..   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334480" y="1130400"/>
            <a:ext cx="3582720" cy="1407240"/>
            <a:chOff x="5334480" y="1130400"/>
            <a:chExt cx="3582720" cy="1407240"/>
          </a:xfrm>
        </p:grpSpPr>
        <p:grpSp>
          <p:nvGrpSpPr>
            <p:cNvPr id="492" name=""/>
            <p:cNvGrpSpPr/>
            <p:nvPr/>
          </p:nvGrpSpPr>
          <p:grpSpPr>
            <a:xfrm>
              <a:off x="5334480" y="1130400"/>
              <a:ext cx="1817280" cy="1407240"/>
              <a:chOff x="5334480" y="1130400"/>
              <a:chExt cx="1817280" cy="1407240"/>
            </a:xfrm>
          </p:grpSpPr>
          <p:sp>
            <p:nvSpPr>
              <p:cNvPr id="493" name=""/>
              <p:cNvSpPr/>
              <p:nvPr/>
            </p:nvSpPr>
            <p:spPr>
              <a:xfrm>
                <a:off x="6105240" y="1130400"/>
                <a:ext cx="104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contro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40600" y="1659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Ecl-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334480" y="207792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Ecl-n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5912280" y="1395720"/>
                <a:ext cx="913320" cy="948240"/>
                <a:chOff x="5912280" y="1395720"/>
                <a:chExt cx="913320" cy="948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139080" y="1585440"/>
                  <a:ext cx="453960" cy="758520"/>
                </a:xfrm>
                <a:prstGeom prst="rect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5912280" y="177480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5912280" y="215424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366240" y="1395720"/>
                  <a:ext cx="0" cy="1897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6598800" y="196452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7376760" y="1130400"/>
              <a:ext cx="1540440" cy="1394640"/>
              <a:chOff x="7376760" y="1130400"/>
              <a:chExt cx="1540440" cy="1394640"/>
            </a:xfrm>
          </p:grpSpPr>
          <p:sp>
            <p:nvSpPr>
              <p:cNvPr id="503" name=""/>
              <p:cNvSpPr/>
              <p:nvPr/>
            </p:nvSpPr>
            <p:spPr>
              <a:xfrm>
                <a:off x="7870680" y="1130400"/>
                <a:ext cx="104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contro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18520" y="165888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tt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376760" y="206532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nc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7677000" y="1395360"/>
                <a:ext cx="912960" cy="948960"/>
                <a:chOff x="7677000" y="1395360"/>
                <a:chExt cx="912960" cy="9489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903800" y="1585080"/>
                  <a:ext cx="453600" cy="759240"/>
                </a:xfrm>
                <a:prstGeom prst="rect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7677000" y="177516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7677000" y="215496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130960" y="1395360"/>
                  <a:ext cx="0" cy="1897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8363160" y="196488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2" name=""/>
          <p:cNvGrpSpPr/>
          <p:nvPr/>
        </p:nvGrpSpPr>
        <p:grpSpPr>
          <a:xfrm>
            <a:off x="304920" y="2754360"/>
            <a:ext cx="7391160" cy="3143160"/>
            <a:chOff x="304920" y="2754360"/>
            <a:chExt cx="7391160" cy="3143160"/>
          </a:xfrm>
        </p:grpSpPr>
        <p:sp>
          <p:nvSpPr>
            <p:cNvPr id="513" name=""/>
            <p:cNvSpPr/>
            <p:nvPr/>
          </p:nvSpPr>
          <p:spPr>
            <a:xfrm>
              <a:off x="2514600" y="2754360"/>
              <a:ext cx="51814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[Model Selector]       YYYY_REC-XXX-5_IN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PECL_REC-XXX-2_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TTL_REC-XXX-4_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 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[Model Selector]       ZZZZ_REC-XXX-6_IN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PECL_REC-XXX-3_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N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[Diff Pin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2               3  …..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04920" y="3159000"/>
              <a:ext cx="1660320" cy="2451240"/>
              <a:chOff x="304920" y="3159000"/>
              <a:chExt cx="1660320" cy="245124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1386000" y="3273480"/>
                <a:ext cx="579240" cy="2336760"/>
                <a:chOff x="1386000" y="3273480"/>
                <a:chExt cx="579240" cy="233676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1386000" y="3565440"/>
                  <a:ext cx="426960" cy="1168200"/>
                  <a:chOff x="1386000" y="3565440"/>
                  <a:chExt cx="426960" cy="11682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1386000" y="3565440"/>
                    <a:ext cx="0" cy="1168200"/>
                  </a:xfrm>
                  <a:prstGeom prst="line">
                    <a:avLst/>
                  </a:prstGeom>
                  <a:ln w="5724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386000" y="3565440"/>
                    <a:ext cx="426960" cy="0"/>
                  </a:xfrm>
                  <a:prstGeom prst="line">
                    <a:avLst/>
                  </a:prstGeom>
                  <a:ln w="57240">
                    <a:solidFill>
                      <a:srgbClr val="0066ff"/>
                    </a:solidFill>
                    <a:miter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386000" y="4733640"/>
                    <a:ext cx="426960" cy="0"/>
                  </a:xfrm>
                  <a:prstGeom prst="line">
                    <a:avLst/>
                  </a:prstGeom>
                  <a:ln w="57240">
                    <a:solidFill>
                      <a:srgbClr val="0066ff"/>
                    </a:solidFill>
                    <a:miter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1538280" y="3273480"/>
                  <a:ext cx="426960" cy="2336760"/>
                  <a:chOff x="1538280" y="3273480"/>
                  <a:chExt cx="426960" cy="2336760"/>
                </a:xfrm>
              </p:grpSpPr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1538280" y="3273480"/>
                    <a:ext cx="426600" cy="1168560"/>
                    <a:chOff x="1538280" y="3273480"/>
                    <a:chExt cx="426600" cy="116856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1538280" y="3273480"/>
                      <a:ext cx="0" cy="116856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1538280" y="3273480"/>
                      <a:ext cx="426600" cy="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1538280" y="4442040"/>
                      <a:ext cx="426600" cy="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1538280" y="4442040"/>
                    <a:ext cx="426960" cy="1168200"/>
                    <a:chOff x="1538280" y="4442040"/>
                    <a:chExt cx="426960" cy="116820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1538280" y="4442040"/>
                      <a:ext cx="0" cy="116820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1538280" y="5610240"/>
                      <a:ext cx="426960" cy="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304920" y="3159000"/>
                <a:ext cx="761760" cy="1670040"/>
                <a:chOff x="304920" y="3159000"/>
                <a:chExt cx="761760" cy="167004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380880" y="3273480"/>
                  <a:ext cx="609120" cy="1463040"/>
                  <a:chOff x="380880" y="3273480"/>
                  <a:chExt cx="609120" cy="1463040"/>
                </a:xfrm>
              </p:grpSpPr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03280" y="3273480"/>
                    <a:ext cx="486720" cy="1463040"/>
                    <a:chOff x="503280" y="3273480"/>
                    <a:chExt cx="486720" cy="14630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03280" y="3273480"/>
                      <a:ext cx="0" cy="1463040"/>
                    </a:xfrm>
                    <a:prstGeom prst="line">
                      <a:avLst/>
                    </a:prstGeom>
                    <a:ln w="3816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03280" y="3273480"/>
                      <a:ext cx="486720" cy="0"/>
                    </a:xfrm>
                    <a:prstGeom prst="line">
                      <a:avLst/>
                    </a:prstGeom>
                    <a:ln w="38160">
                      <a:solidFill>
                        <a:srgbClr val="33cc3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03280" y="4736520"/>
                      <a:ext cx="486720" cy="0"/>
                    </a:xfrm>
                    <a:prstGeom prst="line">
                      <a:avLst/>
                    </a:prstGeom>
                    <a:ln w="38160">
                      <a:solidFill>
                        <a:srgbClr val="33cc3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4" name=""/>
                  <p:cNvSpPr/>
                  <p:nvPr/>
                </p:nvSpPr>
                <p:spPr>
                  <a:xfrm>
                    <a:off x="380880" y="3566160"/>
                    <a:ext cx="0" cy="878040"/>
                  </a:xfrm>
                  <a:prstGeom prst="line">
                    <a:avLst/>
                  </a:prstGeom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80880" y="3566160"/>
                    <a:ext cx="487440" cy="0"/>
                  </a:xfrm>
                  <a:prstGeom prst="line">
                    <a:avLst/>
                  </a:prstGeom>
                  <a:ln w="3816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0880" y="4444200"/>
                    <a:ext cx="487440" cy="0"/>
                  </a:xfrm>
                  <a:prstGeom prst="line">
                    <a:avLst/>
                  </a:prstGeom>
                  <a:ln w="3816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304920" y="3159000"/>
                  <a:ext cx="761760" cy="1670040"/>
                  <a:chOff x="304920" y="3159000"/>
                  <a:chExt cx="761760" cy="167004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304920" y="3159000"/>
                    <a:ext cx="761760" cy="1670040"/>
                  </a:xfrm>
                  <a:prstGeom prst="line">
                    <a:avLst/>
                  </a:prstGeom>
                  <a:ln w="5724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>
                    <a:off x="304920" y="3159000"/>
                    <a:ext cx="761760" cy="1670040"/>
                  </a:xfrm>
                  <a:prstGeom prst="line">
                    <a:avLst/>
                  </a:prstGeom>
                  <a:ln w="5724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40" name=""/>
          <p:cNvSpPr/>
          <p:nvPr/>
        </p:nvSpPr>
        <p:spPr>
          <a:xfrm>
            <a:off x="1928880" y="5867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reate two components  (pinfiles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280" y="601992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F064D-1908-4ABA-9F58-1E1DFED6BA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2:35:43Z</dcterms:created>
  <dc:creator>Eckhard Lenski</dc:creator>
  <dc:description/>
  <dc:language>en-US</dc:language>
  <cp:lastModifiedBy>le027776</cp:lastModifiedBy>
  <cp:lastPrinted>2002-06-07T13:17:10Z</cp:lastPrinted>
  <dcterms:modified xsi:type="dcterms:W3CDTF">2002-06-20T10:33:14Z</dcterms:modified>
  <cp:revision>70</cp:revision>
  <dc:subject/>
  <dc:title>ibis models today</dc:title>
</cp:coreProperties>
</file>