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52C-62F1-41DB-A8B0-81D0BD9E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C1F-CC33-4AB0-9C5E-95FE1530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3634-ABD4-4DA0-8BC5-04143FDA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20A-9C49-4E7D-B15F-BBAA4F06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5729-2988-423E-A179-C8DC70C0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DEED-52B9-48A2-B725-4F408769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DA96-1649-42B7-82E8-F2FF8757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8BA5-C485-44C7-AD7E-F1277577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D5DB-096D-4836-B963-66D008E7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F387-B89A-41DD-90FD-38D949A0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4F17-E081-48DF-9B81-36CE2676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E74-7B85-49AE-9022-91B66499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0882-2561-4CF3-B360-B216D461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9D8C-A643-44F2-B5A0-D7F00BD5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463F-C445-4479-BF20-B4674196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7EB8-9897-4A99-A5C4-9C4FAB09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D78E-1169-4667-A847-C0DA32C6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7CC-9F13-4829-8A8C-DDBF30ED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D12-5EE2-4BE3-8083-56820D5A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A998-D0ED-420E-BDCC-58EBF316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A3B-1277-4AC3-8DF9-9487CEA8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FA7A-24C4-49CA-AED2-6FF92472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3CEF-4963-42BE-BE6A-3456C06F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C61-30C2-483D-9B7E-9F717999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2264-163A-4036-9580-57C6CD662B5D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E74E-1B29-4479-B8E9-DEE230B8895C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36699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ibis-quality@freelists.org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IBIS Quality Committe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Barry Katz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Official Charter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Develop a complete checklist and establish levels of quality, as they would pertain to items on the checklist. This checklist should serve to be incorporated directly into procurement specs.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Participating Companie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Mentor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Cadence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iSof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Apple Computer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Fairchild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Cereva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Hammerhead/Cisco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IBM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Intel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iemen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AMCC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3COM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Elpida Memor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How to learn mor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Participate!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Bi-Weekly meetings on Tuesday 11:00ED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Mailing list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ibis-quality@freelists.org</a:t>
            </a: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www.sisoft.com/ibis-quality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Goal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dentify IBIS Quality criteria (checklist)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Prepare descriptive document in support of checklist item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Establish levels of quality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Present first pass checklist at PCB East IBIS Summit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olicit feedback from broader IBIS community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omplete by DesignCon 2003 IBIS Summi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Progress To Dat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nitial setup and organization of group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Defined Charter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aptured key elements of checklis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Documented details about checklist item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ubmitted IBIS Golden Parser Open Source proposa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IBIS Quality Committe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4:20:00Z</dcterms:created>
  <dc:creator>Adam Kustin</dc:creator>
  <dc:description/>
  <dc:language>en-US</dc:language>
  <cp:lastModifiedBy>Bob Ross</cp:lastModifiedBy>
  <dcterms:modified xsi:type="dcterms:W3CDTF">2002-06-16T03:50:14Z</dcterms:modified>
  <cp:revision>59</cp:revision>
  <dc:subject/>
  <dc:title>Slide 1</dc:title>
</cp:coreProperties>
</file>