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BD8E-4F5D-4E6C-BBA2-AF578058D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4996-63CE-4275-931F-963229392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F39B-88F5-4B42-8F83-4E8379EE5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B4ED-D11A-405F-99D3-F0C4B5F67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0445-FD70-46C5-91B0-6ABF20452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3DF4-4DAE-4376-9963-D31870DEA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31AB-5E88-4B10-856E-64FAF5615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C45D-A56B-4FB3-8DCD-CB75BBFB5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EF28-E0B0-4C82-9763-C9BFCA54A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7833-6E7E-4D94-8F61-1BE58F768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753C-05AB-43FA-9313-828481C48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EA5E-A4C4-4A1C-A652-804DD4949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black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440" y="65530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80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575-0A72-42D1-901A-90A4877E8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%20Page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Black"/>
              </a:rPr>
              <a:t>Pad Capacitance Extraction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SPICE Simul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240" y="1904760"/>
            <a:ext cx="360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zem Hegaz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BIS Development Enginee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ne 13, 2002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BIS Summit Meeting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w Orleans, Louisian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Voltage Dependence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1066680"/>
            <a:ext cx="3962160" cy="4953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resonace_volt_vary" descr=""/>
          <p:cNvPicPr/>
          <p:nvPr/>
        </p:nvPicPr>
        <p:blipFill>
          <a:blip r:embed="rId1"/>
          <a:stretch/>
        </p:blipFill>
        <p:spPr>
          <a:xfrm>
            <a:off x="0" y="990720"/>
            <a:ext cx="4952880" cy="5105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10360" y="4390920"/>
            <a:ext cx="3733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/Sqrt(L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com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181480" y="2104920"/>
            <a:ext cx="1057320" cy="914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2840" y="2562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3720" y="250020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86520" y="2562120"/>
            <a:ext cx="457200" cy="838440"/>
            <a:chOff x="6086520" y="2562120"/>
            <a:chExt cx="457200" cy="838440"/>
          </a:xfrm>
        </p:grpSpPr>
        <p:sp>
          <p:nvSpPr>
            <p:cNvPr id="204" name=""/>
            <p:cNvSpPr/>
            <p:nvPr/>
          </p:nvSpPr>
          <p:spPr>
            <a:xfrm>
              <a:off x="6315120" y="256212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520" y="286704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6520" y="301932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5120" y="30193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6100920" y="3399840"/>
            <a:ext cx="419040" cy="152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53120" y="2581200"/>
            <a:ext cx="543240" cy="619200"/>
          </a:xfrm>
          <a:custGeom>
            <a:avLst/>
            <a:gdLst/>
            <a:ahLst/>
            <a:rect l="l" t="t" r="r" b="b"/>
            <a:pathLst>
              <a:path w="342" h="1431">
                <a:moveTo>
                  <a:pt x="180" y="0"/>
                </a:moveTo>
                <a:cubicBezTo>
                  <a:pt x="164" y="64"/>
                  <a:pt x="134" y="165"/>
                  <a:pt x="198" y="207"/>
                </a:cubicBezTo>
                <a:cubicBezTo>
                  <a:pt x="240" y="271"/>
                  <a:pt x="291" y="323"/>
                  <a:pt x="315" y="396"/>
                </a:cubicBezTo>
                <a:cubicBezTo>
                  <a:pt x="310" y="426"/>
                  <a:pt x="307" y="481"/>
                  <a:pt x="279" y="504"/>
                </a:cubicBezTo>
                <a:cubicBezTo>
                  <a:pt x="270" y="511"/>
                  <a:pt x="209" y="522"/>
                  <a:pt x="207" y="522"/>
                </a:cubicBezTo>
                <a:cubicBezTo>
                  <a:pt x="153" y="519"/>
                  <a:pt x="98" y="523"/>
                  <a:pt x="45" y="513"/>
                </a:cubicBezTo>
                <a:cubicBezTo>
                  <a:pt x="15" y="507"/>
                  <a:pt x="0" y="432"/>
                  <a:pt x="0" y="432"/>
                </a:cubicBezTo>
                <a:cubicBezTo>
                  <a:pt x="3" y="423"/>
                  <a:pt x="2" y="412"/>
                  <a:pt x="9" y="405"/>
                </a:cubicBezTo>
                <a:cubicBezTo>
                  <a:pt x="24" y="390"/>
                  <a:pt x="63" y="369"/>
                  <a:pt x="63" y="369"/>
                </a:cubicBezTo>
                <a:cubicBezTo>
                  <a:pt x="90" y="372"/>
                  <a:pt x="118" y="371"/>
                  <a:pt x="144" y="378"/>
                </a:cubicBezTo>
                <a:cubicBezTo>
                  <a:pt x="154" y="381"/>
                  <a:pt x="161" y="391"/>
                  <a:pt x="171" y="396"/>
                </a:cubicBezTo>
                <a:cubicBezTo>
                  <a:pt x="212" y="416"/>
                  <a:pt x="186" y="391"/>
                  <a:pt x="225" y="423"/>
                </a:cubicBezTo>
                <a:cubicBezTo>
                  <a:pt x="292" y="478"/>
                  <a:pt x="326" y="575"/>
                  <a:pt x="342" y="657"/>
                </a:cubicBezTo>
                <a:cubicBezTo>
                  <a:pt x="328" y="711"/>
                  <a:pt x="337" y="681"/>
                  <a:pt x="315" y="747"/>
                </a:cubicBezTo>
                <a:cubicBezTo>
                  <a:pt x="311" y="759"/>
                  <a:pt x="296" y="764"/>
                  <a:pt x="288" y="774"/>
                </a:cubicBezTo>
                <a:cubicBezTo>
                  <a:pt x="235" y="838"/>
                  <a:pt x="194" y="858"/>
                  <a:pt x="117" y="873"/>
                </a:cubicBezTo>
                <a:cubicBezTo>
                  <a:pt x="20" y="861"/>
                  <a:pt x="23" y="878"/>
                  <a:pt x="9" y="783"/>
                </a:cubicBezTo>
                <a:cubicBezTo>
                  <a:pt x="15" y="738"/>
                  <a:pt x="4" y="707"/>
                  <a:pt x="45" y="684"/>
                </a:cubicBezTo>
                <a:cubicBezTo>
                  <a:pt x="62" y="675"/>
                  <a:pt x="99" y="666"/>
                  <a:pt x="99" y="666"/>
                </a:cubicBezTo>
                <a:cubicBezTo>
                  <a:pt x="179" y="679"/>
                  <a:pt x="181" y="697"/>
                  <a:pt x="234" y="738"/>
                </a:cubicBezTo>
                <a:cubicBezTo>
                  <a:pt x="251" y="751"/>
                  <a:pt x="288" y="774"/>
                  <a:pt x="288" y="774"/>
                </a:cubicBezTo>
                <a:cubicBezTo>
                  <a:pt x="318" y="819"/>
                  <a:pt x="317" y="842"/>
                  <a:pt x="324" y="900"/>
                </a:cubicBezTo>
                <a:cubicBezTo>
                  <a:pt x="316" y="1012"/>
                  <a:pt x="317" y="1050"/>
                  <a:pt x="261" y="1134"/>
                </a:cubicBezTo>
                <a:cubicBezTo>
                  <a:pt x="245" y="1159"/>
                  <a:pt x="244" y="1166"/>
                  <a:pt x="216" y="1179"/>
                </a:cubicBezTo>
                <a:cubicBezTo>
                  <a:pt x="199" y="1187"/>
                  <a:pt x="162" y="1197"/>
                  <a:pt x="162" y="1197"/>
                </a:cubicBezTo>
                <a:cubicBezTo>
                  <a:pt x="105" y="1186"/>
                  <a:pt x="108" y="1173"/>
                  <a:pt x="63" y="1143"/>
                </a:cubicBezTo>
                <a:cubicBezTo>
                  <a:pt x="51" y="1125"/>
                  <a:pt x="39" y="1107"/>
                  <a:pt x="27" y="1089"/>
                </a:cubicBezTo>
                <a:cubicBezTo>
                  <a:pt x="21" y="1080"/>
                  <a:pt x="9" y="1062"/>
                  <a:pt x="9" y="1062"/>
                </a:cubicBezTo>
                <a:cubicBezTo>
                  <a:pt x="15" y="1023"/>
                  <a:pt x="8" y="1001"/>
                  <a:pt x="45" y="981"/>
                </a:cubicBezTo>
                <a:cubicBezTo>
                  <a:pt x="62" y="972"/>
                  <a:pt x="99" y="963"/>
                  <a:pt x="99" y="963"/>
                </a:cubicBezTo>
                <a:cubicBezTo>
                  <a:pt x="126" y="966"/>
                  <a:pt x="154" y="965"/>
                  <a:pt x="180" y="972"/>
                </a:cubicBezTo>
                <a:cubicBezTo>
                  <a:pt x="237" y="986"/>
                  <a:pt x="252" y="1069"/>
                  <a:pt x="261" y="1116"/>
                </a:cubicBezTo>
                <a:cubicBezTo>
                  <a:pt x="259" y="1132"/>
                  <a:pt x="255" y="1184"/>
                  <a:pt x="243" y="1206"/>
                </a:cubicBezTo>
                <a:cubicBezTo>
                  <a:pt x="235" y="1221"/>
                  <a:pt x="199" y="1260"/>
                  <a:pt x="198" y="1287"/>
                </a:cubicBezTo>
                <a:cubicBezTo>
                  <a:pt x="195" y="1335"/>
                  <a:pt x="198" y="1383"/>
                  <a:pt x="198" y="143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19800" y="3504600"/>
            <a:ext cx="328680" cy="176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10440" y="285264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129520" y="3404520"/>
            <a:ext cx="328680" cy="176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96200" y="25621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96200" y="324792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20040" y="281952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720" y="28432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o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13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63040" y="2362320"/>
            <a:ext cx="38088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8640" y="2590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39240" y="253836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390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04960" y="3505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dc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4290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876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52880" y="44528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5160" y="44197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00560" y="266688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210080" y="3186000"/>
            <a:ext cx="333720" cy="319320"/>
            <a:chOff x="7210080" y="3186000"/>
            <a:chExt cx="333720" cy="319320"/>
          </a:xfrm>
        </p:grpSpPr>
        <p:sp>
          <p:nvSpPr>
            <p:cNvPr id="229" name=""/>
            <p:cNvSpPr/>
            <p:nvPr/>
          </p:nvSpPr>
          <p:spPr>
            <a:xfrm>
              <a:off x="7358040" y="3186000"/>
              <a:ext cx="0" cy="78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210080" y="3271320"/>
              <a:ext cx="152280" cy="3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3310200"/>
              <a:ext cx="304920" cy="3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391160" y="3349440"/>
              <a:ext cx="152280" cy="3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388320"/>
              <a:ext cx="0" cy="117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400800" y="30099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m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10FD-7ABD-4DE2-8243-65ECE8DC70E1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Voltage Dependence……..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236" name="updown_cap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4724280" y="1828440"/>
            <a:ext cx="0" cy="380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14440" y="1828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1371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ime average capacitance From here = 2.68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809880"/>
            <a:ext cx="3657600" cy="13716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C value reached by 5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4876920"/>
            <a:ext cx="91440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5B2E-60E9-470B-86CF-6F1F08E9B46D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Final Comparison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244" name="final_comparison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53440" cy="5257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_Comp = 2.68pF for this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CCAE-ED83-4F3E-965E-6013885028D0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Closer Look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247" name="closerlook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86480" cy="5257800"/>
          </a:xfrm>
          <a:prstGeom prst="rect">
            <a:avLst/>
          </a:prstGeom>
          <a:ln w="0">
            <a:noFill/>
          </a:ln>
        </p:spPr>
      </p:pic>
      <p:pic>
        <p:nvPicPr>
          <p:cNvPr id="248" name="pe07677_" descr=""/>
          <p:cNvPicPr/>
          <p:nvPr/>
        </p:nvPicPr>
        <p:blipFill>
          <a:blip r:embed="rId2"/>
          <a:stretch/>
        </p:blipFill>
        <p:spPr>
          <a:xfrm>
            <a:off x="0" y="25146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CCDE-0C21-488A-8435-1372B3A9D15E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ard to get straight answer from time domain methods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an’t calculate Ccomp from a simple sweep of frequency domain 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hich frequency will you take?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ank method gives accurate answer at each voltage value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arge variation of Ccomp is a limitation for tank method as well 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IBIS standard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0979-2DBB-4341-B2E9-8EF765C28FD9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Closing%20page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173E-9117-435C-B26E-9F1BAAC1A229}" type="slidenum">
              <a:t>15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01760" y="1221840"/>
            <a:ext cx="667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hy it’s so important !!!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e domain method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requency domain techniqu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eping the whole dom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k constru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hanc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495F-7BEE-4F0A-B50C-816C4EF534F3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Why It’s So Important !!!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85" name="C_comp_importance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770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52480" y="1290600"/>
            <a:ext cx="1676520" cy="609480"/>
            <a:chOff x="1752480" y="1290600"/>
            <a:chExt cx="1676520" cy="609480"/>
          </a:xfrm>
        </p:grpSpPr>
        <p:sp>
          <p:nvSpPr>
            <p:cNvPr id="87" name=""/>
            <p:cNvSpPr/>
            <p:nvPr/>
          </p:nvSpPr>
          <p:spPr>
            <a:xfrm>
              <a:off x="1752480" y="1290600"/>
              <a:ext cx="1600200" cy="609480"/>
            </a:xfrm>
            <a:prstGeom prst="wedgeEllipseCallout">
              <a:avLst>
                <a:gd name="adj1" fmla="val 24208"/>
                <a:gd name="adj2" fmla="val 9505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14479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_comp = 3p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 flipV="1">
            <a:off x="2894760" y="2513880"/>
            <a:ext cx="1752840" cy="609480"/>
          </a:xfrm>
          <a:prstGeom prst="wedgeEllipseCallout">
            <a:avLst>
              <a:gd name="adj1" fmla="val 26537"/>
              <a:gd name="adj2" fmla="val 9505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2360" y="2612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_comp = 2.4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25C7-9BD0-4C79-9BE5-84EF7B50630D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Time Domain Methods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Apply ramp voltage source (</a:t>
            </a:r>
            <a:r>
              <a:rPr b="1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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t) &amp; measure the current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ubtract  DC current in pull up/down device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(t) = (I1 – I2)/2</a:t>
            </a:r>
            <a:r>
              <a:rPr b="1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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(I(t)</a:t>
            </a:r>
            <a:r>
              <a:rPr b="1" lang="en-US" sz="3100" spc="-1" strike="noStrike" baseline="-25000">
                <a:solidFill>
                  <a:srgbClr val="ffffff"/>
                </a:solidFill>
                <a:latin typeface="Times New Roman"/>
              </a:rPr>
              <a:t>Source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- I(t)</a:t>
            </a:r>
            <a:r>
              <a:rPr b="1" lang="en-US" sz="3100" spc="-1" strike="noStrike" baseline="-25000">
                <a:solidFill>
                  <a:srgbClr val="ffffff"/>
                </a:solidFill>
                <a:latin typeface="Times New Roman"/>
              </a:rPr>
              <a:t>Device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1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comp varies with </a:t>
            </a:r>
            <a:r>
              <a:rPr b="1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!!!!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066680"/>
            <a:ext cx="3962160" cy="4953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167440"/>
            <a:ext cx="41911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me domain methods depends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C*(dV/d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4120" y="1447920"/>
            <a:ext cx="3504960" cy="3200400"/>
            <a:chOff x="5334120" y="1447920"/>
            <a:chExt cx="3504960" cy="3200400"/>
          </a:xfrm>
        </p:grpSpPr>
        <p:sp>
          <p:nvSpPr>
            <p:cNvPr id="96" name=""/>
            <p:cNvSpPr/>
            <p:nvPr/>
          </p:nvSpPr>
          <p:spPr>
            <a:xfrm>
              <a:off x="5334120" y="1447920"/>
              <a:ext cx="0" cy="3200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4120" y="4648320"/>
              <a:ext cx="3504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34120" y="3581280"/>
            <a:ext cx="3124080" cy="1067040"/>
            <a:chOff x="5334120" y="3581280"/>
            <a:chExt cx="3124080" cy="1067040"/>
          </a:xfrm>
        </p:grpSpPr>
        <p:sp>
          <p:nvSpPr>
            <p:cNvPr id="99" name=""/>
            <p:cNvSpPr/>
            <p:nvPr/>
          </p:nvSpPr>
          <p:spPr>
            <a:xfrm flipV="1">
              <a:off x="5334120" y="3581280"/>
              <a:ext cx="1523880" cy="1067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3581280"/>
              <a:ext cx="1600200" cy="1067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91120" y="4191120"/>
            <a:ext cx="1752480" cy="457200"/>
            <a:chOff x="5991120" y="4191120"/>
            <a:chExt cx="1752480" cy="457200"/>
          </a:xfrm>
        </p:grpSpPr>
        <p:sp>
          <p:nvSpPr>
            <p:cNvPr id="103" name=""/>
            <p:cNvSpPr/>
            <p:nvPr/>
          </p:nvSpPr>
          <p:spPr>
            <a:xfrm>
              <a:off x="599112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91120" y="419112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360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029200" y="106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34240" y="4657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482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9480" y="4667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376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5960" y="3767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38960" y="281952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_comp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[(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/2]*(dt/d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3343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754600" y="1436400"/>
            <a:ext cx="1057320" cy="774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67560" y="182412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89760" y="1762200"/>
            <a:ext cx="258840" cy="1522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602400" y="1824120"/>
            <a:ext cx="387360" cy="837720"/>
            <a:chOff x="6602400" y="1824120"/>
            <a:chExt cx="387360" cy="837720"/>
          </a:xfrm>
        </p:grpSpPr>
        <p:sp>
          <p:nvSpPr>
            <p:cNvPr id="118" name=""/>
            <p:cNvSpPr/>
            <p:nvPr/>
          </p:nvSpPr>
          <p:spPr>
            <a:xfrm>
              <a:off x="6796080" y="18241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02400" y="2128680"/>
              <a:ext cx="387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02400" y="2280960"/>
              <a:ext cx="387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96080" y="228096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6615000" y="2661480"/>
            <a:ext cx="354240" cy="152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8600" y="1824120"/>
            <a:ext cx="1227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18520" y="2114640"/>
            <a:ext cx="32220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34360" y="2666880"/>
            <a:ext cx="277920" cy="176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75840" y="18241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75840" y="2509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133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ra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21360" y="2104920"/>
            <a:ext cx="91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o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198108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8" y="240"/>
                  <a:pt x="0" y="28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137160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336" y="192"/>
                </a:moveTo>
                <a:cubicBezTo>
                  <a:pt x="292" y="208"/>
                  <a:pt x="248" y="224"/>
                  <a:pt x="192" y="192"/>
                </a:cubicBezTo>
                <a:cubicBezTo>
                  <a:pt x="136" y="160"/>
                  <a:pt x="68" y="80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724880" y="1714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0A55-39AB-462B-B703-661197C3F8C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Time Domain Capacitance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137" name="rampcap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2FFC-67A6-48EC-8A31-21C579896F8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Frequency Domain Technique</a:t>
            </a:r>
            <a:br>
              <a:rPr sz="3600"/>
            </a:b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e domain methods fails to give one simple result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requency domain analysis might be the alternative !!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pice AC analysis is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mall signal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time averaging per unit cycle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nhancements to emulate large signal response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B7B9-F375-4FAA-8668-123AD980966D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weepac" descr=""/>
          <p:cNvPicPr/>
          <p:nvPr/>
        </p:nvPicPr>
        <p:blipFill>
          <a:blip r:embed="rId1"/>
          <a:stretch/>
        </p:blipFill>
        <p:spPr>
          <a:xfrm>
            <a:off x="219240" y="914400"/>
            <a:ext cx="8696160" cy="5105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Sweeping the Whole Domain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142" name="bd00028_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1828800" cy="179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5400000">
            <a:off x="919440" y="2409840"/>
            <a:ext cx="1056960" cy="914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0080" y="286704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1320" y="280512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24120" y="2867040"/>
            <a:ext cx="457200" cy="837720"/>
            <a:chOff x="1824120" y="2867040"/>
            <a:chExt cx="457200" cy="837720"/>
          </a:xfrm>
        </p:grpSpPr>
        <p:sp>
          <p:nvSpPr>
            <p:cNvPr id="147" name=""/>
            <p:cNvSpPr/>
            <p:nvPr/>
          </p:nvSpPr>
          <p:spPr>
            <a:xfrm>
              <a:off x="2052720" y="2867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4120" y="31716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4120" y="33238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2720" y="332388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1838160" y="3705120"/>
            <a:ext cx="419400" cy="152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286704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8040" y="3157560"/>
            <a:ext cx="38124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67120" y="3709440"/>
            <a:ext cx="328680" cy="176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3800" y="28670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3800" y="355284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5764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38320" y="31478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o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743200" y="2286000"/>
            <a:ext cx="457200" cy="1295280"/>
            <a:chOff x="2743200" y="2286000"/>
            <a:chExt cx="457200" cy="1295280"/>
          </a:xfrm>
        </p:grpSpPr>
        <p:sp>
          <p:nvSpPr>
            <p:cNvPr id="160" name=""/>
            <p:cNvSpPr/>
            <p:nvPr/>
          </p:nvSpPr>
          <p:spPr>
            <a:xfrm flipV="1">
              <a:off x="3200400" y="2286000"/>
              <a:ext cx="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743200" y="2286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954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648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Which frequency will you pick to calculate Ccomp !!!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C28E-D69C-4C43-922F-13506B59BE95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Tank Construction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apacitance physically exist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t only varies with voltage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dding Shunt L for resonance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comp frequency dependence is omitted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ne single value for Ccomp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066680"/>
            <a:ext cx="3962160" cy="4953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8800" y="2033640"/>
            <a:ext cx="3776760" cy="1547280"/>
            <a:chOff x="5338800" y="2033640"/>
            <a:chExt cx="3776760" cy="1547280"/>
          </a:xfrm>
        </p:grpSpPr>
        <p:grpSp>
          <p:nvGrpSpPr>
            <p:cNvPr id="168" name=""/>
            <p:cNvGrpSpPr/>
            <p:nvPr/>
          </p:nvGrpSpPr>
          <p:grpSpPr>
            <a:xfrm>
              <a:off x="5338800" y="2033640"/>
              <a:ext cx="3238560" cy="1547280"/>
              <a:chOff x="5338800" y="2033640"/>
              <a:chExt cx="3238560" cy="1547280"/>
            </a:xfrm>
          </p:grpSpPr>
          <p:sp>
            <p:nvSpPr>
              <p:cNvPr id="169" name=""/>
              <p:cNvSpPr/>
              <p:nvPr/>
            </p:nvSpPr>
            <p:spPr>
              <a:xfrm rot="5400000">
                <a:off x="5267160" y="2104920"/>
                <a:ext cx="1057320" cy="9144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520" y="256212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29400" y="2500200"/>
                <a:ext cx="304920" cy="15264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6172200" y="2562120"/>
                <a:ext cx="457200" cy="838440"/>
                <a:chOff x="6172200" y="2562120"/>
                <a:chExt cx="457200" cy="838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256212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72200" y="286704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72200" y="301932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00800" y="3019320"/>
                  <a:ext cx="0" cy="381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 flipV="1">
                <a:off x="6186600" y="3399840"/>
                <a:ext cx="419040" cy="152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34320" y="2562120"/>
                <a:ext cx="1447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39160" y="2581200"/>
                <a:ext cx="542880" cy="762120"/>
              </a:xfrm>
              <a:custGeom>
                <a:avLst/>
                <a:gdLst/>
                <a:ahLst/>
                <a:rect l="l" t="t" r="r" b="b"/>
                <a:pathLst>
                  <a:path w="342" h="1431">
                    <a:moveTo>
                      <a:pt x="180" y="0"/>
                    </a:moveTo>
                    <a:cubicBezTo>
                      <a:pt x="164" y="64"/>
                      <a:pt x="134" y="165"/>
                      <a:pt x="198" y="207"/>
                    </a:cubicBezTo>
                    <a:cubicBezTo>
                      <a:pt x="240" y="271"/>
                      <a:pt x="291" y="323"/>
                      <a:pt x="315" y="396"/>
                    </a:cubicBezTo>
                    <a:cubicBezTo>
                      <a:pt x="310" y="426"/>
                      <a:pt x="307" y="481"/>
                      <a:pt x="279" y="504"/>
                    </a:cubicBezTo>
                    <a:cubicBezTo>
                      <a:pt x="270" y="511"/>
                      <a:pt x="209" y="522"/>
                      <a:pt x="207" y="522"/>
                    </a:cubicBezTo>
                    <a:cubicBezTo>
                      <a:pt x="153" y="519"/>
                      <a:pt x="98" y="523"/>
                      <a:pt x="45" y="513"/>
                    </a:cubicBezTo>
                    <a:cubicBezTo>
                      <a:pt x="15" y="507"/>
                      <a:pt x="0" y="432"/>
                      <a:pt x="0" y="432"/>
                    </a:cubicBezTo>
                    <a:cubicBezTo>
                      <a:pt x="3" y="423"/>
                      <a:pt x="2" y="412"/>
                      <a:pt x="9" y="405"/>
                    </a:cubicBezTo>
                    <a:cubicBezTo>
                      <a:pt x="24" y="390"/>
                      <a:pt x="63" y="369"/>
                      <a:pt x="63" y="369"/>
                    </a:cubicBezTo>
                    <a:cubicBezTo>
                      <a:pt x="90" y="372"/>
                      <a:pt x="118" y="371"/>
                      <a:pt x="144" y="378"/>
                    </a:cubicBezTo>
                    <a:cubicBezTo>
                      <a:pt x="154" y="381"/>
                      <a:pt x="161" y="391"/>
                      <a:pt x="171" y="396"/>
                    </a:cubicBezTo>
                    <a:cubicBezTo>
                      <a:pt x="212" y="416"/>
                      <a:pt x="186" y="391"/>
                      <a:pt x="225" y="423"/>
                    </a:cubicBezTo>
                    <a:cubicBezTo>
                      <a:pt x="292" y="478"/>
                      <a:pt x="326" y="575"/>
                      <a:pt x="342" y="657"/>
                    </a:cubicBezTo>
                    <a:cubicBezTo>
                      <a:pt x="328" y="711"/>
                      <a:pt x="337" y="681"/>
                      <a:pt x="315" y="747"/>
                    </a:cubicBezTo>
                    <a:cubicBezTo>
                      <a:pt x="311" y="759"/>
                      <a:pt x="296" y="764"/>
                      <a:pt x="288" y="774"/>
                    </a:cubicBezTo>
                    <a:cubicBezTo>
                      <a:pt x="235" y="838"/>
                      <a:pt x="194" y="858"/>
                      <a:pt x="117" y="873"/>
                    </a:cubicBezTo>
                    <a:cubicBezTo>
                      <a:pt x="20" y="861"/>
                      <a:pt x="23" y="878"/>
                      <a:pt x="9" y="783"/>
                    </a:cubicBezTo>
                    <a:cubicBezTo>
                      <a:pt x="15" y="738"/>
                      <a:pt x="4" y="707"/>
                      <a:pt x="45" y="684"/>
                    </a:cubicBezTo>
                    <a:cubicBezTo>
                      <a:pt x="62" y="675"/>
                      <a:pt x="99" y="666"/>
                      <a:pt x="99" y="666"/>
                    </a:cubicBezTo>
                    <a:cubicBezTo>
                      <a:pt x="179" y="679"/>
                      <a:pt x="181" y="697"/>
                      <a:pt x="234" y="738"/>
                    </a:cubicBezTo>
                    <a:cubicBezTo>
                      <a:pt x="251" y="751"/>
                      <a:pt x="288" y="774"/>
                      <a:pt x="288" y="774"/>
                    </a:cubicBezTo>
                    <a:cubicBezTo>
                      <a:pt x="318" y="819"/>
                      <a:pt x="317" y="842"/>
                      <a:pt x="324" y="900"/>
                    </a:cubicBezTo>
                    <a:cubicBezTo>
                      <a:pt x="316" y="1012"/>
                      <a:pt x="317" y="1050"/>
                      <a:pt x="261" y="1134"/>
                    </a:cubicBezTo>
                    <a:cubicBezTo>
                      <a:pt x="245" y="1159"/>
                      <a:pt x="244" y="1166"/>
                      <a:pt x="216" y="1179"/>
                    </a:cubicBezTo>
                    <a:cubicBezTo>
                      <a:pt x="199" y="1187"/>
                      <a:pt x="162" y="1197"/>
                      <a:pt x="162" y="1197"/>
                    </a:cubicBezTo>
                    <a:cubicBezTo>
                      <a:pt x="105" y="1186"/>
                      <a:pt x="108" y="1173"/>
                      <a:pt x="63" y="1143"/>
                    </a:cubicBezTo>
                    <a:cubicBezTo>
                      <a:pt x="51" y="1125"/>
                      <a:pt x="39" y="1107"/>
                      <a:pt x="27" y="1089"/>
                    </a:cubicBezTo>
                    <a:cubicBezTo>
                      <a:pt x="21" y="1080"/>
                      <a:pt x="9" y="1062"/>
                      <a:pt x="9" y="1062"/>
                    </a:cubicBezTo>
                    <a:cubicBezTo>
                      <a:pt x="15" y="1023"/>
                      <a:pt x="8" y="1001"/>
                      <a:pt x="45" y="981"/>
                    </a:cubicBezTo>
                    <a:cubicBezTo>
                      <a:pt x="62" y="972"/>
                      <a:pt x="99" y="963"/>
                      <a:pt x="99" y="963"/>
                    </a:cubicBezTo>
                    <a:cubicBezTo>
                      <a:pt x="126" y="966"/>
                      <a:pt x="154" y="965"/>
                      <a:pt x="180" y="972"/>
                    </a:cubicBezTo>
                    <a:cubicBezTo>
                      <a:pt x="237" y="986"/>
                      <a:pt x="252" y="1069"/>
                      <a:pt x="261" y="1116"/>
                    </a:cubicBezTo>
                    <a:cubicBezTo>
                      <a:pt x="259" y="1132"/>
                      <a:pt x="255" y="1184"/>
                      <a:pt x="243" y="1206"/>
                    </a:cubicBezTo>
                    <a:cubicBezTo>
                      <a:pt x="235" y="1221"/>
                      <a:pt x="199" y="1260"/>
                      <a:pt x="198" y="1287"/>
                    </a:cubicBezTo>
                    <a:cubicBezTo>
                      <a:pt x="195" y="1335"/>
                      <a:pt x="198" y="1383"/>
                      <a:pt x="198" y="14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305840" y="3352680"/>
                <a:ext cx="328320" cy="1764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96120" y="2852640"/>
                <a:ext cx="381240" cy="3812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8215200" y="3404520"/>
                <a:ext cx="328680" cy="17604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381880" y="2562120"/>
                <a:ext cx="0" cy="30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81880" y="324792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8505720" y="28195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Va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28432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o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608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952880" y="44956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191120"/>
            <a:ext cx="373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/Sqrt(L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com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3D91-DE8E-4529-AB5D-1335298D9AC6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192" name="resonance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62760" y="266688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48200" y="5257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d capacitance Extraction, Hazem Hegazy, IBIS Summit Meeting, June 13, 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C117-F8A8-4565-ACD0-96202AAEE05F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 Ross</cp:lastModifiedBy>
  <cp:lastPrinted>2002-06-06T17:47:20Z</cp:lastPrinted>
  <dcterms:modified xsi:type="dcterms:W3CDTF">2002-06-06T17:52:56Z</dcterms:modified>
  <cp:revision>123</cp:revision>
  <dc:subject/>
  <dc:title>No Slide Title</dc:title>
</cp:coreProperties>
</file>