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95C-541C-4FE3-A4B1-6143392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7F8-F78A-447E-8721-31791ACE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A66-6E5B-4F51-81FD-24BD3C6B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74A-CE09-47DE-A13D-832F0366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09E9-2D90-4880-BF70-67E0B8B4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28E4-B088-49C8-AE41-E68A58F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106-761E-4CD1-A1D2-EC227FC9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74E-F567-4D30-B819-5D459FA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D82E-84C4-40FB-9EBA-6BA878C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0E2-7B2B-4AB8-A135-7DEEC91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99D-F6FE-4A4D-9A8A-A00D311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9ED-DD3D-443B-B973-84FBF7F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FA63-0E7A-49AC-8897-15AB56E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A162-B3C5-435C-9EF5-E9DD396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0000-5FFA-45E8-8348-AAC54DE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BE5-B647-4301-8CD0-63C5F3B9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F80-F3B2-497D-B5B1-A120CDF0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485-C127-4C69-A715-E3B3B4BB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DFC-B3DD-4C4F-909F-C575A63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9AB-770E-4931-9A89-3E39361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4FC-E950-430C-B6C6-2066B36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FA9-5C02-496D-85BA-8A1E4F3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941-D3DA-4E42-A2F2-DAAC849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89A-64E4-4FC3-AFFC-E88C91A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AFE-630C-44FB-92FA-FECACE50B231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561F-40D6-40CE-B8ED-3BAC6DA0A8D2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520" y="1447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2895480" y="380880"/>
            <a:ext cx="3810240" cy="108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6520" y="3124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LVDS IBIS Models @ 1.25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952880"/>
            <a:ext cx="624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Douglas J. B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teven R. C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Kevin M. Fis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ffects of Changing VDDQ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1213920" y="5943600"/>
            <a:ext cx="488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PI4 interface: 1.25GHz, target pad, VDDQ=2.32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Model generated w/VDDQ=2.37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naccurate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Potential Issue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VDS IBIS models assume constant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ust generate multiple models for different values of v</a:t>
            </a:r>
            <a:r>
              <a:rPr b="0" lang="en-US" sz="20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to obtain consistent accuracy driving different loads and topologi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evice asymmetry will affect accuracy of mod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odel generated for both pads assumes perfect driver symmet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Etch lengths of nets in differential pair matche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nclus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t is possible to generate IBIS models for LVDS devices and obtain accurate results at speeds exceeding 1GHz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mproper use of properly generated LVDS IBIS models can &amp; will lead to inaccurate resul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ssues with LVDS IBIS models do exist, but can be avoided with proper knowledge of: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evice and application of devic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How target simulator handles these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524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2971800" y="2514600"/>
            <a:ext cx="38098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Low Voltage Differential Signaling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Higher signaling speed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ower voltage sw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ower power consump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ess susceptible to common-mode nois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Reduced EMI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hallenges in using IBIS to model LVD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specifically designed for single-ended I/O buffer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Behavioral (IV) curves show current as a function of voltage applied to pa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urrent of LVDS buffer dependent on voltage at both pads, and common-mode voltage (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xtracting &amp; Using LVDS IBIS Mode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4" name="lvds_to_ibis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608004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enerat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1: Find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f devic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kevins_dac_slide_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302520" cy="208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59800" y="5280120"/>
            <a:ext cx="404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Drive into expected loading condition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topology to obt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enerat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2: Sweep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out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n one output pad, keeping v</a:t>
            </a:r>
            <a:r>
              <a:rPr b="0" lang="en-US" sz="2400" spc="-1" strike="noStrike" baseline="-10000">
                <a:solidFill>
                  <a:srgbClr val="336699"/>
                </a:solidFill>
                <a:latin typeface="Century Gothic"/>
              </a:rPr>
              <a:t>cm </a:t>
            </a: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nstant throughout sweep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tep 3: Extract the curves, convert to IBIS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1" name="kevins_dac_slide_2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51152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Using an LVDS IBIS Model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wo instantiations of extracted model: one for true, one for complemen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lement stimulus 180° out of phase with true stimulu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4" name="kevins_dac_slide_1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295596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Accurate LVDS IBIS Model @ 1.25GHz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1214640" y="5943600"/>
            <a:ext cx="48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PI4 interface: 1.25GHz, target pad, VDDQ=2.37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accurate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352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Potential Issue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ome simulators may modify LVDS’s “non-traditional” IV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ome versions of Hspice modify IV curves not passing through (0, 0) if IV table does not have entry at i=0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VDS IBIS models are accurate only when same VDDQ model was generated with is us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hanging VDDQ leads to very inaccurate resul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Bob Ross</cp:lastModifiedBy>
  <dcterms:modified xsi:type="dcterms:W3CDTF">2002-06-16T03:53:27Z</dcterms:modified>
  <cp:revision>58</cp:revision>
  <dc:subject/>
  <dc:title>Slide 1</dc:title>
</cp:coreProperties>
</file>