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8CD7-ECA5-4D70-BB27-C4ECB7977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94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EC62-FD87-4331-88B0-0D3CAA139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314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3F2C-4F38-422C-AE40-2707633C8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634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173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94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634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173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232E-F08D-4F3C-BA8E-8097AD64E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452B-0EE3-4140-9E24-9EF8060B5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FCD4-4E3D-4E5C-B3A4-E3943C25F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4AB6-2648-4981-98DD-14F8A02D4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96C5-0962-433F-8C69-E44D54BB5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CD61-1FE4-4CD4-8EFB-83DB4D26C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C457-2B39-4EE8-9DFD-583755A2E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314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C991-F0EB-4A4B-B013-0C4B516CD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506C-8F81-4CEF-82BA-4566F306F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d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A4745-7F47-45C4-82FF-D18722C4C5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0" y="1428840"/>
            <a:ext cx="9132840" cy="152280"/>
            <a:chOff x="0" y="1428840"/>
            <a:chExt cx="9132840" cy="152280"/>
          </a:xfrm>
        </p:grpSpPr>
        <p:sp>
          <p:nvSpPr>
            <p:cNvPr id="4" name=""/>
            <p:cNvSpPr/>
            <p:nvPr/>
          </p:nvSpPr>
          <p:spPr>
            <a:xfrm>
              <a:off x="0" y="1428840"/>
              <a:ext cx="9132840" cy="74520"/>
            </a:xfrm>
            <a:prstGeom prst="rect">
              <a:avLst/>
            </a:prstGeom>
            <a:gradFill rotWithShape="0">
              <a:gsLst>
                <a:gs pos="0">
                  <a:srgbClr val="006e64"/>
                </a:gs>
                <a:gs pos="50000">
                  <a:srgbClr val="00dfca"/>
                </a:gs>
                <a:gs pos="100000">
                  <a:srgbClr val="006e6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4296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965f7f"/>
                </a:gs>
                <a:gs pos="50000">
                  <a:srgbClr val="d989b8"/>
                </a:gs>
                <a:gs pos="100000">
                  <a:srgbClr val="965f7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6058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60582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d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IBIS Report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990360" y="2362320"/>
            <a:ext cx="7086600" cy="266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b Ro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ntor Graphics Corpo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BIS Summit Me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 Vegas, Nev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ne 21, 2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d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Meeting Today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1828440"/>
            <a:ext cx="784872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b6058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BIS Report and Sta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6058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iness and Election of Officers 2001-20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6058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-emphasis Modeling and Driver Sche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6058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SI and Fiber Channel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6058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quency Response and EM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6058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BIS-X and IBIS Macro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6058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Discussions and Ad Hoc Pres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d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Status Update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8487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b6058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ittee 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ce 1993, Version 1.1, 2.1 (ANSI/EIA-656) &amp; 3.2 (ANSI/EIA-656-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 Members, 350 -400 on reflec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ular Meetings and Web 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ncially in the black by about $14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6058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on Standards and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bischk3 Version 3.2.7 and m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EC 62014-1 (IBIS Ver 3.2 &amp; ANSI/EIA-656-A) - ratified April 2001, awaiting pub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d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Activities &amp; Issues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8487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b6058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nector Spec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eda.org/pub/ibis/connector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6058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BIS Version 4.0 Add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6058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BIS-X and IBIS Macro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eda.org/pub/ibis/futures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6058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llowing European TC93 WG6 EMC/EMI a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llowing EIAJ IMIC a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llowing JEDEC a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llowing T10 &amp; T11 SCSI &amp; Fiber Channel a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BIS Accuracy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d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Connector Features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8487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b6058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BIS Connector Specification - some highligh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Line and Multi-line mod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scaded mod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ath matr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nector model autogeneration for a given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d, unmated variations, multiple configu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6058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ities and Pl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ntax review being done - taking more time than anticipated to reconcile with IBIS-X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mal re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tify Version 1.0 in 2001 - Delay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te connector parser 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d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IBIS Version 4.0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8487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b6058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RD62.6 - Receiver Threshol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RD64.4 - Alternate Package Mod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RD65.2 - C_comp Refin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RD66 - Vref Addi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RD67.1 - V-T Table 1000 Point Lim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RD68.1 - V-T Clar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n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RD70 - Golden Wavefor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RD71 - PCI Timing Test Loa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SN - Dr. Unger’s propos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allback Submodel BI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6058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al - Ratify in 2001 - Delay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6058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ibischk4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6058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 be implemented in IBIS-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d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IBIS Impact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8487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b6058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out 50 semiconductor vendors with Web site links &amp; several others without links - about 2,500 IBIS mod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 -12 commercial &amp; EDA IBIS vendors - 12,000 mod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stomers produced libraries (&amp; internal IBIS spec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ed from Spice, measurement, translation &amp; data she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out 5 EDA “behavioral” vendors, 5 “Spice” vend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ercial and free IBIS model generation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6058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gazine articles &amp; references in books and magaz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onsorship of DesignC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6058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, non-proprietary format - Well Accepted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d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Thank You - It take a Team!!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8487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b6058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anks to the Officers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cilia Fleming for general EIA administrative support, invoicing, and following national/international standards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y Leventhal for maintaining the IBIS Models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ed Huq for maintaining the Web pages, Roster and translating presentations to Acrobat and dealing with s2ibis2 iss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hn Angulo for maintaining the IBIS mailing list, the IBIS Futures page and issuing minutes and coordinating the IBIS model re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uy de Burgh for maintaining the official membership list and helping in the annual IBIS summit meetings and DesignCon bo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hen Peters for taking the leadership role in chairing the IBIS Futures and IBIS Connector Working Group Meetings and generating the IBIS Futures doc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b6058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anks to many others for their contrib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 Davis, Greg Edlund, Matthew Flora, Gus Panella, Kathy Breda, Milt Schwartz, Karine Loudet, and many oth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0-11T23:17:32Z</dcterms:created>
  <dc:creator/>
  <dc:description/>
  <dc:language>en-US</dc:language>
  <cp:lastModifiedBy>bobr</cp:lastModifiedBy>
  <cp:lastPrinted>2000-06-06T14:36:42Z</cp:lastPrinted>
  <dcterms:modified xsi:type="dcterms:W3CDTF">2001-06-15T21:24:39Z</dcterms:modified>
  <cp:revision>156</cp:revision>
  <dc:subject/>
  <dc:title>IBIS ACCURACY</dc:title>
</cp:coreProperties>
</file>