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480" y="6485040"/>
            <a:ext cx="3365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river Schedule Modeling  June 21, 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477120"/>
            <a:ext cx="87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65F8208-2EC6-41C9-B6AA-DB61266D3E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79360"/>
            <a:ext cx="914400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40400"/>
            <a:ext cx="685944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661240" y="6429240"/>
            <a:ext cx="48276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66000" y="6124680"/>
            <a:ext cx="160020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dde4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fdde4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14600" y="1365120"/>
            <a:ext cx="41148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dde4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fdde4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3276720"/>
            <a:ext cx="7315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river Schedule Mode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ristopher E. Reid and Bob 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BIS Summit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s Vegas, Nev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181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June 21, 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16040" y="1285920"/>
            <a:ext cx="4114800" cy="1384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583320"/>
            <a:ext cx="914400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914400" y="533520"/>
          <a:ext cx="731520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73152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ulse Width 7 nS, Period 14 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4957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river Schedule Observa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sting Driver Schedule can be used for second bit reduction for SCSI applications for a given clock rate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lowing another Driver Schedule mode produces some improvement, but produces other distortions.  This improvement is not recommended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river Schedules with Open_* modes can be used for discrete pulse shaping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river Schedule Enhancement and Reduction Setup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ossible Improvement for Over-clocked mode where start of next transition if before the finish of previous transi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pplication for SCSI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llustration of Driver Schedule for Discrete Waveform Shaping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river Schedule Examples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D6 is not legal - ambiguous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2560" y="2038320"/>
          <a:ext cx="7696440" cy="396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38320"/>
                    <a:ext cx="769644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river Schedule Test Circuit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Produces 1, 2, 3, 4 V outputs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11120" y="2351160"/>
            <a:ext cx="1526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11120" y="3112920"/>
            <a:ext cx="15264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2"/>
            <a:endCxn id="95" idx="0"/>
          </p:cNvCxnSpPr>
          <p:nvPr/>
        </p:nvCxnSpPr>
        <p:spPr>
          <a:xfrm>
            <a:off x="1387080" y="2732040"/>
            <a:ext cx="1080" cy="381600"/>
          </a:xfrm>
          <a:prstGeom prst="straightConnector1">
            <a:avLst/>
          </a:prstGeom>
          <a:ln w="12600">
            <a:solidFill>
              <a:srgbClr val="081d58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1754280" y="20574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Vcc = 5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4" idx="0"/>
            <a:endCxn id="97" idx="1"/>
          </p:cNvCxnSpPr>
          <p:nvPr/>
        </p:nvCxnSpPr>
        <p:spPr>
          <a:xfrm flipH="1" flipV="1" rot="5400000">
            <a:off x="1499040" y="2097360"/>
            <a:ext cx="142200" cy="365760"/>
          </a:xfrm>
          <a:prstGeom prst="bentConnector2">
            <a:avLst/>
          </a:prstGeom>
          <a:ln w="12600">
            <a:solidFill>
              <a:srgbClr val="081d58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769040" y="34941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Gnd = 0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5" idx="2"/>
            <a:endCxn id="99" idx="1"/>
          </p:cNvCxnSpPr>
          <p:nvPr/>
        </p:nvCxnSpPr>
        <p:spPr>
          <a:xfrm flipH="1" rot="16200000">
            <a:off x="1501560" y="3379320"/>
            <a:ext cx="153000" cy="381600"/>
          </a:xfrm>
          <a:prstGeom prst="bentConnector2">
            <a:avLst/>
          </a:prstGeom>
          <a:ln w="12600">
            <a:solidFill>
              <a:srgbClr val="081d58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1613880" y="24271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Iu(v) (50 Oh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3880" y="31129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Id(v) (50 Oh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87440" y="2884320"/>
            <a:ext cx="914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2920" y="2732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4343400"/>
            <a:ext cx="1526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5105520"/>
            <a:ext cx="1526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2"/>
            <a:endCxn id="106" idx="0"/>
          </p:cNvCxnSpPr>
          <p:nvPr/>
        </p:nvCxnSpPr>
        <p:spPr>
          <a:xfrm>
            <a:off x="1371240" y="4723920"/>
            <a:ext cx="1080" cy="381960"/>
          </a:xfrm>
          <a:prstGeom prst="straightConnector1">
            <a:avLst/>
          </a:prstGeom>
          <a:ln w="12600">
            <a:solidFill>
              <a:srgbClr val="081d58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1738440" y="404964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Vcc = 5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5" idx="0"/>
            <a:endCxn id="108" idx="1"/>
          </p:cNvCxnSpPr>
          <p:nvPr/>
        </p:nvCxnSpPr>
        <p:spPr>
          <a:xfrm flipH="1" flipV="1" rot="5400000">
            <a:off x="1483200" y="4089960"/>
            <a:ext cx="141840" cy="365760"/>
          </a:xfrm>
          <a:prstGeom prst="bentConnector2">
            <a:avLst/>
          </a:prstGeom>
          <a:ln w="12600">
            <a:solidFill>
              <a:srgbClr val="081d58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1753200" y="548640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Gnd = 0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6" idx="2"/>
            <a:endCxn id="110" idx="1"/>
          </p:cNvCxnSpPr>
          <p:nvPr/>
        </p:nvCxnSpPr>
        <p:spPr>
          <a:xfrm flipH="1" rot="16200000">
            <a:off x="1485720" y="5371560"/>
            <a:ext cx="153000" cy="381600"/>
          </a:xfrm>
          <a:prstGeom prst="bentConnector2">
            <a:avLst/>
          </a:prstGeom>
          <a:ln w="12600">
            <a:solidFill>
              <a:srgbClr val="081d58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1597680" y="441972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Iu(v) (100 Oh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97680" y="510552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Id(v) (100 Oh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4876920"/>
            <a:ext cx="914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708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352680"/>
            <a:ext cx="1522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114800"/>
            <a:ext cx="152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2"/>
            <a:endCxn id="117" idx="0"/>
          </p:cNvCxnSpPr>
          <p:nvPr/>
        </p:nvCxnSpPr>
        <p:spPr>
          <a:xfrm>
            <a:off x="3809520" y="3733920"/>
            <a:ext cx="1080" cy="381600"/>
          </a:xfrm>
          <a:prstGeom prst="straightConnector1">
            <a:avLst/>
          </a:prstGeom>
          <a:ln w="12600">
            <a:solidFill>
              <a:srgbClr val="081d58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4177080" y="30592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Vcc = 5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6" idx="0"/>
            <a:endCxn id="119" idx="1"/>
          </p:cNvCxnSpPr>
          <p:nvPr/>
        </p:nvCxnSpPr>
        <p:spPr>
          <a:xfrm flipH="1" flipV="1" rot="5400000">
            <a:off x="3921480" y="3098880"/>
            <a:ext cx="141840" cy="366120"/>
          </a:xfrm>
          <a:prstGeom prst="bentConnector2">
            <a:avLst/>
          </a:prstGeom>
          <a:ln w="12600">
            <a:solidFill>
              <a:srgbClr val="081d58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191840" y="44956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Gnd = 0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2"/>
            <a:endCxn id="121" idx="1"/>
          </p:cNvCxnSpPr>
          <p:nvPr/>
        </p:nvCxnSpPr>
        <p:spPr>
          <a:xfrm flipH="1" rot="16200000">
            <a:off x="3923280" y="4381200"/>
            <a:ext cx="153360" cy="381960"/>
          </a:xfrm>
          <a:prstGeom prst="bentConnector2">
            <a:avLst/>
          </a:prstGeom>
          <a:ln w="12600">
            <a:solidFill>
              <a:srgbClr val="081d58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038480" y="342900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100 Oh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11480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d58"/>
                </a:solidFill>
                <a:latin typeface="Times New Roman"/>
              </a:rPr>
              <a:t>100 Oh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endCxn id="104" idx="3"/>
          </p:cNvCxnSpPr>
          <p:nvPr/>
        </p:nvCxnSpPr>
        <p:spPr>
          <a:xfrm rot="10800000">
            <a:off x="2574360" y="2883600"/>
            <a:ext cx="1235520" cy="1002600"/>
          </a:xfrm>
          <a:prstGeom prst="bentConnector3">
            <a:avLst>
              <a:gd name="adj1" fmla="val 49985"/>
            </a:avLst>
          </a:prstGeom>
          <a:ln w="12600">
            <a:solidFill>
              <a:srgbClr val="081d58"/>
            </a:solidFill>
            <a:miter/>
          </a:ln>
        </p:spPr>
      </p:cxnSp>
      <p:cxnSp>
        <p:nvCxnSpPr>
          <p:cNvPr id="126" name=""/>
          <p:cNvCxnSpPr>
            <a:endCxn id="115" idx="3"/>
          </p:cNvCxnSpPr>
          <p:nvPr/>
        </p:nvCxnSpPr>
        <p:spPr>
          <a:xfrm flipV="1" rot="10800000">
            <a:off x="2558160" y="3885840"/>
            <a:ext cx="1251720" cy="991440"/>
          </a:xfrm>
          <a:prstGeom prst="bentConnector3">
            <a:avLst>
              <a:gd name="adj1" fmla="val 50000"/>
            </a:avLst>
          </a:prstGeom>
          <a:ln w="12600">
            <a:solidFill>
              <a:srgbClr val="081d58"/>
            </a:solidFill>
            <a:miter/>
          </a:ln>
        </p:spPr>
      </p:cxnSp>
      <p:graphicFrame>
        <p:nvGraphicFramePr>
          <p:cNvPr id="127" name=""/>
          <p:cNvGraphicFramePr/>
          <p:nvPr/>
        </p:nvGraphicFramePr>
        <p:xfrm>
          <a:off x="5181480" y="3276720"/>
          <a:ext cx="3719520" cy="13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276720"/>
                    <a:ext cx="371952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alid Setup Examples for Enhancement and Reduc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76520" y="1981080"/>
          <a:ext cx="5251320" cy="9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52513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6520" y="3048120"/>
          <a:ext cx="5251320" cy="900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048120"/>
                    <a:ext cx="52513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676520" y="4114800"/>
          <a:ext cx="5251320" cy="900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14800"/>
                    <a:ext cx="52513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676520" y="5181480"/>
          <a:ext cx="5251320" cy="900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181480"/>
                    <a:ext cx="52513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CSI Driver Example Using Reduced Strength Drive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52480" y="1981080"/>
          <a:ext cx="5251680" cy="9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25168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752480" y="2971800"/>
          <a:ext cx="5251680" cy="914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971800"/>
                    <a:ext cx="5251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5800" y="3962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wo versions of the SCSI D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sion 1 is legal IBIS - next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sion 2 is not legal, but responds more cleanly to over-clocking.  However the pulse widths are not made narrower and are wrong - page after n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alid Second Bit Reduc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-bits = 8 nS (but 5 nS pulse width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tair Step Waveform Showing Enhancement and Reduc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rivers (9 V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U0 - 25 Ohm - Output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U1 - 50 Ohm - Open_drain and Open_source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U2 - 100 Ohm - Open_drain and Open_source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pen_* used because of several transitions in “Rise_*” and “Fall_*” pulse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erminator - 100 Ohm 9V, 100 Ohm Gnd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 V to 8 V in 1 V Step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8:32:38Z</dcterms:created>
  <dc:creator>Wordsmith Creative Services</dc:creator>
  <dc:description/>
  <dc:language>en-US</dc:language>
  <cp:lastModifiedBy>bobr</cp:lastModifiedBy>
  <cp:lastPrinted>2000-03-09T17:53:35Z</cp:lastPrinted>
  <dcterms:modified xsi:type="dcterms:W3CDTF">2001-06-15T18:21:46Z</dcterms:modified>
  <cp:revision>296</cp:revision>
  <dc:subject/>
  <dc:title>No Slide Title</dc:title>
</cp:coreProperties>
</file>