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0F68-022C-414E-9A5A-13EE40274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8095-A168-4A7C-93D2-8865675C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0BDF-78F9-4317-A81B-0A4CB9F84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AAB9-3A2F-4022-B9C5-358F6E216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0FDE-6793-41B8-B479-5A8F7C0AF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240F-AF7C-4A97-B818-7128B4C59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2160-8EAA-4526-9B20-BA773CB59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F843-1F1A-41B5-8C65-7366FAED4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3F7D-DB17-419A-A8E1-080EB008E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C6FF-E623-408D-B19E-E5E78FA38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F76E-ED38-4410-AFB3-6CF41A8A4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DDF8-F821-45A3-9D88-8DB93E752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142884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2971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88C-7446-48A8-A4E8-E4F68A87AC5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00200" y="457200"/>
            <a:ext cx="7164360" cy="612720"/>
            <a:chOff x="1600200" y="457200"/>
            <a:chExt cx="7164360" cy="612720"/>
          </a:xfrm>
        </p:grpSpPr>
        <p:sp>
          <p:nvSpPr>
            <p:cNvPr id="6" name=""/>
            <p:cNvSpPr/>
            <p:nvPr/>
          </p:nvSpPr>
          <p:spPr>
            <a:xfrm>
              <a:off x="8597880" y="45720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0200" y="1042920"/>
              <a:ext cx="70819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64480" y="60336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dpg_text_treatment" descr=""/>
          <p:cNvPicPr/>
          <p:nvPr/>
        </p:nvPicPr>
        <p:blipFill>
          <a:blip r:embed="rId3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1429920" y="651024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March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16002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BIS-X and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BIS Macro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34286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: Stephen P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&amp;T group, IBIS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ed by: Arpad Mura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62485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B5FB-4535-4C39-8045-5A6C7C24E1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Blocks Beyond Sp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now for Supporting drivers &amp; receiver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complex device for backward compati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h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enerates a digital pulse, reshaped from it’s in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ut = in, but delay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Controlled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(likely) extensions for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oltage source (“B” e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current source (“B” e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or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or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differenti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7409-651C-4742-8D00-6A70C9CBBC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Extended (.dot)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Creation/Functionality 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ime value expression) – generates a trigger event when condition is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eclares node name to be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nherit properties of another model or bas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/Visibilit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list of local symbols that can be made visible to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ime value expression) – notifies user when some event happens, used for error checking and the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static logic expression) – check for a condition to be true, again for error che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281E-D534-42DB-BA3B-8536E53E3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Extended (.dot)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static logic ex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static logic ex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ex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ointer to data structure) – sets up an array of objects tied to a keyword.  Used to implement driver schedule and submodel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04D4-E4AE-4C50-B58C-1BB6AB571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 Based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equations (Berkley B-element) not supported directly in initi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ing for quick implementation/adoption using existing techn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 support planned for future release based on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no reason one can’t turn equations into tables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hing in IBIS-ML prevents the support of equation based modeling (i.e. support for Berkley B-element) in future re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20FB-65FC-4796-934F-B1741A4DF2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IS 3.2 has been implemented in IBIS-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group meets bi-weekly to work on writing formal specification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IBIS-X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s Language Reference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work remains on die interconnec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ng with IBIS connector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additional 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6EB0-8C7F-4902-A296-6CCBD5478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BIS up against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lagging new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upport for return path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upport for coupled packag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on horizon for receiv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for frequency 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IS-X Goal: provide the path to a ‘next generation’ I/O buffer descrip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1F60-ACF2-4993-9604-E8398C363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good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S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support for board level (behavioral) sim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format, structure to fix 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ability, flexibility (add nodal connectivity, get away from fixed assumptions and key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ccurate modeling of SSO, power delivery and packag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behavioral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generalized equations, S-parame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2B6E-34E0-4D7B-BB44-A8B558F5B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BIS-X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29528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al descriptions are a neces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interconnect (pin - pad - buffer)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delivery and pin-pi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for black 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language for creating new model prot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, extendable, allows existing IBIS models to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a wide variety of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ttom Line: user will have the ability to create his/her own custom buffer (model_type), and specify a package model in a standard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51A6-AE56-401F-B3FC-644CFFE1EC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Model Type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reates a new model type using the [Define]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escribes new type using macro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onnect L/R/C elements and sources, data/values are paramete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flow statements/operator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tatements for trigger ev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then instantiates model in .ibs file ([Model] statement) and supplies data for that instance, just a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7061-8558-45DF-97D2-8771CFF8B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define the mode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16240" y="1219320"/>
          <a:ext cx="3886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1219320"/>
                    <a:ext cx="3886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143080" y="3922560"/>
            <a:ext cx="6032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Define Model] simple_driver (gnd, pin,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de 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ource (T1 gnd) V=Rise[T-TR] || Fall[T-T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source (pin T1) R=Rsrc[T-TR] || Rsrc[T-T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igger TR (Logic(control)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igger TF (Logic(control)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0C8C-C52B-4EC2-8939-C84872A5B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supply the dat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292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Model] driver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_type simple_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i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Fal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sr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D61B-505D-4BF8-83EB-84801B943F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Compati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or (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v = f(I,t);  r=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or (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q = f(v,t); c=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ctor (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lux = f(I,t); L= 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VS (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Vout = f(Vin,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S 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Iout = f(Vin,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urce (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ixed I or I=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ource (V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ixed V or V=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ode (D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asic diode, subset of Spice parame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ckt (X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sed for submodel, driver schedu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 (some, but not all SPICE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Resistance (VC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R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Admittance (VC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Y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Cap (VCCA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C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oupled transmission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pled transmission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BB55-6DD3-4555-8AC2-F70F3E631D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Element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for elements should b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&gt; &lt;instance name&gt; (&lt;nodes&gt;) &lt;value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or  R12  (2  4)  R=1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an take on sever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value (10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 symbolic value (C_co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-in symbolic value (V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the value of an internal variable, such a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D table symbolic (I=Pullup[V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table symbolic (I=Pullup[V,T] or I=Series_mosfet[Vc,Vo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s can be made of combinations of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s are: +, -, *, || with usual bind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 is evaluated as in Perl, allows for optional data sets /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:  Vx (Vcc gnd)  V=(Pullup Reference) || (Voltage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B225-3ECE-499F-B175-18D99C2F08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2:08:00Z</dcterms:created>
  <dc:creator>sjpeters</dc:creator>
  <dc:description/>
  <dc:language>en-US</dc:language>
  <cp:lastModifiedBy>bobr</cp:lastModifiedBy>
  <dcterms:modified xsi:type="dcterms:W3CDTF">2001-06-23T00:07:46Z</dcterms:modified>
  <cp:revision>40</cp:revision>
  <dc:subject/>
  <dc:title>PowerPoint Presentation</dc:title>
</cp:coreProperties>
</file>