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125A-EF30-4D00-9527-EB12DFCFD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1DC6-6E1C-46E0-A598-A81F9343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E1AB-E647-46CE-8CFC-ADCA80419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63D5-16AA-4E0C-A89A-2E69F4B78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77B9-7C5E-4095-B724-33F31CC9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BF1C-A128-41D4-8310-DBB40E47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03D5-73CB-4F31-96FB-1C91C943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A06B-E33B-44F5-8310-475BD256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7D1A-041D-4C43-A37A-86ACA5AD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50F3-3142-4F4B-A040-3233C655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66A9-9EBE-4EE4-8100-79061B6B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A076-687B-4990-AA57-8BC89AF3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322E-FF4C-46D2-B6DE-8A3F2193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13D5-904F-44A5-86DB-C3137297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259E-D3C5-42A4-A828-DFFAFB37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9C16-CE17-4243-8EC1-C38CF0AF1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3D46-48C1-4EDE-AE26-FB934283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2F75-653A-438D-9834-B0E73B20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0230-5134-42E6-B1D0-6A579FC6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AE75-0FF5-41A7-AE60-EB116789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0C27-2EC0-4419-9E58-08797B87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6E13-F845-46BC-9121-36EF1756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FF24-BDF4-4B09-B03C-AC271CE1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1C22-0721-46CA-9B34-EED9744F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IBIS Summit – Jun ‘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995F-19C0-4E6B-8E42-E74ADD60F34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122E-0E8A-4A8F-8088-EE7CDE394B7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640C-5B30-4ABB-AD3D-E06F8613E85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IBIS-X Specifica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tephen Peters,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ntel Corp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verview of the IBIS-X Docu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7 major technical sec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eneral Syntax Rules and Guideli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BIS File Header &amp; Global Keywords (2 section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onent Information (unchanged from current IBI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ew Model Definition (replaces [Model] documentatio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ckage Modeling (placeholder for new .pkg mode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BD (unchanged from current IBI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BIS-X spec does not address macro language, but will include a section on “data structures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4CE2-9348-4E52-B646-937E477857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eral Syntax Rules &amp; Guideli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ke connector spec, seek to remove lim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20 character lines (rule 7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rify usage, resolve ambigu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ded ‘arguments’ to keywords and explicitly defined ‘text blocks’ &amp; their termin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plicit definition of ‘sections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low text before [Begin Header] and after [End] (rule 13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so, added a keyword tree diagra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4285-8234-4586-AA03-6F0F41B9C4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BIS File Header &amp; Global Keywo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me intent, with a few addi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ded begin/end blocking and IBIS-X specific version mark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[Begin Header], [End Header], [IBIS-X Ver]</a:t>
            </a: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ded Support for model library include func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[Include Library]</a:t>
            </a: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eal with pride” connector spec ide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ded support and redistribution information key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[Support], [Redistribution], [Redistribution Text]</a:t>
            </a: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ed a keyword for “include text” fun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[Include] includes a text file, is global is scop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C3FE-FF0F-4FAF-AFBB-60F775A605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onent &amp; “Model” Se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onent section basically unchanged from current IBIS 3.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larified that [Model Selector] is global in scop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dded [End Component] to match [Begin Component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w “Models” section documents the model definition proc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troduces concept of object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classe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types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thin a clas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[Define “class name”] mechanism for creating a new object (model)</a:t>
            </a:r>
            <a:endParaRPr b="0" i="1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scusses object template and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customizing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an objec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[Begin “class name”] keyword for supplying data to object (model)</a:t>
            </a:r>
            <a:endParaRPr b="0" i="1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eed to add discussion on model data ‘types and structures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F750-7E7F-4EDE-9E86-46D6CB5183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ckage Modeling &amp; EBD sec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ckage modeling is part of IBIS-X spe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BIS-X will incorporate, by reference, current .pkg file syntax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tion is placeholder for nodal-based package mode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trical Board Description (EBD) is incorporated unchanged from IBIS 3.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BDs still serves a useful purpo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644F-AC82-45DF-9927-A4A4CBEB4C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IBIS-X?  How is it different from IBIS 3.2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wards Compatibility Concer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Introduction to Defining New Mod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alk thru of the IBIS-X document itsel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AFB9-C1C7-4713-ADF5-1228B7C936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IBIS-X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than just a ‘template tweak’ of IBIS 3.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rmalizes fundamental idea behind IBIS: separation of model data from the EDA tool algorithm(s) that processes da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IBIS-X introduces the mechanism whereby a file creator can tell the EDA tool how to process the data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– i.e. the user can now “create a model” by using a new [Define] keyword and a nodal-based ‘macro language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BIS-X will eventually include a nodal-based package descrip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BIS-X spec itself still focuses on the model data transfer standar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BIS Macro Language (IBIS-ML) is addressed in a separate Language Reference Manual (LRM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F21F-69FF-4683-8EA3-E82059D02C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wards Compatibil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isting IBIS keywords are unchang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BIS-X capable EDA tool can still parse a 3.2 file with a 3.2 parser (or IBIS-X parser in ‘compatibility mode’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All existing models still work with IBIS-X (see below)</a:t>
            </a: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yntax changes to data template format are transparent to operation of simul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nsition between IBIS -&gt; IBIS-X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BIS Open Forum will (must!) provi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IBIS-X parser and (by default) IBIS-X to “SPICE” converter</a:t>
            </a: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Library of all existing IBIS 3.2 model types written in IBIS-ML</a:t>
            </a: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Existing IBIS 3.2 models documented in Library guide</a:t>
            </a: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7EAE-59D1-4983-AC81-FA9AC23088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troduction to Creating New Model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 I/O buffer model is a specific example of a simulation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imulations objects are grouped into “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classes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”, different objects within a class can be of different “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type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[Model] is a class of object, while “input”, “output”, “3-state”, etc. are of different types within the cla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Notice: objects are not limited to I/O buffer models.  [Test Load] is a class of simulation object, as is [Submodel]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r can create a new type within the ‘Model’ class, or create a whole new cla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3213-9289-45F9-93BC-F8A7C4FC63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ating New Model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ject (model) creation is a two step pro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structure and behavior of a simulation object is defined using the [Define “class name”] keyword and described using IBIS-ML constructs – I.e. the model creator builds an object “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empla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IBIS-X file then supplies a specific set of simulation data for that object – I.e. the file creator “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customize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” an object templ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be used, an object has to be both ‘defined’ and ‘customized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BD71-0057-4D69-BBD5-FD4AD773FB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[Define “class name”] keywor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yntax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[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fine “class_name”] “type name” (&lt;optional port list&gt;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IBIS-ML Construc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End “class name”] “type name’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[Define] keyword can be used in IBIS-X file itself – or – [Defines] are collected into 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library fil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(‘included’ into an IBIS-X fi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nce an object is defined, it is customized as show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Begin “class name”] “object name”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name”_type  “type name”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optional data specific to this instanc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End “class name”]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bject customization takes place in the IBIS-X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6FBE-631D-43E0-8D57-ACC356F1E3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ecific Example (from section 8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reate a template for a differential receiver (new class and type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[Define Receiver] differential (in_pos, in_neg, pwr, gnd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|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| IBIS-ML construc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|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[End Reciever] differentia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o create object named ‘data_receiver’, customize this templa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[Begin Receiver] data_receiv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Receiver_type differentia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|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| data set for this mode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|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[End receiver]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2E44-8293-42AE-85A4-8BFD8BDC80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ecific Example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o create a second object ‘data_receiver_alt’ from same template…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[Begin Receiver] data_receiver_al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Receiver_type differentia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|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| data set specific to data_receiver_al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|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[End receiver]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User now has two models (objects): ‘data_receiver’ and ‘data_receiver_alt’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6E3B-2B86-48D1-808F-54089E07F5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5T23:57:15Z</dcterms:created>
  <dc:creator>sjpeters</dc:creator>
  <dc:description/>
  <dc:language>en-US</dc:language>
  <cp:lastModifiedBy>bobr</cp:lastModifiedBy>
  <dcterms:modified xsi:type="dcterms:W3CDTF">2001-06-23T00:03:55Z</dcterms:modified>
  <cp:revision>33</cp:revision>
  <dc:subject/>
  <dc:title>IBIS Futures Group  Update on IBIS-X</dc:title>
</cp:coreProperties>
</file>