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B5BC-3A72-486C-B651-F15F5F246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B19F-6E3B-4F95-BC79-97A05E37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4EA7-BA1A-470D-B882-2AE57196B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B2E3-FE97-4B66-83CC-B6C0198A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6F5E-553B-4A27-964C-29D147FD5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4503-BA71-4DB6-9B6C-9317068F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7ACE-99FC-4950-9339-5B68B34B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E6B7-3571-46DF-8FEE-35C45A5B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97FE-8B63-496C-A5F4-F5B4CC59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2896-8229-4497-99B2-260D7975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6234-68E4-4AF4-A182-9BAD20A2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634F-F7DE-40DF-BEA1-3C96F216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D9EB-352E-43D3-81C0-3A6EFA26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0F3E-DC8B-4372-B9AF-F60A1EFF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6E9E-3778-43F5-B731-06B244BA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9EBA-DB01-4CF4-8568-46247281F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A2A1-C358-437C-A54B-312ACAC60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EA22-AFDA-4C97-9176-01B849EE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8E09-0A5A-4232-8DE3-39D5C054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CFCF-EE71-41B5-A839-C224CEF5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6710-EA7E-46FA-94B0-6CA9DFFF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A0D0-DC30-4B69-9602-D84BF91D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6A22-F9E5-48A3-801E-8C663872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D550-B833-464F-AE11-9C2110D3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IBIS Summit – Jun ‘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83D1-63E3-450F-BD57-A7AD3388F83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B4C2-ECAA-4453-87FE-52AE8E5A8BF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043A-6FDE-4EF4-9C2A-75CFA97326B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stephen.peters@intel.co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IBIS Futures Group 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Update on IBIS-X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tephen Peters,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Intel Corp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BIS Futures Committee Memb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dence: Lynne Gre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BM: Michael Coh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novEDA: John Angul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dependent: Al Dav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l: Arpad Muranyi, Stephen Peters (chair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ntor Graphics: Bob Ro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xas Instruments: Moshiul Haq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3F89-DFF8-4524-9915-2F50F71321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urrent IBIS-X Statu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v 0.6 of IBIS-X spec is now available 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p level spec is the first of three planned docum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ader &amp; Component sections documented, soli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ew model creation process documented, soli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cro Language (IBIS-ML) LRM is shaping 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 development, *rough* draft is availa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brary Guide not started y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sically, a reorganization of existing IBIS [Model] section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work yet on nodal based package mode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B800-5F16-4ADA-B29D-4818DF77C8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her Proje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ign Connector Spec with IBIS-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oth specs now share a common head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mon keywords use same word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mittee working with Gus Panella (Molex) to bring format/editorial consistency to both spe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I backdoor to IB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work.  Needs a champio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8DBB-0945-4F2A-BCEF-A842477B72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mmediate Goals &amp; Future Pla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plete the IBIS-ML Language Reference Manual (LRM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orking group meets every other we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st technical details worked out, handful of remaining issues regarding min/typ/max, tab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rt work on nodal based package mod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inue driving Connector Spe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ant to contribute?  Where to get document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e Stephen Peters (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stephen.peters@intel.com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isit the website: http://www.eda.org/pub/ibis/futures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A13D-4FCD-48AE-BBA5-BE12778F17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5T23:57:15Z</dcterms:created>
  <dc:creator>sjpeters</dc:creator>
  <dc:description/>
  <dc:language>en-US</dc:language>
  <cp:lastModifiedBy>bobr</cp:lastModifiedBy>
  <dcterms:modified xsi:type="dcterms:W3CDTF">2001-06-23T00:06:09Z</dcterms:modified>
  <cp:revision>13</cp:revision>
  <dc:subject/>
  <dc:title>IBIS Futures Group  Update on IBIS-X</dc:title>
</cp:coreProperties>
</file>