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7107-9D83-4075-977B-85EABB5FA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6734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D725-2DD6-4A2C-B102-2B33B5224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81B5-320F-45B5-943C-7BF49F5A0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5238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5238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6734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6734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6734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DE29-B021-4C5B-86D5-E05E875E3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307440"/>
            <a:ext cx="823896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A36C-6475-43B4-B291-419843FCE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6734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6734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5238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5238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6734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6734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6734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1529-14A7-42D1-8ABD-A6A17684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FB39-F63D-4087-A0DA-1CDD9AE82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36EA-6F18-4127-BF19-7F5C19AB2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07440"/>
            <a:ext cx="823896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525A-84AF-42CB-AC06-9E19CBBCC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09DD-D0F1-4D8B-809B-E69C1A9EA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6734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080B-ED2F-46AA-A9E3-2F79A8090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5238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6734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7490-82B3-418F-A98A-E4EE5E9CE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7440"/>
            <a:ext cx="8238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3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spcBef>
                <a:spcPts val="601"/>
              </a:spcBef>
              <a:buClr>
                <a:srgbClr val="0033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28600">
              <a:spcBef>
                <a:spcPts val="601"/>
              </a:spcBef>
              <a:buClr>
                <a:srgbClr val="003366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0080" indent="-228600">
              <a:spcBef>
                <a:spcPts val="601"/>
              </a:spcBef>
              <a:buClr>
                <a:srgbClr val="003366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Univers 55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Univers 55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Univers 55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62480" y="6323040"/>
            <a:ext cx="48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9FEB-FE78-423C-9252-C2729FCBD741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49280" y="5986440"/>
            <a:ext cx="2158920" cy="681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058320" y="1274760"/>
            <a:ext cx="182520" cy="182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98280" y="1276200"/>
            <a:ext cx="182520" cy="182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8400" algn="ctr">
              <a:spcBef>
                <a:spcPts val="451"/>
              </a:spcBef>
              <a:buClr>
                <a:srgbClr val="003366"/>
              </a:buClr>
              <a:buSzPct val="6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1480" algn="ctr">
              <a:spcBef>
                <a:spcPts val="451"/>
              </a:spcBef>
              <a:buClr>
                <a:srgbClr val="003366"/>
              </a:buClr>
              <a:buSzPct val="6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Univers 55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Univers 55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Univers 55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32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MI Parameters for I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8520" y="1446120"/>
            <a:ext cx="6519960" cy="205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44956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uy de Bur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ed EMI paramet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Dissipation Capacita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spcBef>
                <a:spcPts val="349"/>
              </a:spcBef>
              <a:buClr>
                <a:srgbClr val="003366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the internal parasitic capacitance + the equivalent capacitance associated with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ough curr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n both transistors are momentarily conducting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spcBef>
                <a:spcPts val="349"/>
              </a:spcBef>
              <a:buClr>
                <a:srgbClr val="003366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is given in the datashee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spcBef>
                <a:spcPts val="349"/>
              </a:spcBef>
              <a:buClr>
                <a:srgbClr val="003366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calculate the noise voltage on the power bus ( I(t) = Ceff dv/dt  where Ceff is the total decoupling capacitance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ed by package thickn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for loop area calc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62480" y="632304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CA7C-9C56-437C-AED3-7AB083EF5BD2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AEC1-EF7C-4D75-9008-35CDB30979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ed EMI paramet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SINK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sink dimensions (Length, Width, Thickness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s used to calculate capacitanc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need to indicate which components have a heatsink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sinks can act as antennas and are driven by potential differences on the power plan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_PI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s a model name to a pin of a connecto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_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s parameters to CON_PIN. Parameters indicate whether the pin is unshielded, shielded, connected to the shield, has a ferrite filter, and has an explicit filter capacito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to calculate an antenna impedance for the p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62480" y="632304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356-DEDF-4DA9-9927-FB9B7E8969F0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1342-3944-4507-A619-B52A75598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ed EMI parameters -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br>
              <a:rPr sz="18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[Component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_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D      6.4                # p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D   61.5                # mA/MH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br>
              <a:rPr sz="16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[Component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_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_HEIGHT          78.74                                                     # mi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SINK       L: 590.55   W: 590.55    T: 472:44               # mi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62480" y="632304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9423-15A0-4E13-BFF4-2FBEF906B113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494C-D83D-4A2B-93B0-CAB490A69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ed EMI parameters -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400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br>
              <a:rPr sz="16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[Component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_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PIN  1  sig_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PIN  2  sig_shiel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PIN  3  sig_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PIN  G1  grounded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[Model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_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SPEC  unshielded  C: 6.0         # unshielded pin, C in pF</a:t>
            </a:r>
            <a:br>
              <a:rPr sz="16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[Model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_shiel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SPEC  is_to_shield  C: 9.0       # pin connected to the shielded, C in pF</a:t>
            </a:r>
            <a:br>
              <a:rPr sz="16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[Model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_SPEC  is_shielded  C: 7.0        # individually shielded pin, C in p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632304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9E1-67A7-4555-90F8-4D4F1D5652FC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A468-40BD-40DE-8DD8-BD15C4909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at’s next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499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roper SI units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e-12F instead of pF, Metric units, etc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51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a more detailed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spcBef>
                <a:spcPts val="400"/>
              </a:spcBef>
              <a:buClr>
                <a:srgbClr val="003366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add more details as to why these parameters are importa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spcBef>
                <a:spcPts val="400"/>
              </a:spcBef>
              <a:buClr>
                <a:srgbClr val="003366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measure the paramet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51"/>
              </a:spcBef>
              <a:buClr>
                <a:srgbClr val="00395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a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62480" y="632304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E31E-D5DC-406F-B712-BF58C25321D9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C9F7-D460-4D9B-A4EF-111BEDECC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3:37:29Z</dcterms:created>
  <dc:creator>Warren Hayden</dc:creator>
  <dc:description/>
  <dc:language>en-US</dc:language>
  <cp:lastModifiedBy>guy</cp:lastModifiedBy>
  <cp:lastPrinted>2000-02-14T16:57:20Z</cp:lastPrinted>
  <dcterms:modified xsi:type="dcterms:W3CDTF">2001-06-25T21:05:20Z</dcterms:modified>
  <cp:revision>52</cp:revision>
  <dc:subject/>
  <dc:title>Design Capture Products</dc:title>
</cp:coreProperties>
</file>