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5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D196-8AEC-46A0-97BB-10613BED3F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Img"/>
          </p:nvPr>
        </p:nvSpPr>
        <p:spPr>
          <a:xfrm>
            <a:off x="1217160" y="698400"/>
            <a:ext cx="4573800" cy="343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body"/>
          </p:nvPr>
        </p:nvSpPr>
        <p:spPr>
          <a:xfrm>
            <a:off x="933120" y="4376520"/>
            <a:ext cx="514188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17520" y="698400"/>
            <a:ext cx="4573800" cy="3430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120" y="4376520"/>
            <a:ext cx="514188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- Common Access Method - SCSI software layering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 - Serial Storage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92004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4480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528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92004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4480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62F-8DB7-40AB-BCBE-3CECFE7D9A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8B3-9CA1-46F9-B898-1CC87E62DC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1FB-1573-4BE9-9D61-605542DCC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96F-173F-4B6F-B66C-CBA5024A5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5CF-5A2E-42F8-ADEF-2FDCA9432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40000" y="398160"/>
            <a:ext cx="770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9F4-DB7C-489C-B580-396E7903F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3F4-0A63-4F6A-A504-DA7959FDF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309-8FC7-4869-BFA9-88D3FDA5B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6A5-C00C-410E-9E0E-C3D439C51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F8D-57D6-4703-9C6A-92E4E716D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E63-C9AD-4F70-8AF7-8164B9C7A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2004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4800" y="21337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528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2004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4800" y="42033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ECE-CE38-4EEA-87B1-C7567AF49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440000" y="398160"/>
            <a:ext cx="770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73280" y="42033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3280" y="21337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033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37240"/>
            <a:ext cx="9142560" cy="3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dd1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82960">
              <a:lnSpc>
                <a:spcPct val="87000"/>
              </a:lnSpc>
              <a:spcBef>
                <a:spcPts val="119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7000"/>
              </a:lnSpc>
              <a:spcBef>
                <a:spcPts val="1199"/>
              </a:spcBef>
              <a:buClr>
                <a:srgbClr val="003399"/>
              </a:buClr>
              <a:buSzPct val="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357560" indent="-2260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697400" indent="-22608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697400" indent="-226080">
              <a:lnSpc>
                <a:spcPct val="87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697400" indent="-226080">
              <a:lnSpc>
                <a:spcPct val="87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5562720" y="0"/>
            <a:ext cx="3579840" cy="42876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36760" y="1527120"/>
            <a:ext cx="7705800" cy="0"/>
          </a:xfrm>
          <a:prstGeom prst="line">
            <a:avLst/>
          </a:prstGeom>
          <a:ln w="12600">
            <a:solidFill>
              <a:srgbClr val="cb9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5560920" cy="428760"/>
          </a:xfrm>
          <a:prstGeom prst="rect">
            <a:avLst/>
          </a:prstGeom>
          <a:gradFill rotWithShape="0">
            <a:gsLst>
              <a:gs pos="0">
                <a:srgbClr val="0e2b6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38120"/>
            <a:ext cx="3579840" cy="47520"/>
          </a:xfrm>
          <a:prstGeom prst="rect">
            <a:avLst/>
          </a:prstGeom>
          <a:solidFill>
            <a:srgbClr val="cb9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38120"/>
            <a:ext cx="5560920" cy="47520"/>
          </a:xfrm>
          <a:prstGeom prst="rect">
            <a:avLst/>
          </a:prstGeom>
          <a:gradFill rotWithShape="0">
            <a:gsLst>
              <a:gs pos="0">
                <a:srgbClr val="cb902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40" bIns="3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52040" y="57960"/>
            <a:ext cx="2595960" cy="24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Communications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2920" y="6116760"/>
            <a:ext cx="698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49400" y="643248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24520" y="3214800"/>
            <a:ext cx="13273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0720" y="627120"/>
            <a:ext cx="789120" cy="80784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5760" y="665280"/>
            <a:ext cx="1326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88920" y="665280"/>
            <a:ext cx="59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2b64"/>
                </a:solidFill>
                <a:latin typeface="Times New Roman"/>
              </a:rPr>
              <a:t>L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686800" y="152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304-5257-4674-A388-3343FB0F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2781360" y="0"/>
            <a:ext cx="3579840" cy="762120"/>
          </a:xfrm>
          <a:prstGeom prst="rect">
            <a:avLst/>
          </a:prstGeom>
          <a:solidFill>
            <a:srgbClr val="002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7560" y="3111480"/>
            <a:ext cx="8066160" cy="0"/>
          </a:xfrm>
          <a:prstGeom prst="line">
            <a:avLst/>
          </a:prstGeom>
          <a:ln w="12600">
            <a:solidFill>
              <a:srgbClr val="cb9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81360" cy="762120"/>
          </a:xfrm>
          <a:prstGeom prst="rect">
            <a:avLst/>
          </a:prstGeom>
          <a:gradFill rotWithShape="0">
            <a:gsLst>
              <a:gs pos="0">
                <a:srgbClr val="00267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1360" y="760320"/>
            <a:ext cx="3579840" cy="47880"/>
          </a:xfrm>
          <a:prstGeom prst="rect">
            <a:avLst/>
          </a:prstGeom>
          <a:solidFill>
            <a:srgbClr val="cb9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0320"/>
            <a:ext cx="2781360" cy="47880"/>
          </a:xfrm>
          <a:prstGeom prst="rect">
            <a:avLst/>
          </a:prstGeom>
          <a:gradFill rotWithShape="0">
            <a:gsLst>
              <a:gs pos="0">
                <a:srgbClr val="cb902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1200" y="0"/>
            <a:ext cx="27813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6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1200" y="760320"/>
            <a:ext cx="2781360" cy="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90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600" bIns="36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920" y="6116760"/>
            <a:ext cx="698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9400" y="6445080"/>
            <a:ext cx="6858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7960" y="5908680"/>
            <a:ext cx="789120" cy="808200"/>
          </a:xfrm>
          <a:prstGeom prst="rect">
            <a:avLst/>
          </a:prstGeom>
          <a:solidFill>
            <a:srgbClr val="0e2b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53000" y="5946840"/>
            <a:ext cx="1326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8320" y="5946840"/>
            <a:ext cx="592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2b64"/>
                </a:solidFill>
                <a:latin typeface="Times New Roman"/>
              </a:rPr>
              <a:t>L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475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0"/>
            <a:ext cx="9140760" cy="685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4920"/>
            <a:ext cx="5410080" cy="459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munications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87000"/>
              </a:lnSpc>
              <a:spcBef>
                <a:spcPts val="1049"/>
              </a:spcBef>
              <a:buClr>
                <a:srgbClr val="003399"/>
              </a:buClr>
              <a:buSzPct val="5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3270240"/>
            <a:ext cx="686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10 &amp; T11 Committee Modeling Updat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/Fibre Channel and IBIS Futu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80960" y="175212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xt generation of SCSI at 640 Mbyte/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d release in 200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use transmitter fallback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drive may extend past 1st b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-27432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llowing generations at 1.2 Gbytes/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development with release in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tly in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-27432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xt generation of Fibre Chann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 GHz / 50ps rise time sign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7432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hasis may be encoding rel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 and Fibre Channel Specific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CSI is developed by T10, and Fibre Channel is developed by T11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10 &amp; T11 are Technical Committees of the National Committee for Information Technology Standards (NCIT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CITS is accredited by and operates under rules approved by the American National Standards Institute (ANSI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and Fibre Channel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ing of devices, cables, connectors, termina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gnal performance information exchange standar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thods for extracting electrical and signal attrib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ptable modeling metho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ceptable simulation metho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ysical environment common simulation method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 hoc group of T1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sked to write an ANSI/ NCITS Technical Repor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ical report is in final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be forwarded to T10 for letter ballot in July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ct acceptance after public review and com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sked to write an American National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d to begin development August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d completion for September 200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sion and amplification of the Technical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bre Channel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 hoc group of T11.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7000"/>
              </a:lnSpc>
              <a:spcBef>
                <a:spcPts val="10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sked to write a modeling document similar to the SCSI Signal Modeling Technical Repor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cument is based heavily upon the SCSI modeling docume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ct completion by September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be forwarded to T11 for letter ballo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ct acceptance after public review an com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901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ct general release in January 200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SI  and Fibre Channel Signal Model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oups have selected IBIS as the data exchange format 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miconductor device models -SCSI &amp; Fibre Chann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rminator models - SCS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nector models (when codified) - SCS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BIS and SCS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80960" y="1828800"/>
            <a:ext cx="7763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3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BIS 3.2 can be used for present SCSI devic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19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ngle-ended mode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19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gh voltage differential mode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19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w voltage differential mode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BIS and SCSI Fallback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7000"/>
              </a:lnSpc>
              <a:spcBef>
                <a:spcPts val="134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allback can not be completely modeled in IBIS 3.2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s driver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limited to absolute time relationships between emphasis and fallback st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eds bit position dependency not tim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8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ture may include overdrive past 1st b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3981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BIS and Fibre Chann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rns that IBIS is not robust enough to model 1GHz / 750ps rise time signa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7000"/>
              </a:lnSpc>
              <a:spcBef>
                <a:spcPts val="1199"/>
              </a:spcBef>
              <a:buClr>
                <a:srgbClr val="e28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mphasis cannot be completely modeled in IBIS 3.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s driver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limited to absolute time relationships between emphasis and de-emphasis st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eds bit position dependency not tim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85840">
              <a:lnSpc>
                <a:spcPct val="77000"/>
              </a:lnSpc>
              <a:spcBef>
                <a:spcPts val="1049"/>
              </a:spcBef>
              <a:buClr>
                <a:srgbClr val="688353"/>
              </a:buClr>
              <a:buSzPct val="8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quires emphasis past 1st b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8:15:23Z</dcterms:created>
  <dc:creator>KREEVES</dc:creator>
  <dc:description/>
  <cp:keywords>Embedded Systems Show ESS London ARM MIPS CPU subsystem LSI Logic TinyRISC MiniRISC ARM7 ARM9 SerialICE-2 EJTAG development tools</cp:keywords>
  <dc:language>en-US</dc:language>
  <cp:lastModifiedBy>Larry Barnes</cp:lastModifiedBy>
  <cp:lastPrinted>1999-08-13T13:34:46Z</cp:lastPrinted>
  <dcterms:modified xsi:type="dcterms:W3CDTF">2001-06-20T15:03:46Z</dcterms:modified>
  <cp:revision>14</cp:revision>
  <dc:subject>ESS - London</dc:subject>
  <dc:title>Storage Standard Products Division </dc:title>
</cp:coreProperties>
</file>