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2714-0E42-4A67-8480-7EC3223C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24B-5BAD-425E-A3B6-DF93C291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C3C3-217B-4ACD-895E-A6F88BB2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1F8C-06CD-4A59-991D-14337A90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7537-6743-4339-9420-86F05F6F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5D02-2237-4BA4-954B-81FE0D7C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05EB-29DC-4C53-B06D-B630F03C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01B7-F99B-4B29-BB21-E98397E3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2A52-7800-4757-A9E2-70F7366D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0F67-B21F-45AD-B5DA-6334E907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847A-F8AA-4FC7-89F3-CB2C7122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DBF0-8110-4D7F-864A-28E640A6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E616-DDAB-4F8F-8A27-C73441C72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4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60582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BIS Repor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360" y="236232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or Graphics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IS Summi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Angeles,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8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Meeting Today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and Election of Officers 2000-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or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ing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Activities 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s and Formats - HDLs, XML, Macro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nd Discus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s and Ad Hoc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tatus Update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tee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1993, Version 1.1, 2.1 (ANSI/EIA-65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Members, 350 -400 on refl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Meetings and Web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on Standards and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 3.2 August 1999 - ANSI/EIA-656-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chk3 Version 3.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C 62014-1 (IBIS Ver 3.2) - ratified, awaiting pub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Users Group released Connector Specification and Accuracy Hand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ibis3 activity dr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ctivities &amp; Issu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or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da.org/pub/ibis/connector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for IBIS Version 4.0 Ad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EC Influence - Early IBIS Version 4.0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-X” and other 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European TC93 WG6 EMC/EMI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EIAJ IMIC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JEDEC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pad Muranyi IBIS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nector Featur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Connector Specification - some high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Line and Multi-line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caded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ath mat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or model autogeneration for a given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d, unmated variations, multiple 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and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ax review being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fy Version 1.0 in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e connector parser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BIS Ver 4.0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D62 - Receiver Thresh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other pending bi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N - Dr. Unger’s proposal will be consid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JEDEC requests to be discu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comp range limit for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ial coupling at the pad to pin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- Ratify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e ibischk4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bischk3 bug fi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BIS-X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Future under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-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s ports for nodal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 features of IBIS, but not directly compat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rdxxx” for internal die inter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-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bilit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group meeting March 30, June 25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- unify the ideas and initiate a draft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BIS Impac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35 semiconductor vendors with Web site links &amp; several others without links - about 2,000 IBIS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-12 commercial &amp; EDA IBIS vendors - 11,000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s produced libraries (&amp; internal IBIS spe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d from Spice, measurement, translation &amp; data 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5 EDA “behavioral” vendors, 5 “Spice”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rcial and free IBIS model generatio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ly articles &amp; references in magaz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nsorship of Design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, non-proprietary format - Well Established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11T23:17:32Z</dcterms:created>
  <dc:creator/>
  <dc:description/>
  <dc:language>en-US</dc:language>
  <cp:lastModifiedBy>bobr</cp:lastModifiedBy>
  <cp:lastPrinted>2000-06-06T14:36:42Z</cp:lastPrinted>
  <dcterms:modified xsi:type="dcterms:W3CDTF">2000-06-06T14:50:46Z</dcterms:modified>
  <cp:revision>130</cp:revision>
  <dc:subject/>
  <dc:title>IBIS ACCURACY</dc:title>
</cp:coreProperties>
</file>