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F33-45AF-40F8-BF03-70EA0A47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E0C-740A-49C0-AFF7-BCC6E30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F8B-CA16-4AE2-9931-D462F270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3E9-461E-4A48-ABED-C8ED176D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ECB8-E6A1-458A-BCD3-1CB2E432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C258-4345-4AC1-9A29-CC4946E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9DF6-D100-4DB5-8371-EFA50F7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DB1C-3DB9-407E-8560-35A2EF9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0C4E-F62F-4E9B-8C3B-9D1603E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069-BDCB-4CBA-9001-0B45C3E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9E9-BA45-41DF-8469-B0746AB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37F-2D6E-4AC1-9F69-9C90E04C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3FD1-8202-4EB2-A44D-1A0B0A4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AD67-5F09-4F6C-88D2-ECE6A14B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9D1C-ED60-462E-A71F-6637BB7D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456C-39D8-40A7-9A62-900B8168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021-823C-45A0-9B82-80648A1B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AF3-6718-4C44-94CC-748D6DD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277-5CCF-429E-AC2E-35C1C940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AF6-FD0E-4419-92D1-EC63A8B4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3BF-A3EF-47A3-8C46-5E0DF2B7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098-81D9-4326-9552-9952157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4E6-0C6F-464A-9F92-6975724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B49-9260-4757-87F2-086193C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June,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IBIS Summit -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736C-5BC0-4C22-B244-2BD4F880B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94C-35B8-49DC-8528-1DDE740EB9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BIS Futures -- an Upd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ephen Pet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l Corp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ibis_h1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143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BIS Futures Gro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formed, first face-to-face held in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 Peters (Intel) chair, Mike Labonte (Cadence) to lead while Stephen is on sabbati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attendees at first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provide the path to a ‘next generation’ I/O buffer description langu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BIS-X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he good stu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ized 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 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 SI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e support for board level (behavioral) simul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format, structure to fix problem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andability, flexibility (get away from fixed keywo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 accurate modeling of SSO, pwr delivery and pkg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behavioral rece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 S-parameter equations, descri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, Consid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al descriptions are a neces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interconnect (pad &lt;-&gt; pin) descri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 delivery and pin-pin coup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ons for black bo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 language for creating new model proto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, extendable, allows existing IBIS models to be re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a wide variety of descri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Key encryption a necessity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 vendor specific encryption - or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/private key administered by IBI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XHML syntax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6:32:24Z</dcterms:created>
  <dc:creator>MD6 Engineering Computing</dc:creator>
  <dc:description/>
  <dc:language>en-US</dc:language>
  <cp:lastModifiedBy>MD6 Engineering Computing</cp:lastModifiedBy>
  <cp:lastPrinted>2000-06-07T17:55:05Z</cp:lastPrinted>
  <dcterms:modified xsi:type="dcterms:W3CDTF">2000-06-07T19:00:38Z</dcterms:modified>
  <cp:revision>5</cp:revision>
  <dc:subject/>
  <dc:title>IBIS Futures Group Report</dc:title>
</cp:coreProperties>
</file>