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400" y="76320"/>
            <a:ext cx="89503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400" y="1909800"/>
            <a:ext cx="8950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5400" y="4431600"/>
            <a:ext cx="8950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400" y="76320"/>
            <a:ext cx="89503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400" y="1909800"/>
            <a:ext cx="43675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909800"/>
            <a:ext cx="43675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5400" y="4431600"/>
            <a:ext cx="43675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1800" y="4431600"/>
            <a:ext cx="43675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400" y="76320"/>
            <a:ext cx="89503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400" y="1909800"/>
            <a:ext cx="2881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21560" y="1909800"/>
            <a:ext cx="2881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48080" y="1909800"/>
            <a:ext cx="2881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5400" y="4431600"/>
            <a:ext cx="2881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21560" y="4431600"/>
            <a:ext cx="2881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48080" y="4431600"/>
            <a:ext cx="2881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400" y="76320"/>
            <a:ext cx="89503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5400" y="1909800"/>
            <a:ext cx="89503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5400" y="76320"/>
            <a:ext cx="89503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5400" y="1909800"/>
            <a:ext cx="8950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400" y="76320"/>
            <a:ext cx="89503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400" y="1909800"/>
            <a:ext cx="436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1800" y="1909800"/>
            <a:ext cx="436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400" y="76320"/>
            <a:ext cx="89503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5400" y="76320"/>
            <a:ext cx="8950320" cy="78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400" y="76320"/>
            <a:ext cx="89503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400" y="1909800"/>
            <a:ext cx="43675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909800"/>
            <a:ext cx="436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5400" y="4431600"/>
            <a:ext cx="43675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400" y="76320"/>
            <a:ext cx="89503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400" y="1909800"/>
            <a:ext cx="436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1909800"/>
            <a:ext cx="43675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1800" y="4431600"/>
            <a:ext cx="43675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400" y="76320"/>
            <a:ext cx="89503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400" y="1909800"/>
            <a:ext cx="43675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1909800"/>
            <a:ext cx="43675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5400" y="4431600"/>
            <a:ext cx="8950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400" y="76320"/>
            <a:ext cx="89503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400" y="1909800"/>
            <a:ext cx="8950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80560" y="945720"/>
            <a:ext cx="509292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A Macro Language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for IBIS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2173320" y="3710160"/>
            <a:ext cx="28288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Al Davis</a:t>
            </a: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sngStrike" u="sng">
                <a:solidFill>
                  <a:srgbClr val="ffffff"/>
                </a:solidFill>
                <a:uFillTx/>
                <a:latin typeface="Arial"/>
              </a:rPr>
              <a:t>Hyperlynx</a:t>
            </a: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880" y="299880"/>
            <a:ext cx="412776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Basic elements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80" y="2001600"/>
            <a:ext cx="686592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34160" indent="-43416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Spice: R, L, C, V, I, E, G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34160" indent="-43416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Some-Spice extras: vcg, vcr, vccap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34160" indent="-43416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Non-Spice: driver, trigger, alarm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34160" indent="-43416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Programming: assert, define,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34160" indent="-43416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export, if, inherit, local, select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3120" y="230040"/>
            <a:ext cx="581328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What has been added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760" y="1951200"/>
            <a:ext cx="6465960" cy="32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406800" indent="-4068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For receiver modeling: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06800" indent="-4068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Fixed delay (digital or analog)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06800" indent="-4068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Variable delay (digital or analog)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06800" indent="-4068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Analog behavioral blocks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06800" indent="-4068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gain, filter, integrate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06800" indent="-4068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For compatibility (DS &amp; submod):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06800" indent="-4068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Reshape (digital)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06800" indent="-4068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Array (of components)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9160" y="231840"/>
            <a:ext cx="5229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We are considering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8840" y="2012760"/>
            <a:ext cx="4575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402120" indent="-40212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IMEC style transistors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02120" indent="-40212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Transmission lines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09240" y="231480"/>
            <a:ext cx="44499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How it is applied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8840" y="2012760"/>
            <a:ext cx="608364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34160" indent="-43416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[Define Model] in the same file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34160" indent="-43416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[Define Model] in a library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34160" indent="-43416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The standard library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5520" y="268200"/>
            <a:ext cx="433224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Where we stand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320" y="2013120"/>
            <a:ext cx="603864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34160" indent="-43416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100% 3.2 compatibility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34160" indent="-43416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Need more study on receivers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301320"/>
            <a:ext cx="614988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Needs to be addressed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960" y="2011320"/>
            <a:ext cx="666900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92000"/>
          </a:bodyPr>
          <a:p>
            <a:pPr marL="420480" indent="-42048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The "pad to pin" part of the model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0880" y="217080"/>
            <a:ext cx="53496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What are we doing?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840" y="2016000"/>
            <a:ext cx="372780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38840" indent="-43884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Had one meeting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38840" indent="-43884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Phone meetings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38840" indent="-43884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Experiment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91920" y="291600"/>
            <a:ext cx="20098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7480" y="2009880"/>
            <a:ext cx="655776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Swiss"/>
            </a:endParaRPr>
          </a:p>
          <a:p>
            <a:pPr marL="452520" indent="-45252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s"/>
              </a:rPr>
              <a:t>Review, from DesignCon.</a:t>
            </a:r>
            <a:endParaRPr b="0" lang="en-US" sz="2800" spc="-1" strike="noStrike">
              <a:solidFill>
                <a:srgbClr val="000000"/>
              </a:solidFill>
              <a:latin typeface="Swiss"/>
            </a:endParaRPr>
          </a:p>
          <a:p>
            <a:pPr marL="452520" indent="-45252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s"/>
              </a:rPr>
              <a:t>What has been added since then.</a:t>
            </a:r>
            <a:endParaRPr b="0" lang="en-US" sz="2800" spc="-1" strike="noStrike">
              <a:solidFill>
                <a:srgbClr val="000000"/>
              </a:solidFill>
              <a:latin typeface="Swiss"/>
            </a:endParaRPr>
          </a:p>
          <a:p>
            <a:pPr marL="452520" indent="-45252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s"/>
              </a:rPr>
              <a:t>Some new things you can do.</a:t>
            </a:r>
            <a:endParaRPr b="0" lang="en-US" sz="2800" spc="-1" strike="noStrike">
              <a:solidFill>
                <a:srgbClr val="000000"/>
              </a:solidFill>
              <a:latin typeface="Swiss"/>
            </a:endParaRPr>
          </a:p>
          <a:p>
            <a:pPr marL="452520"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52520"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52520"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81200" y="164880"/>
            <a:ext cx="16128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Why?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3000" y="1986120"/>
            <a:ext cx="4402080" cy="16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29480" indent="-42948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IBIS problems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29480" indent="-42948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Birds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29480" indent="-42948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Nodal representation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29480" indent="-42948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We like IBIS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32000" y="269640"/>
            <a:ext cx="2008080" cy="4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Review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840" y="2013120"/>
            <a:ext cx="451044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96000"/>
          </a:bodyPr>
          <a:p>
            <a:pPr marL="438840" indent="-43884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38840" indent="-43884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A couple of examples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1640" y="257040"/>
            <a:ext cx="4141800" cy="4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Considerations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8840" y="2018880"/>
            <a:ext cx="6172200" cy="12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25160" indent="-42516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Nodal representation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25160" indent="-42516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Based on a familiar language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25160" indent="-42516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No implementation bottlenecks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77600" y="147240"/>
            <a:ext cx="1576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How?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840" y="2015640"/>
            <a:ext cx="6417000" cy="16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29480" indent="-42948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Define the circuit topology. (new)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29480" indent="-42948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Parameterize it. (old)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29480" indent="-42948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Provide a library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29480" indent="-42948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(Backward compatible plus.)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73320" y="177480"/>
            <a:ext cx="236520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Example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240" y="1144440"/>
            <a:ext cx="5295960" cy="3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29480" indent="-42948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wiss"/>
              </a:rPr>
              <a:t>Define the circuit topology.</a:t>
            </a:r>
            <a:endParaRPr b="0" lang="en-US" sz="28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52" name=""/>
          <p:cNvSpPr/>
          <p:nvPr/>
        </p:nvSpPr>
        <p:spPr>
          <a:xfrm>
            <a:off x="-140400" y="5148360"/>
            <a:ext cx="661176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[Define Model] Simple_driver (pin gnd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.local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Vsource (t1 gnd) V = Rise[T-TR] || Fall[T-T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Rsource (pin t1) R = Rsrc[T-TR] || Rsrc[T-TF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.trigger TR (Logic(control) ==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.trigger TF (Logic(control) =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[End Define Mode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112760" y="2008080"/>
            <a:ext cx="3581280" cy="2573280"/>
            <a:chOff x="1112760" y="2008080"/>
            <a:chExt cx="3581280" cy="2573280"/>
          </a:xfrm>
        </p:grpSpPr>
        <p:sp>
          <p:nvSpPr>
            <p:cNvPr id="54" name=""/>
            <p:cNvSpPr/>
            <p:nvPr/>
          </p:nvSpPr>
          <p:spPr>
            <a:xfrm>
              <a:off x="1112760" y="3008160"/>
              <a:ext cx="644760" cy="66384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2082960" y="2268000"/>
              <a:ext cx="1193760" cy="303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03720" y="2343240"/>
              <a:ext cx="264960" cy="2667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15880" y="2457360"/>
              <a:ext cx="663840" cy="550800"/>
            </a:xfrm>
            <a:custGeom>
              <a:avLst/>
              <a:gdLst/>
              <a:ahLst/>
              <a:rect l="l" t="t" r="r" b="b"/>
              <a:pathLst>
                <a:path w="418" h="347">
                  <a:moveTo>
                    <a:pt x="12" y="347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418" y="0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92560" y="2440080"/>
              <a:ext cx="968400" cy="38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34960" y="3672000"/>
              <a:ext cx="0" cy="549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131840" y="4202280"/>
              <a:ext cx="644400" cy="1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284120" y="4354200"/>
              <a:ext cx="341640" cy="19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8080" y="4581360"/>
              <a:ext cx="9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64320" y="2620800"/>
              <a:ext cx="1154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s"/>
                </a:rPr>
                <a:t>R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23680" y="3192480"/>
              <a:ext cx="1148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s"/>
                </a:rPr>
                <a:t>V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0840" y="2747880"/>
              <a:ext cx="17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99520" y="3751200"/>
              <a:ext cx="9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37560" y="2008080"/>
              <a:ext cx="456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s"/>
                </a:rPr>
                <a:t>p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35160" y="2146320"/>
              <a:ext cx="284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s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94280" y="3846600"/>
              <a:ext cx="564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s"/>
                </a:rPr>
                <a:t>g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20560" y="117360"/>
            <a:ext cx="23670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Example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400" y="1131840"/>
            <a:ext cx="33656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75000"/>
          </a:bodyPr>
          <a:p>
            <a:pPr marL="342720" indent="-34272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Parameterize it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72" name=""/>
          <p:cNvSpPr/>
          <p:nvPr/>
        </p:nvSpPr>
        <p:spPr>
          <a:xfrm>
            <a:off x="649800" y="2030400"/>
            <a:ext cx="369324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[Model] driver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Model_type Simple_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[Ris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0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2n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5n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7n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[Fal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0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2n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5n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7n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[Rsr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0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2n    1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3.5n 10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5n    1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"/>
              </a:rPr>
              <a:t>7n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6480" y="247680"/>
            <a:ext cx="4582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wiss"/>
              </a:rPr>
              <a:t>I didn't show you</a:t>
            </a:r>
            <a:endParaRPr b="1" lang="en-US" sz="4400" spc="-1" strike="noStrike">
              <a:solidFill>
                <a:srgbClr val="000000"/>
              </a:solidFill>
              <a:latin typeface="Swis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840" y="2006640"/>
            <a:ext cx="529920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415800" indent="-4158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Inheritance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15800" indent="-4158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Correlation. (typ/min/max)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  <a:p>
            <a:pPr marL="415800" indent="-4158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Zapf D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wiss"/>
              </a:rPr>
              <a:t>Conditionals.</a:t>
            </a:r>
            <a:endParaRPr b="0" lang="en-US" sz="3200" spc="-1" strike="noStrike">
              <a:solidFill>
                <a:srgbClr val="000000"/>
              </a:solidFill>
              <a:latin typeface="Swis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4T22:02:01Z</dcterms:created>
  <dc:creator>al</dc:creator>
  <dc:description>Created by Applixware @(#)Version: 4.42(1021.501) Fri Jul  9 10:21:33 1999</dc:description>
  <dc:language>en-US</dc:language>
  <cp:lastModifiedBy>4.42 (1021.501)</cp:lastModifiedBy>
  <dcterms:modified xsi:type="dcterms:W3CDTF">2000-06-14T20:46:55Z</dcterms:modified>
  <cp:revision>0</cp:revision>
  <dc:subject/>
  <dc:title>A Macro Language
for IBIS</dc:title>
</cp:coreProperties>
</file>