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DEFC70A8-A19A-4FC8-B8D7-2DF51B5F89F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b@teraspeed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complishments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2003-2009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ly 28,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tandards, Software, Docu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3.2 Renewed as ANSI/EIA-656-A August 17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4.2 June 2 2006, ANSI/EIA-656B Sept. 1,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CHK4.1, IBISCHK4.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5.0 Aug. 29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HCK5.0 under develop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CM 1.0 Sept. 12, 2003, ICM 1.1 July 5, 2005, ANSI/GEIA-STD-0001 Jan. 18,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CMCHK1.1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2.0, April 24,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SCHK2 planned for develop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Cookbook Version 2.0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echnical Committe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ro-Mode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cromodel Templat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gorithmic Model Interfac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-Spice Subcircuits under development and relationship with Synopsy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ther advances under consider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dhoc) Touchstone advances with permission from Agilent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rmat, Reference Impedance, Mixed-Mod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arse Matrix under consider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Q 1.0, 2004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ear completion IQ 1.1 (or 2.0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 Review on-go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eetings and Administration  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leconfer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arly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eb Meeting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its (5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4 in Chin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3 in Japan plus 1special meet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5 in Europe with DAT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esignCon (including booth) and DAC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w Logo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ealing with parent organization TechAmerica chan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ank You Everyon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 you Michael Mirmak for many productive years and additional behind the scenes a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participation on an open forum basis, we have accomplished a lot and established new dir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remains a big factor in industry nationally and internationa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ferenc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oo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chnical pap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07-28T13:04:01Z</dcterms:modified>
  <cp:revision>716</cp:revision>
  <dc:subject/>
  <dc:title>IBIS</dc:title>
</cp:coreProperties>
</file>