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9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77CE06E-95B5-40D7-BB9E-D3AD6506F9D6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ob@teraspeed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a.org/ibis/connector/" TargetMode="External"/><Relationship Id="rId2" Type="http://schemas.openxmlformats.org/officeDocument/2006/relationships/hyperlink" Target="http://www.eda.org/ibis/connector/" TargetMode="External"/><Relationship Id="rId3" Type="http://schemas.openxmlformats.org/officeDocument/2006/relationships/hyperlink" Target="http://www.eda.org/ibis/connector/" TargetMode="External"/><Relationship Id="rId4" Type="http://schemas.openxmlformats.org/officeDocument/2006/relationships/hyperlink" Target="http://www.eda.org/pub/ibis/touchstone_version2.0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uchstone to Touchstone 2.0,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uchstone 2.0 to Touchstone too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bob@teraspeed.c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 Automation Confe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 Francisco, 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ly 28,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ingle-ended Port Re-ordering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 Mode Order]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ssumes Touchstone 2.0 processor handles [Mixed Mode Order] for re-mapping of por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rmulas in the Touchstone Version 2.0 Specific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s - next sli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8 port connector re-mapping of the por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4 port re-mapping of the por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rgument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Position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applies to data block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iagonal-of-matrix centric indices represent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Por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ools can do tranforming by index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nnector Re-ordering: [Mixed Mode Order] S1 S3 S5 S7 S2 S4 S6 S8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1752480"/>
            <a:ext cx="11430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2514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886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2514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886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10080" y="1752480"/>
            <a:ext cx="1955880" cy="3481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193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114300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867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Mixed Mode Order] S1 S5 S2 S6 S3 S7 S4 S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5181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S1 S3 S4 S2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SE-1 data re-ordered to SE-2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371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E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-1 uses SE-2 data notation i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0"/>
            <a:ext cx="7621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105520"/>
            <a:ext cx="9903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137160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137160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2767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743200" y="3123720"/>
            <a:ext cx="312408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362320"/>
            <a:ext cx="838080" cy="485640"/>
          </a:xfrm>
          <a:prstGeom prst="left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uchstone 2.0 to Touchston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Touchstone 2.0 file formed with tool using compatible Touchstone format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ool coding simplicity for dual export selec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hen just remove keywords to convert to Touchston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Matrix Format] Full” can exist and be remo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Two-Port Data Order] 12_21” may require interchanging the 12 and 21 columns  with spreadsheet or program to the 21_12 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General Translations Probably Needs Conversion Tool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erything would work for Y-parameters and Z-parameters excep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ormalization differenc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heck EDA tool normalization assumptio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eral per-port reference impedance conversions probably needs softwa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General Conversion Utility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ral EDA tools have built-in conver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Y-, Z-, S-parameter interchanges or choic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ixed mode interchang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uto port re-numbering (per physical design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 conversion utility possi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rmalizations and convers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mpose Touchstone format restrictions automaticall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ome mixed-mode port re-order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Matrix Format] Upper and Lower convers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(Future – sparse matrix manipulation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osur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3 new keywo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sion of S-parameter data in Touchstone / Touchstone 2.0 formats needed to support leading/lagging EDA vendors, file producers and legacy fi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orter term, simple addition or removal of keywo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erm, a more general conversion util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2.0 file reference checker/parser (tschk2) to promote industrial ado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verview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uchstone Version 2.0 ratified by IBIS April 24, 200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sy upgrades/downgrades a go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-parameters the most common applic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Minimal addition/removal of keyword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Transition period when tools support either original Touchstone and/or Touchstone 2.0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ackgroun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issued 1984 by EEsof (now part of Agilent Technologie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is de-facto format widely u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“Version 1.0” publicly uploaded for IC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ill Sans MT"/>
                <a:hlinkClick r:id="rId2"/>
              </a:rPr>
              <a:t>www.eda.org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ill Sans MT"/>
                <a:hlinkClick r:id="rId3"/>
              </a:rPr>
              <a:t>/ibis/connector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Version 2.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ormat rules relax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esistance per port option for PD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xed mode features for differential setup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ome storage reductions availabl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athematical conversions document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ill Sans MT"/>
                <a:hlinkClick r:id="rId4"/>
              </a:rPr>
              <a:t>http://www.eda.org/pub/ibis/touchstone_version2.0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schk2 parser planned so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“1.0”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29528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514600"/>
            <a:ext cx="655308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1295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 Line                             For example, # GHZ S MA R 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2590920"/>
            <a:ext cx="5029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-port Data Block                    (rigid format rules)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fficially for Single-End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al Noise Data Block     (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Version 1.0” Fixed Format Exampl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f = frequency, s = data-pai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066680"/>
            <a:ext cx="8384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1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   f s   f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114800"/>
            <a:ext cx="121932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2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f s s s s  f s s s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066680"/>
            <a:ext cx="990720" cy="302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3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s s   s s s   f s s s  s s s   s s s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1066680"/>
            <a:ext cx="121932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4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 s s s s       s s s s       s s s s      f s s s s     s s s s     s s s s     s s s s     f …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066680"/>
            <a:ext cx="121896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5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          s s s s    s            s s s s    s           s s s s     s           s s s s     s        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066680"/>
            <a:ext cx="1219320" cy="594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6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s         s s s s    s s         s s s s    s s         s s s s    s s         s s s s    s s         s s s s    s s         f …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548640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ormatting, frequency ordering, and end of file implies number of ports and frequencies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tc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 -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hirteen IBIS-like Keyword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quired keywords (and option line) – fixed ord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Version]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 2.0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#(option line)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Number of Ports]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 &lt;n&gt;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Keywords in any ord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16"/>
                </a:solidFill>
                <a:latin typeface="Gill Sans MT"/>
              </a:rPr>
              <a:t>[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Number of Frequencies]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 &lt;nf&gt;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(required)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Two-Port Data Order]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 {21_12 | 12_21} 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(required for n=2 only)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Reference]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 &lt;list of n reference resistances in port order&gt;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Matrix Format]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 {Full | Lower | Upper}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Mixed-Mode Order]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 {Di,j, Ci,j, Si,j entries} 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Number of Noise Frequencies]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 &lt;nnf&gt;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(required if noise data, n=2 only)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Begin Information]/[End Information]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(block reserved for future use)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block keyword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16"/>
                </a:solidFill>
                <a:latin typeface="Gill Sans MT"/>
              </a:rPr>
              <a:t>[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Network Data]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(required to begin network data)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Noise Data]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(required if noise data exists)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4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[End]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1" lang="en-US" sz="16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720016"/>
                </a:solidFill>
                <a:latin typeface="Gill Sans MT"/>
              </a:rPr>
              <a:t>(required – End of file)</a:t>
            </a: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2.0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295280"/>
            <a:ext cx="655308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276720"/>
            <a:ext cx="655308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2952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Version] 2.0                              # Option Line                             [Number of Ports]  &lt;n&gt;                          plus keywords as req’d/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4290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Network Dat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ore flexible format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Noise Data]                  (optional for 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943600"/>
            <a:ext cx="655308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E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to 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Single-ended S-parameters only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keywords around the option line as sh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Version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2.0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#(option line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Number of Ports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n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keywords in any 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Number of Frequencies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nf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Two-Port Data Order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{21_12 | 12_21}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(if n = 2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Mixed-Mode Order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{Si,j entries}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Optional for re-ordering ports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keywords around the data blo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Network Data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End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Number of Frequencies] and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Two-Port Data Order]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Number of Frequencies] &lt;nf&gt; determ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ocument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ount the frequencies or look at frequency interval and calculate nf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lculate from word count (wc) of data block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wc = (2 n</a:t>
            </a:r>
            <a:r>
              <a:rPr b="0" lang="en-US" sz="2000" spc="-1" strike="noStrike" baseline="30000">
                <a:solidFill>
                  <a:srgbClr val="186ecc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 + 1) * nf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stimate nf and use tschk2 to calculat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No Error – correct nf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rror – tschk2 should report expected nf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Two-Port Data Order] {21_12 | 12_21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nly for n=2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rmally 21_12 for Touchstone to Touchstone 2.0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9-07-24T04:28:22Z</dcterms:modified>
  <cp:revision>709</cp:revision>
  <dc:subject/>
  <dc:title>IBIS</dc:title>
</cp:coreProperties>
</file>