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dt" idx="3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ftr" idx="3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 type="sldNum" idx="3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D8FE3860-CC0E-4BA8-8A88-6F726D0334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0FFBAF3-9685-485B-862A-3B042138D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0760B63-DD12-4214-BB98-C12EBDF1D3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8FB76541-6F2F-4124-A0AF-C60EDBF314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83A6FA2-E638-4541-824A-0F91037316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3C185A5-6CE2-4CEC-9FCF-7E6E685422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3FDC1AC-F0E1-49F8-99EB-3CC8FB4662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1222B9EB-C85F-4646-836B-C020E5C52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’ll see updates on this during today’s presen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427EB41-6156-4516-B772-2CC6E8DB6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A48FEDD9-9E2B-4151-B5E7-C023B32A45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A705362-EAB1-43BC-B874-0E9B0B14D8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B98E2BD-7693-4F13-A4DE-7E856458A7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2A15DD6-2C58-43E7-A1A4-E894C1BC0A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DA2-440B-4E5E-A698-3C6006F4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EC4-4801-462A-808B-F71AC701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CD042-992F-4872-ADE3-D0D4B08F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C5294-AEC0-417A-91A1-4CBA7B8A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9FCE4-D0D5-41BC-9908-63BA0EAF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F1020-7C0B-4B8F-B471-B39BB3CD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B4F65-CA59-4229-B370-4B8421E9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57F5C-61CF-4659-8861-14420DF6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68A79-7B9B-45C7-AF7D-0A5F944E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B0E9D-56A0-406D-BBC8-036CE2CD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83748-522A-4F2E-B1C2-7A00415F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09214-801A-492B-BC5B-D6352F52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6B7-AE9E-4C76-BF2E-C9C27985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68786-4058-45D9-A1AB-E560EC8A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D35B4-FB92-4377-AE16-8A620E22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40CCD-0E31-4B80-8C02-AD025D42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6EF24-2730-42BF-89D3-5BFB79AC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96372-9130-4721-B074-31713D08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125AB-B8DD-4803-A6A0-3F2FF16A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F35E0-5698-4539-88D1-42DF420F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E70D1-9BEF-4CCD-BD3A-8481D1CC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DCF02-314E-493E-A718-10C665DD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2D775-EE2E-4535-A039-0F6B6C84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981C-BE7C-4B09-932F-9803317E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55D00-96F3-4103-89B8-066ABD38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71721-EBA7-4664-BE3E-CCF653DF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51893-CB8C-4B2D-BC54-C320EC2D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7472E-E6D5-4275-8B3E-2F00B2FB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476E3-726D-4761-A21D-9F854CB4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85BB4-704F-4DCA-9117-20B2DF3C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4D91D-36F3-4C49-8B82-8591A776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B947E-C13B-431E-8E06-A5E0122E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50D99-5250-45E3-8533-E65AA170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34223-6277-4876-B202-938A3870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892E-6FB5-4CF5-A580-710DD59F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63CDC-E4C1-4E80-8099-695BA40D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37414-57F8-46AD-ABCE-16A3AE56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0BB29-1460-44F2-8C0A-7E28882F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03CD-7FD6-4518-894F-62ED4F2E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DFE3-E2D7-4844-AC58-48D2AEE2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B76E-B3A7-4ADA-9447-FA3F98AB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A606-A45B-404A-AF97-2C248C9B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17C1-93FC-4C00-8D20-5D9DB5E2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30C5-4526-4668-949F-21640E61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E7A-1626-49D4-82DC-9E517C4B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99D6-687A-4D3B-BAEE-229355F3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EF7F-1859-4C92-86D0-05CF5089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548A-4025-4D8B-8D98-9C498D7A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2350-FCAA-4402-A6C9-E89BC0D0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DB55-6098-487B-B131-29BCC32D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20053-7D24-477D-9718-8766CBBC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54B01-69CA-4687-82DC-0408B831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B57C2-B529-4CFC-BA94-050EC0B9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FDF16-8763-4E4D-B405-9B369FE7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4FCB5-9BF8-48F9-BAD1-654FEE37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3F5-B58B-4295-898A-2ACF1506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A2DAE-4667-4D93-A366-768B0355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41014-3124-44D0-9397-88C26425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6C706-23CD-46B2-BAF4-7319EC5B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02010-E111-44C2-9C34-41324166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CA0BB-EB83-4776-8973-6BEEF1A0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C0572-BCF6-4748-901C-F20D3F65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8C545-B03C-44B6-ABB9-D7FB2F16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EB9C6-56EF-48F4-8973-917587BD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CDB59-4844-4621-84E1-CD88307A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E761A-42F3-40A5-BEFE-7FE952F1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686-8015-4F4C-AD95-04A27618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00DA-B5F4-4D28-B04B-4FA1DAF6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35214-A9DD-4F34-90DA-C4C1C3EA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48AE5-604C-4A06-989C-C5337BD8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7E987-1DE0-428B-8C75-F97C04A7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92BFC-7D1E-479F-A5B0-EEF4708B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C275A-5DC1-4560-AA45-B6B06A19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6301A-2744-4CE2-B1C5-7D3E6504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F55D3-0BE9-40AA-9520-1E5BC9BC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CA238-AB5F-4C1C-86E9-FB4143A7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78AC4-3BD8-4AEE-878F-512D2B09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F9A9-13E3-49EB-8259-4A585D94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881C2-109E-46FF-930A-2BDB6F15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270D9-6711-4658-8D04-03883CFC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51B0E-8695-49BA-BBFF-DB649087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CF699-6C4C-47C4-8855-CC19B4F1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E05B4-D412-47F0-95DA-CBC32087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A674C-C34B-401F-8E0E-CD68CA6F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31240-10E9-46A4-B56B-095FED96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28548-FB30-4710-8BDA-6B93C31A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4B5E6-A077-417E-BD82-7DFC00EC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F3450-BE71-40C2-A52F-39702510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9E6-CE36-4C0B-98A5-9AC995C0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F8893-2B29-4502-AE73-E2EBCE2E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AA92A-EFC4-48CE-AA43-79A613B5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764B7-CA86-4186-BBB9-A122A3FF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EABF2-CCD3-4BEC-9FBF-0767832E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FBB26-900C-4DE0-903C-ECA73622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70B57-BEF6-4445-86D0-1EF06722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9F13C-F4A4-44B1-A914-6CBA9FCF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A7499-6D97-4460-8FFB-BCAF53EF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4BECC-04AD-445A-A5CD-A50BF1E2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C87A9-6005-4896-A6F5-F685948E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306-4728-49FC-AEC6-670C4191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B3FEF-E020-4256-A625-F0936354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97101-94DA-4F0B-8546-4A7A0C33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7D0F5-7F38-4255-86AF-FDCE7B4C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CB7FC-7873-4F5F-B191-8AC41F3E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31D93-EB18-4B1E-A725-E34D42CD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804E0-F4BF-4AD3-AE0F-179225D5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C20DF-4758-4BE6-B54F-E61E675D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F74C6-56EB-47C0-9853-4F6ABBEE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9FC39-8BB6-47D0-8579-1881F1A9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1D284-2430-4A15-B2D4-360E7EAF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C2F-F444-4F7E-880E-2CACAC6D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656BB-6273-41C7-BA21-081AD111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D25BE-49E4-467F-87F2-2E3DBA20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0F0D5-2CF4-48E6-BBAD-B70757D0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F6FCF-9D53-4A7A-98B5-4889FF6F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F23C9-1217-47C9-A7B7-05C4F467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1E20B-CFD0-4F8B-B7C6-C373EEC1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BE5DE-1FB0-4410-B646-B858B452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E9FE5-1D7C-4A45-9BB0-B3B85135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09FBA-D390-42AF-B914-68E618A8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51F46-913D-4953-8F2B-F9D64142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42A-4CAF-4CA1-913C-FCB363C0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CB175-B6DB-4309-AB8A-22DF10BC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BC832-9B0B-4F10-B5D6-DEB158E5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DD6FE-E273-4933-A10C-937E4A07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1E307-3A97-41C4-9175-C24B0DFD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77A45-73B2-48DE-9916-C40A8550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5CD8F-75FD-46A4-9BF9-6C51FF51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F1507-E5C1-401F-82D2-8BFFD0D6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68037-6CFE-49E6-BE00-7CD259E2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E486B-906B-4BAC-84C6-EF91E679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FEC21-1BAD-483C-9C6D-DA9AC3BA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7B2E-6BF0-41FA-8ED4-398B8605E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8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A100-2CBF-45DA-B9D4-C7111E3B6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8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D209-85CA-41D5-8AD5-D2D0B0820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"/>
          <p:cNvPicPr/>
          <p:nvPr/>
        </p:nvPicPr>
        <p:blipFill>
          <a:blip r:embed="rId2"/>
          <a:stretch/>
        </p:blipFill>
        <p:spPr>
          <a:xfrm>
            <a:off x="677880" y="2838600"/>
            <a:ext cx="2774880" cy="2328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0854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9369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856A-D7F3-4A4C-8D72-F0455192F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BB22-503E-4A43-8BC3-9565416EB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FEB2-E269-4E84-B16D-2E52E4E86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9082-FDD1-4273-AA81-7A440DE28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8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6D21-6B37-412E-942C-FE8BC95A4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8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F9A1-A9EE-4794-8CA4-8D2FD02E4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8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D0A4-35E9-416E-A1F4-0DEA99223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igroup.org/ibis/" TargetMode="External"/><Relationship Id="rId2" Type="http://schemas.openxmlformats.org/officeDocument/2006/relationships/hyperlink" Target="http://www.eda-stds.org/ibis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chamerica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23640" y="1363320"/>
            <a:ext cx="85150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Chair’s Annual Repor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762000" y="2457360"/>
            <a:ext cx="396252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, IBIS Ope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6667560" y="2603520"/>
            <a:ext cx="2222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6829560" y="274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3"/>
          <p:cNvSpPr/>
          <p:nvPr/>
        </p:nvSpPr>
        <p:spPr>
          <a:xfrm>
            <a:off x="3844800" y="3936960"/>
            <a:ext cx="3962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DAC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28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www.eigroup.org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://www.eda.org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Date Placeholder 3"/>
          <p:cNvSpPr/>
          <p:nvPr/>
        </p:nvSpPr>
        <p:spPr>
          <a:xfrm>
            <a:off x="7621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lide Number Placeholder 5"/>
          <p:cNvSpPr/>
          <p:nvPr/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202C-B549-48BB-96B1-8FB099454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3160" y="1155240"/>
            <a:ext cx="866592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828360" y="316368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BACKU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Date Placeholder 2"/>
          <p:cNvSpPr/>
          <p:nvPr/>
        </p:nvSpPr>
        <p:spPr>
          <a:xfrm>
            <a:off x="7621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64D6-E138-42C9-A9A7-82C2D57BE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6656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BIS Boar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500040" y="1343160"/>
            <a:ext cx="274176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501480" y="2170080"/>
            <a:ext cx="274176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Vice-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01480" y="2960640"/>
            <a:ext cx="274176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511200" y="3778200"/>
            <a:ext cx="274176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Model Libr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3658320" y="1157400"/>
            <a:ext cx="336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final approver of specification ball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oints Task 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s Fin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s meetings and summ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3497400" y="1225440"/>
            <a:ext cx="214200" cy="744480"/>
          </a:xfrm>
          <a:custGeom>
            <a:avLst/>
            <a:gdLst>
              <a:gd name="textAreaLeft" fmla="*/ 136800 w 214200"/>
              <a:gd name="textAreaRight" fmla="*/ 214560 w 21420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3659760" y="2162160"/>
            <a:ext cx="438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s meetings and summits in Chair’s abs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ually acts as US summit registration cont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12"/>
          <p:cNvSpPr/>
          <p:nvPr/>
        </p:nvSpPr>
        <p:spPr>
          <a:xfrm>
            <a:off x="3498840" y="2044800"/>
            <a:ext cx="214200" cy="744480"/>
          </a:xfrm>
          <a:custGeom>
            <a:avLst/>
            <a:gdLst>
              <a:gd name="textAreaLeft" fmla="*/ 136800 w 214200"/>
              <a:gd name="textAreaRight" fmla="*/ 214560 w 21420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3609360" y="2981160"/>
            <a:ext cx="417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s balloting, membership and GEIA re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ible for meeting and summit min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4"/>
          <p:cNvSpPr/>
          <p:nvPr/>
        </p:nvSpPr>
        <p:spPr>
          <a:xfrm>
            <a:off x="3492360" y="2862360"/>
            <a:ext cx="214560" cy="744480"/>
          </a:xfrm>
          <a:custGeom>
            <a:avLst/>
            <a:gdLst>
              <a:gd name="textAreaLeft" fmla="*/ 137160 w 214560"/>
              <a:gd name="textAreaRight" fmla="*/ 214920 w 21456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9"/>
          <p:cNvSpPr/>
          <p:nvPr/>
        </p:nvSpPr>
        <p:spPr>
          <a:xfrm>
            <a:off x="3587760" y="3882960"/>
            <a:ext cx="351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tains on-line model reference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20"/>
          <p:cNvSpPr/>
          <p:nvPr/>
        </p:nvSpPr>
        <p:spPr>
          <a:xfrm>
            <a:off x="3468600" y="3648240"/>
            <a:ext cx="214560" cy="744480"/>
          </a:xfrm>
          <a:custGeom>
            <a:avLst/>
            <a:gdLst>
              <a:gd name="textAreaLeft" fmla="*/ 137160 w 214560"/>
              <a:gd name="textAreaRight" fmla="*/ 214920 w 21456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22"/>
          <p:cNvSpPr/>
          <p:nvPr/>
        </p:nvSpPr>
        <p:spPr>
          <a:xfrm>
            <a:off x="1338120" y="4613400"/>
            <a:ext cx="191304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Web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3"/>
          <p:cNvSpPr/>
          <p:nvPr/>
        </p:nvSpPr>
        <p:spPr>
          <a:xfrm>
            <a:off x="1328760" y="5423040"/>
            <a:ext cx="193212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Post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24"/>
          <p:cNvSpPr/>
          <p:nvPr/>
        </p:nvSpPr>
        <p:spPr>
          <a:xfrm>
            <a:off x="3584880" y="4600440"/>
            <a:ext cx="47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ible for all web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ry focus on events, specifications, roster and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25"/>
          <p:cNvSpPr/>
          <p:nvPr/>
        </p:nvSpPr>
        <p:spPr>
          <a:xfrm>
            <a:off x="3475080" y="4481640"/>
            <a:ext cx="214200" cy="744480"/>
          </a:xfrm>
          <a:custGeom>
            <a:avLst/>
            <a:gdLst>
              <a:gd name="textAreaLeft" fmla="*/ 136800 w 214200"/>
              <a:gd name="textAreaRight" fmla="*/ 214560 w 21420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26"/>
          <p:cNvSpPr/>
          <p:nvPr/>
        </p:nvSpPr>
        <p:spPr>
          <a:xfrm>
            <a:off x="3570120" y="5427720"/>
            <a:ext cx="470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ible for IBIS reflectors (IBIS, IBIS-Us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ually “first responder” to non-list participant ques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27"/>
          <p:cNvSpPr/>
          <p:nvPr/>
        </p:nvSpPr>
        <p:spPr>
          <a:xfrm>
            <a:off x="3459240" y="5308560"/>
            <a:ext cx="214200" cy="744480"/>
          </a:xfrm>
          <a:custGeom>
            <a:avLst/>
            <a:gdLst>
              <a:gd name="textAreaLeft" fmla="*/ 136800 w 214200"/>
              <a:gd name="textAreaRight" fmla="*/ 214560 w 21420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28"/>
          <p:cNvSpPr/>
          <p:nvPr/>
        </p:nvSpPr>
        <p:spPr>
          <a:xfrm>
            <a:off x="1027080" y="4605480"/>
            <a:ext cx="214200" cy="1296720"/>
          </a:xfrm>
          <a:custGeom>
            <a:avLst/>
            <a:gdLst>
              <a:gd name="textAreaLeft" fmla="*/ 136800 w 214200"/>
              <a:gd name="textAreaRight" fmla="*/ 214560 w 2142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29"/>
          <p:cNvSpPr/>
          <p:nvPr/>
        </p:nvSpPr>
        <p:spPr>
          <a:xfrm>
            <a:off x="156600" y="4822920"/>
            <a:ext cx="94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Date Placeholder 2"/>
          <p:cNvSpPr/>
          <p:nvPr/>
        </p:nvSpPr>
        <p:spPr>
          <a:xfrm>
            <a:off x="7621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ooter Placeholder 3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Slide Number Placeholder 4"/>
          <p:cNvSpPr/>
          <p:nvPr/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08C6-44A6-4181-BC1F-787949DF6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2"/>
          <p:cNvSpPr/>
          <p:nvPr/>
        </p:nvSpPr>
        <p:spPr>
          <a:xfrm>
            <a:off x="360360" y="2363760"/>
            <a:ext cx="8381880" cy="152712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56680" y="514080"/>
            <a:ext cx="8649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BIS Task Group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178080" y="1285920"/>
            <a:ext cx="274176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IBIS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  <a:ea typeface="Arial"/>
              </a:rPr>
              <a:t>(“IBIS Open Forum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5"/>
          <p:cNvSpPr/>
          <p:nvPr/>
        </p:nvSpPr>
        <p:spPr>
          <a:xfrm>
            <a:off x="4243320" y="2728800"/>
            <a:ext cx="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2556000" y="274788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dvanced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odel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Arpad Muranyi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7"/>
          <p:cNvSpPr/>
          <p:nvPr/>
        </p:nvSpPr>
        <p:spPr>
          <a:xfrm>
            <a:off x="1422360" y="2589120"/>
            <a:ext cx="0" cy="1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9"/>
          <p:cNvSpPr/>
          <p:nvPr/>
        </p:nvSpPr>
        <p:spPr>
          <a:xfrm>
            <a:off x="7650000" y="2587680"/>
            <a:ext cx="180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10"/>
          <p:cNvSpPr/>
          <p:nvPr/>
        </p:nvSpPr>
        <p:spPr>
          <a:xfrm>
            <a:off x="6729480" y="274788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Mike LaBonte, 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11"/>
          <p:cNvSpPr/>
          <p:nvPr/>
        </p:nvSpPr>
        <p:spPr>
          <a:xfrm>
            <a:off x="1414440" y="2581200"/>
            <a:ext cx="6248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12"/>
          <p:cNvSpPr/>
          <p:nvPr/>
        </p:nvSpPr>
        <p:spPr>
          <a:xfrm>
            <a:off x="5516640" y="2576520"/>
            <a:ext cx="1440" cy="16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3"/>
          <p:cNvSpPr/>
          <p:nvPr/>
        </p:nvSpPr>
        <p:spPr>
          <a:xfrm>
            <a:off x="3481560" y="2587680"/>
            <a:ext cx="144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14"/>
          <p:cNvSpPr/>
          <p:nvPr/>
        </p:nvSpPr>
        <p:spPr>
          <a:xfrm>
            <a:off x="4548240" y="2195640"/>
            <a:ext cx="1440" cy="39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15"/>
          <p:cNvSpPr/>
          <p:nvPr/>
        </p:nvSpPr>
        <p:spPr>
          <a:xfrm>
            <a:off x="4602240" y="274788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odel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Lynne Gre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Green Streak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6"/>
          <p:cNvSpPr/>
          <p:nvPr/>
        </p:nvSpPr>
        <p:spPr>
          <a:xfrm>
            <a:off x="539640" y="4000680"/>
            <a:ext cx="8148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Cookbook Task Group has been suspended until critical mass of needed changes is achie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Futures and Macromodeling Library groups have been combined into the Advanced Technology Model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DA vendors comprise Model Review, independently reviewing received models and providing feedback to mode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uthors; no specification changes are recommended by this group and it does not hold mee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7"/>
          <p:cNvSpPr/>
          <p:nvPr/>
        </p:nvSpPr>
        <p:spPr>
          <a:xfrm>
            <a:off x="493560" y="4962600"/>
            <a:ext cx="84092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ion in the IBIS Task Groups is open to IBIS members and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alik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Groups are created and Chairs appointed by the IBIS C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issues are handled by Ad Hoc teams for BIRD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18"/>
          <p:cNvSpPr/>
          <p:nvPr/>
        </p:nvSpPr>
        <p:spPr>
          <a:xfrm>
            <a:off x="523800" y="274464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d Hoc - Inter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Michael Mirmak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3"/>
          <p:cNvSpPr/>
          <p:nvPr/>
        </p:nvSpPr>
        <p:spPr>
          <a:xfrm>
            <a:off x="7621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lide Number Placeholder 5"/>
          <p:cNvSpPr/>
          <p:nvPr/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5C97-3A4B-46ED-877A-CDA293152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73160" y="1066680"/>
            <a:ext cx="86659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Organization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pecial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What the Chair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Ta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The IBIS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219240" y="334440"/>
            <a:ext cx="8696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Date Placeholder 3"/>
          <p:cNvSpPr/>
          <p:nvPr/>
        </p:nvSpPr>
        <p:spPr>
          <a:xfrm>
            <a:off x="7621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5"/>
          <p:cNvSpPr/>
          <p:nvPr/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A5B3-48D6-4B4C-8FF6-1734B3873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342720" y="1114560"/>
            <a:ext cx="8591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d4500"/>
                </a:solidFill>
                <a:latin typeface="Arial"/>
              </a:rPr>
              <a:t>TechAmerica merger completed in Januar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www.techameric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300"/>
                </a:solidFill>
                <a:latin typeface="Arial"/>
              </a:rPr>
              <a:t>Still some “settling in,” particularly on fin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300"/>
                </a:solidFill>
                <a:latin typeface="Arial"/>
              </a:rPr>
              <a:t>TechAmerica report expected at DesignCon Su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d4500"/>
                </a:solidFill>
                <a:latin typeface="Arial"/>
              </a:rPr>
              <a:t>Finances and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300"/>
                </a:solidFill>
                <a:latin typeface="Arial"/>
              </a:rPr>
              <a:t>Membership now stands at ~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300"/>
                </a:solidFill>
                <a:latin typeface="Arial"/>
              </a:rPr>
              <a:t>Renewals still being tracked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300"/>
                </a:solidFill>
                <a:latin typeface="Arial"/>
              </a:rPr>
              <a:t>Still need your help to ensure we meet our goa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Organizational Statu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74" name="AutoShape 4"/>
          <p:cNvSpPr/>
          <p:nvPr/>
        </p:nvSpPr>
        <p:spPr>
          <a:xfrm>
            <a:off x="401760" y="5315040"/>
            <a:ext cx="8321400" cy="79668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conomic downturn has had an effect on IBI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 not a catastrophic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Date Placeholder 3"/>
          <p:cNvSpPr/>
          <p:nvPr/>
        </p:nvSpPr>
        <p:spPr>
          <a:xfrm>
            <a:off x="7621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5"/>
          <p:cNvSpPr/>
          <p:nvPr/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7B06-DC65-477A-82A1-C0C18CF3C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352080" y="1266480"/>
            <a:ext cx="8591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500"/>
                </a:solidFill>
                <a:latin typeface="Arial"/>
              </a:rPr>
              <a:t>IBISCHK5 parser development nearly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IBIS 5.1 will be considered after extensive parser use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500"/>
                </a:solidFill>
                <a:latin typeface="Arial"/>
              </a:rPr>
              <a:t>Quality Task Group finalizing IQ Document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500"/>
                </a:solidFill>
                <a:latin typeface="Arial"/>
              </a:rPr>
              <a:t>Touchstone 2.0 completed and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Sparse matrices and node-port matching now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Parser development about to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500"/>
                </a:solidFill>
                <a:latin typeface="Arial"/>
              </a:rPr>
              <a:t>ATM tackling Interconnect SPICE and AMI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500"/>
                </a:solidFill>
                <a:latin typeface="Arial"/>
              </a:rPr>
              <a:t>New logo for I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chievements &amp; Progres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17E9-42A5-45DA-A248-21F87F983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42720" y="1018800"/>
            <a:ext cx="85914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d4500"/>
                </a:solidFill>
                <a:latin typeface="Arial"/>
              </a:rPr>
              <a:t>BIRDs likely to pick up for 5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One open, at least two more expected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Parser testing will drive more changes &amp;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d4500"/>
                </a:solidFill>
                <a:latin typeface="Arial"/>
              </a:rPr>
              <a:t>Summit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China: November 4 in Shanghai (location T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Japan: November 6 in Tokyo at JEITA Head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d4500"/>
                </a:solidFill>
                <a:latin typeface="Arial"/>
              </a:rPr>
              <a:t>Are you considering a parser purch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IBISCHK5 license price set at US$2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SCHK2 license price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tentatively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set at US$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Looking Ahea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84" name="Picture 4" descr="vulture"/>
          <p:cNvPicPr/>
          <p:nvPr/>
        </p:nvPicPr>
        <p:blipFill>
          <a:blip r:embed="rId1"/>
          <a:stretch/>
        </p:blipFill>
        <p:spPr>
          <a:xfrm>
            <a:off x="6970680" y="204840"/>
            <a:ext cx="197316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Date Placeholder 3"/>
          <p:cNvSpPr/>
          <p:nvPr/>
        </p:nvSpPr>
        <p:spPr>
          <a:xfrm>
            <a:off x="7621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lide Number Placeholder 5"/>
          <p:cNvSpPr/>
          <p:nvPr/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40C6-E493-45A6-A829-89DA6F1C4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5680" y="236160"/>
            <a:ext cx="839484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Thanks to Our Board Staff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15640" y="1035000"/>
            <a:ext cx="844524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MS PGothic"/>
              </a:rPr>
              <a:t>Syed Huq – Vice-Chair &amp; Webm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  <a:ea typeface="MS PGothic"/>
              </a:rPr>
              <a:t>especially for US summit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MS PGothic"/>
              </a:rPr>
              <a:t>Randy Wolff –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  <a:ea typeface="MS PGothic"/>
              </a:rPr>
              <a:t>handling minutes, other official documents plus ANSI and TechAmerica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MS PGothic"/>
              </a:rPr>
              <a:t>Lance Wang – Model Librar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  <a:ea typeface="MS PGothic"/>
              </a:rPr>
              <a:t>keeping our external IBIS model library up-to-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MS PGothic"/>
              </a:rPr>
              <a:t>Bob Ross – Postm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  <a:ea typeface="MS PGothic"/>
              </a:rPr>
              <a:t>maintaining reflectors and arranging international sum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4"/>
          <p:cNvSpPr/>
          <p:nvPr/>
        </p:nvSpPr>
        <p:spPr>
          <a:xfrm>
            <a:off x="401760" y="5265720"/>
            <a:ext cx="8321400" cy="84600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nd of course to you, the IBIS Community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anks for another great ye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Date Placeholder 3"/>
          <p:cNvSpPr/>
          <p:nvPr/>
        </p:nvSpPr>
        <p:spPr>
          <a:xfrm>
            <a:off x="7621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lide Number Placeholder 5"/>
          <p:cNvSpPr/>
          <p:nvPr/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110C-A5A8-49EE-B5E4-6589F7DC8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352080" y="90504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d4500"/>
                </a:solidFill>
                <a:latin typeface="Arial"/>
              </a:rPr>
              <a:t>Personal observations from six years as IBIS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00"/>
                </a:solidFill>
                <a:latin typeface="Arial"/>
              </a:rPr>
              <a:t>You can’t do every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ach person and organization has limited time, resources and 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eat ideas are everywhere… but implementation is what count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00"/>
                </a:solidFill>
                <a:latin typeface="Arial"/>
              </a:rPr>
              <a:t>Specifications aren’t written through group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ups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s groups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approve and alter but don’t develop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s or small groups usually write proposals and spec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00"/>
                </a:solidFill>
                <a:latin typeface="Arial"/>
              </a:rPr>
              <a:t>People act as they are rewarded to a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ople are usually paid for products or services, not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00"/>
                </a:solidFill>
                <a:latin typeface="Arial"/>
              </a:rPr>
              <a:t>Standards are for productivity enhan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utting-edge technology doesn’t usually emerge from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eroperability alone doesn’t necessarily sell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 standard solution isn’t better just because it’s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00"/>
                </a:solidFill>
                <a:latin typeface="Arial"/>
              </a:rPr>
              <a:t>Predicting the future is 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0" y="192240"/>
            <a:ext cx="91440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What the Chair Learne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4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4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Date Placeholder 3"/>
          <p:cNvSpPr/>
          <p:nvPr/>
        </p:nvSpPr>
        <p:spPr>
          <a:xfrm>
            <a:off x="7621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A5DF-B284-4655-A119-543ED10B7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52080" y="90504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500"/>
                </a:solidFill>
                <a:latin typeface="Arial"/>
              </a:rPr>
              <a:t>Some final free ad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4500"/>
                </a:solidFill>
                <a:latin typeface="Arial"/>
              </a:rPr>
              <a:t>These can apply to individuals, groups and/or IBIS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Make solutions simple rather than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Make answers easy to find and 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olve most people’s problems now rather than everyone’s problems event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nticipate tomorrow’s problems, not yesterda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Do what is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needed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, not what is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Don’t just raise questions - develop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solutions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0" y="192240"/>
            <a:ext cx="91440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What the Chair Learne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1352520" y="5524560"/>
            <a:ext cx="6276960" cy="57780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ank you and good lu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4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4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7621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8954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5"/>
          <p:cNvSpPr/>
          <p:nvPr/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0CA8-D2CE-47EC-86FC-95F48F0C4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173160" y="1155240"/>
            <a:ext cx="866592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828360" y="316368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Q/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Michael Mirmak</dc:creator>
  <dc:description/>
  <dc:language>en-US</dc:language>
  <cp:lastModifiedBy>Mirmak, Michael</cp:lastModifiedBy>
  <dcterms:modified xsi:type="dcterms:W3CDTF">2009-07-28T02:13:27Z</dcterms:modified>
  <cp:revision>627</cp:revision>
  <dc:subject>IBIS Summit 2008 at DAC</dc:subject>
  <dc:title>IBIS Chair's Report and Roadmap</dc:title>
</cp:coreProperties>
</file>