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3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872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636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872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636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9072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73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9072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73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1872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4636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9072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1872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4636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3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9259" t="27781" r="9259" b="25926"/>
          <a:stretch/>
        </p:blipFill>
        <p:spPr>
          <a:xfrm>
            <a:off x="7391520" y="6172200"/>
            <a:ext cx="1447560" cy="4111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36378" t="0" r="0" b="0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381880" y="6534000"/>
            <a:ext cx="4572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9717-1CC6-4F7A-8991-504F494EBE76}" type="slidenum">
              <a:rPr b="0" lang="en-US" sz="10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914040" y="6400800"/>
            <a:ext cx="62485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IBIS-ISS –  DAC 2009 IBIS  Summit – July 28, 2009  © 2009, SiSo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9259" t="27781" r="9259" b="25926"/>
          <a:stretch/>
        </p:blipFill>
        <p:spPr>
          <a:xfrm>
            <a:off x="7315200" y="6006960"/>
            <a:ext cx="1521000" cy="392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36378" t="0" r="0" b="0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40680" y="6400800"/>
            <a:ext cx="182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Signal Integrity Software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vhdl.org/pub/ibis/macromodel_wip/" TargetMode="External"/><Relationship Id="rId2" Type="http://schemas.openxmlformats.org/officeDocument/2006/relationships/hyperlink" Target="http://www.vhdl.org/pub/ibis/macromodel_wip/" TargetMode="External"/><Relationship Id="rId3" Type="http://schemas.openxmlformats.org/officeDocument/2006/relationships/hyperlink" Target="http://www.vhdl.org/pub/ibis/macromodel_wip/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vhdl.org/pub/ibis/macromodel_wip/" TargetMode="External"/><Relationship Id="rId2" Type="http://schemas.openxmlformats.org/officeDocument/2006/relationships/hyperlink" Target="mailto:ibis-macro@freelists.org" TargetMode="External"/><Relationship Id="rId3" Type="http://schemas.openxmlformats.org/officeDocument/2006/relationships/hyperlink" Target="mailto:ibis-macro@freelists.org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BIS </a:t>
            </a:r>
            <a:r>
              <a:rPr b="1" lang="en-US" sz="3600" spc="-1" strike="noStrike" u="sng">
                <a:solidFill>
                  <a:srgbClr val="336699"/>
                </a:solidFill>
                <a:uFillTx/>
                <a:latin typeface="Arial"/>
              </a:rPr>
              <a:t>I</a:t>
            </a: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nterconnect </a:t>
            </a:r>
            <a:r>
              <a:rPr b="1" lang="en-US" sz="3600" spc="-1" strike="noStrike" u="sng">
                <a:solidFill>
                  <a:srgbClr val="336699"/>
                </a:solidFill>
                <a:uFillTx/>
                <a:latin typeface="Arial"/>
              </a:rPr>
              <a:t>S</a:t>
            </a: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PICE </a:t>
            </a:r>
            <a:r>
              <a:rPr b="1" lang="en-US" sz="3600" spc="-1" strike="noStrike" u="sng">
                <a:solidFill>
                  <a:srgbClr val="336699"/>
                </a:solidFill>
                <a:uFillTx/>
                <a:latin typeface="Arial"/>
              </a:rPr>
              <a:t>S</a:t>
            </a: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ubcircuits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BIS-IS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00200" y="32000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upporting high-bandwidth connector, package and module interconnect modeling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alter Katz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BIS Summit Meeting at DAC 2009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an Francisco, CA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July 28, 2009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onnector, Package, and Module Modeling Requirement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ignal Interconnect Model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ignal Coupling (crosstalk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ower Distributi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ail voltage AC coupling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C drop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upling between Signal Interconnects and Power Distribution (SSO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urrent IBIS Package Models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are Not Sufficient &gt; 1Gb/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High speed channels require connector, package and module (e.g. DIMM) models that are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Broadband 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istributed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upled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ower distribu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nsider the following simple package desig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ypical interconnect length of 1”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1Gb/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upling between adjacent pi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djacent connections are different length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Electronic Module Description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(EMD) Needs a Netlisting Language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e IBIS-ATM committee decided that since EMD required an interconnect sub-circuit netlisting language, IBIS-ATM should focus on this firs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e would like to thank Synopsys for putting a subset of it’s HSPICE</a:t>
            </a:r>
            <a:r>
              <a:rPr b="0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manual into the public domain for the purpose of defining a generic interconnect SPICE languag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HSPICE</a:t>
            </a:r>
            <a:r>
              <a:rPr b="0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is a registered trademark of Synopsys, Inc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e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www.vhdl.org/pub/ibis/macromodel_wip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/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page for presentations about IBIS-ISS and EM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olution Requirement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High level description language of connector, package, and module describing “pins” and “models” between pins/pad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ub-circuit netlisting languag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andardized wrapper describing subckt por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PICE LTI Elements R,L,C,E,F,G,H,K,T,S,X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.parameter and .includ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parse Touchstone</a:t>
            </a:r>
            <a:r>
              <a:rPr b="0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Fil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andardized wrapper describing por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parse port matrix of pointers to transfer functio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ub-circuit Netlisting Language IBIS-ISS Element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 Resisto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 Inducto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 Capacito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inear Controlled Sourc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E, F, G, H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nclude Pole-Zero and Laplacia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K Inductor coupling elemen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 Tlin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52880" y="1905120"/>
            <a:ext cx="381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 Line (RLGC/Table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-Paramete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V DC=0 Shunt Elemen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X-Elemen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ubckts made of IBIS-ISS instance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upport .includ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upport .paramete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upport parameter passing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BIS-ISS Design Decision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Limited to linear time invariant (LTI) elemen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arameters are included, but some specific features such as Global Parameters, Ternary Operators and User Defined Functions have not been include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caling not supported (.option scale=x, M=x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ll elements must be contained inside one or more subcircui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urrent Statu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www.vhdl.org/pub/ibis/macromodel_wip/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site contains a working draft of the IBIS-ISS docum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e request that IBIS members who either produce, or consume interconnect models review and comment on this proposa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BIS-ATM meetings are held every Tuesday at noon Pacific tim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o join in on the discussi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ibis-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macro@freelists.org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04:20:00Z</dcterms:created>
  <dc:creator>Adam Kustin</dc:creator>
  <dc:description/>
  <dc:language>en-US</dc:language>
  <cp:lastModifiedBy>SiSoft</cp:lastModifiedBy>
  <dcterms:modified xsi:type="dcterms:W3CDTF">2009-07-22T14:39:20Z</dcterms:modified>
  <cp:revision>340</cp:revision>
  <dc:subject/>
  <dc:title>Slide 1</dc:title>
</cp:coreProperties>
</file>