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9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10.wmf" ContentType="image/x-wmf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marL="216000" indent="0"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3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lstStyle>
            <a:lvl1pPr marL="216000" indent="0" algn="r"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4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marL="216000" indent="0"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5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marL="216000" indent="0" algn="r"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52A35739-F13C-4040-86EB-C32FD4667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is presentation is designed to help you communicate TI’s 2003 priorities and your business priorities to your organizatio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0655D-5A43-40F5-AC7A-EA7CCF2C59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1976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54456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F7F6D-2ABF-4D56-8D02-973EDCF13C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1976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8380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5445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5445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8E3F4-F9A4-4F3C-BE3C-D5030FCA47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1976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83808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83808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54456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54456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54456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89EE4-AFF9-47B5-80DB-7C596AD977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D639F-B3D9-47B3-BD99-059E01FA31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1976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04920" y="8380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D3166-42FB-4A64-A018-DC1E008B18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1976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6D2F9-97B1-4A78-8553-26AAD56173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1976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4164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840" y="838080"/>
            <a:ext cx="4164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CE223-1005-4A89-953A-3C85B23E75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1976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1FA19-1744-4BC4-9715-7B2CAE4A01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61976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7E204-E432-4853-A5D7-5EC67CEC7C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1976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7840" y="838080"/>
            <a:ext cx="4164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4920" y="35445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D6501-E194-4D3E-9E14-AE1E068F27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1976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8380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858A4-DBE2-487F-A024-50B990A5F9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1976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4164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8380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7840" y="35445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9957D-D6A8-43CF-8172-31260736F2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1976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7840" y="8380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54456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59A08-CD0F-45AA-8624-83C9B9022B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1976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4920" y="354456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B9D08-28F8-4C82-BA43-290F5EB8E99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1976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7840" y="8380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04920" y="35445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7840" y="35445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B46CE-7B8E-44B5-B0BF-F38AD3CB85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1976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190680" y="83808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76080" y="83808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04920" y="354456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190680" y="354456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76080" y="354456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06698-1F46-4358-A737-9052420C48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1976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3F4A0-C959-4BD9-85F3-4E459CE7E2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1976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4164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838080"/>
            <a:ext cx="4164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8D08B-FE95-4554-B369-9B0E4903E1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1976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04E03-FC35-4CDE-8C0B-D26FC7AE2E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61976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FA649-BFF7-4392-9C8C-4BAF70E3C3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1976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838080"/>
            <a:ext cx="4164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5445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189DF-6DAA-425B-A6DD-EE24AEEFE3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1976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4164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8380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5445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2B528-AF39-4D7F-9424-6C202473E1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1976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8380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54456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E29E0-D0E1-4FCE-B007-A443A0137B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8380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19320" y="-360"/>
            <a:ext cx="761976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6326280"/>
            <a:ext cx="9144000" cy="543960"/>
            <a:chOff x="0" y="6326280"/>
            <a:chExt cx="9144000" cy="54396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6477120" y="6326280"/>
              <a:ext cx="26668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0" y="6330960"/>
              <a:ext cx="6491160" cy="539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 I  G  H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 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  R  F  O  R  M  A  N  C  E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  S  I  C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 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O  L  U  T  I  O  N  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076400" cy="77472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1219320" y="717480"/>
            <a:ext cx="7924680" cy="38160"/>
            <a:chOff x="1219320" y="717480"/>
            <a:chExt cx="7924680" cy="38160"/>
          </a:xfrm>
        </p:grpSpPr>
        <p:sp>
          <p:nvSpPr>
            <p:cNvPr id="7" name=""/>
            <p:cNvSpPr/>
            <p:nvPr/>
          </p:nvSpPr>
          <p:spPr>
            <a:xfrm>
              <a:off x="1219320" y="717480"/>
              <a:ext cx="792468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219320" y="755640"/>
              <a:ext cx="79246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6705720" y="6019920"/>
            <a:ext cx="2133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1803-CA3A-42C6-9E74-C59A50E089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958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6326280"/>
            <a:ext cx="9144000" cy="543960"/>
            <a:chOff x="0" y="6326280"/>
            <a:chExt cx="9144000" cy="543960"/>
          </a:xfrm>
        </p:grpSpPr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6477120" y="6326280"/>
              <a:ext cx="26668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0" y="6330960"/>
              <a:ext cx="6491160" cy="539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 I  G  H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 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  R  F  O  R  M  A  N  C  E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  S  I  C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 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O  L  U  T  I  O  N  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076400" cy="7747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1219320" y="717480"/>
            <a:ext cx="7924680" cy="38160"/>
            <a:chOff x="1219320" y="717480"/>
            <a:chExt cx="7924680" cy="38160"/>
          </a:xfrm>
        </p:grpSpPr>
        <p:sp>
          <p:nvSpPr>
            <p:cNvPr id="52" name=""/>
            <p:cNvSpPr/>
            <p:nvPr/>
          </p:nvSpPr>
          <p:spPr>
            <a:xfrm>
              <a:off x="1219320" y="717480"/>
              <a:ext cx="792468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19320" y="755640"/>
              <a:ext cx="79246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2"/>
          <p:cNvSpPr>
            <a:spLocks noGrp="1"/>
          </p:cNvSpPr>
          <p:nvPr>
            <p:ph type="sldNum" idx="2"/>
          </p:nvPr>
        </p:nvSpPr>
        <p:spPr>
          <a:xfrm>
            <a:off x="6705720" y="6019920"/>
            <a:ext cx="2133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5181-C951-4BD2-946B-1C12F8FE92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275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249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224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1142640"/>
            <a:ext cx="8915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rebuchet MS"/>
              </a:rPr>
              <a:t>Serdes Introduction and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rebuchet MS"/>
              </a:rPr>
              <a:t>AMS modelling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rebuchet MS"/>
              </a:rPr>
              <a:t>Richard Ward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rebuchet MS"/>
              </a:rPr>
              <a:t>Serdes Engineering (ASIC</a:t>
            </a: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25-July-2006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8512F-A995-4128-A1B8-24C933D0746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1976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rebuchet MS"/>
              </a:rPr>
              <a:t>Outline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Serdes Introduc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AMS Model Approach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1983A-D063-4B8C-BD10-139CD96C9B5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1976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rebuchet MS"/>
              </a:rPr>
              <a:t>Standards for SerDes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Which Standard would you like to follow?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802.3ap (10G Ethernet over backplane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OIF CEI 6G (short and long reach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OIF CEI 11G (short and long reach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PCI-Express (2.5G gen1, 5G gen2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XAUI (3.125G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Serial ATA (3.125G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FBDIMM/2 (4.8/6.4/8/9.6G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SerialRapidIO, (1.25/2.5/3.125G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Infiniban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FibreChann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C2636-CC8E-4366-82B6-A95FF7AF7D8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1976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rebuchet MS"/>
              </a:rPr>
              <a:t>What is the problem to solve?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3.125Gbps</a:t>
            </a: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     No EQ</a:t>
            </a: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Tx FIR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-312120">
              <a:spcBef>
                <a:spcPts val="3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6.25Gbps</a:t>
            </a: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     No EQ</a:t>
            </a: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Tx FIR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~40” FR4 o/p</a:t>
            </a: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514600" y="1295280"/>
            <a:ext cx="3048120" cy="2284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638680" y="1295280"/>
            <a:ext cx="3048120" cy="2284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2514600" y="4038480"/>
            <a:ext cx="3048120" cy="2284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5638680" y="4038480"/>
            <a:ext cx="3048120" cy="228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02AA3-4AB5-4C22-B265-B7AA229B4D1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1976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rebuchet MS"/>
              </a:rPr>
              <a:t>Example Channel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Typical channel for 5 to 10Gbps (~40” FR4)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5782" t="4499" r="7885" b="900"/>
          <a:stretch/>
        </p:blipFill>
        <p:spPr>
          <a:xfrm>
            <a:off x="990720" y="1295280"/>
            <a:ext cx="709776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08F52-1576-4206-9BD9-CC4C70D2725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1976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rebuchet MS"/>
              </a:rPr>
              <a:t>Typical SerDes Block Diagram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3047760"/>
            <a:ext cx="8534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rebuchet MS"/>
              </a:rPr>
              <a:t>Differential data has Clock and Data embedded into a serial stream. Most are NRZ/binary.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rebuchet MS"/>
              </a:rPr>
              <a:t>Keys parameters are: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spcBef>
                <a:spcPts val="24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Jitter generation (Tx) and jitter tolerance (Rx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spcBef>
                <a:spcPts val="24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Equalization ability (both Tx and Rx sides) and adap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spcBef>
                <a:spcPts val="24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Asynchronous tracking rate of Rx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spcBef>
                <a:spcPts val="24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PLL jitter rejection (from Refclk and chip/system noise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rebuchet MS"/>
              </a:rPr>
              <a:t>Most higher rate systems are Rx DFE (analog or digital)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28600" y="990720"/>
          <a:ext cx="8534520" cy="198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990720"/>
                    <a:ext cx="853452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437A9-99B2-4C5E-BB75-5B17A3CEDAF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1976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rebuchet MS"/>
              </a:rPr>
              <a:t>How would an AMS model fit?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41907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28600" y="900000"/>
          <a:ext cx="8610480" cy="306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900000"/>
                    <a:ext cx="8610480" cy="30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04920" y="4038480"/>
            <a:ext cx="853416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rebuchet MS"/>
              </a:rPr>
              <a:t>Different model requir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Architectural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Customer SI and Interoper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Steady-state performance s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Higher levels of system integration than previously neede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(AMS extending into the RTL/packet processing wor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5029200" y="3733920"/>
            <a:ext cx="3657600" cy="95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04D2B-8CC8-4B01-A291-9477B314067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1976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rebuchet MS"/>
              </a:rPr>
              <a:t>Performance Metrics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019920" y="3581280"/>
            <a:ext cx="2933640" cy="2205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200400" y="3581280"/>
            <a:ext cx="2933640" cy="2205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5943600" y="1392120"/>
            <a:ext cx="2933640" cy="2205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3200400" y="1371600"/>
            <a:ext cx="2933640" cy="2205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457200" y="3678120"/>
            <a:ext cx="2806560" cy="1889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7"/>
          <a:stretch/>
        </p:blipFill>
        <p:spPr>
          <a:xfrm>
            <a:off x="457200" y="1386000"/>
            <a:ext cx="2895480" cy="21715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962520" y="18241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Pulse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29400" y="16714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Crosstalk Impu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81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rebuchet MS"/>
              </a:rPr>
              <a:t>Ey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400800" y="39574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StatEye (sty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35440" y="3881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Sample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76360" y="2585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BER vs V Mar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20042-A3B6-4623-B721-AB11642256C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1976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rebuchet MS"/>
              </a:rPr>
              <a:t>AMS Model Approach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rebuchet MS"/>
              </a:rPr>
              <a:t>Benefits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Electrically awar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Integration with chip and board design system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RTL level simulation interfac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Standard EDA toolset/languag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rebuchet MS"/>
              </a:rPr>
              <a:t>Drawbacks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Performance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we believe this is the technical problem to solv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Framework of statistical extrapolation from the time domai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CAD license tie-up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2DF9D-3C41-4E96-BD60-14F53562CAA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6T21:20:02Z</dcterms:created>
  <dc:creator>Richard Ward</dc:creator>
  <dc:description/>
  <dc:language>en-US</dc:language>
  <cp:lastModifiedBy>Richard Ward</cp:lastModifiedBy>
  <dcterms:modified xsi:type="dcterms:W3CDTF">2006-07-20T12:54:37Z</dcterms:modified>
  <cp:revision>201</cp:revision>
  <dc:subject/>
  <dc:title>IBIS macro mode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