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ymmetric ciphers have many applications – direct use, digital envelopes, digital signatures, public key certificates, message 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encrypt with one key and decrypt with the other, it is an application issue which one I choose to rev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ed to build trust for secure transactions is regarded as a foundation for e-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widely used standard for secure communication worldwide is openPGP.  Its web of trust model works and is extremely sca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P author, ACME, has only key, so it can be referenced without naming it with a keyname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method, aes192-cbc, is a symmetric algorithm, the latest standardized by NIST, with 192 bit key length.  It is block ci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441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2952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2952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441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34441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34441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76132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441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441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2952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2952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441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34441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34441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876132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4441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2952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441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828800" y="655308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JS, IP Protection, July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28800" y="6394320"/>
            <a:ext cx="3305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9C08-1C65-4BD7-B4FA-24D8F7C67DC6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1680" cy="16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Black"/>
              </a:rPr>
              <a:t>A Standards-based Approach to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 Black"/>
              </a:rPr>
              <a:t>     IP Protection for HDLs</a:t>
            </a:r>
            <a:endParaRPr b="1" lang="en-US" sz="3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240" y="25905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John Shield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aff Engineer, Modelsim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lvl="1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symmetric Ciph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pair of keys - one to encrypt, the other to decryp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e key is designated the public key, the other the private ke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lves key delivery over an insecure chann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ure way of delivering messages in one direc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ery versatile mechanism applied many different way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ch slower decryption performan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monly 1000x slower!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symmetric Ciph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o send information only you can read, I'll need your public ke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uarantee is anything I send to you can only be read by you (…if that's really your public key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nyone else can send you private communication using your public key, too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You may need to authenticate that this came from m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avesdropping doesn’t hurt much, but “man in the middle”  coul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Envelop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hybrid approach employing enhanced key security of asymmetric ciphers with the performance of symmetric ciph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data (your IP) is encrypted with a session key using a symmetric ciph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ne use key, generated in a cryptographically random wa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session key is placed in a secure digital envelo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.e., encrypted with the public key of an asymmetric ciph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iphertext and the secure envelope are delivered to the us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EDA tool decrypts the envelope, gets the session key, and  then decrypts the dat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You can send many envelopes holding the same session key at the same time with your 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Signatur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signature identifies you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gal significance, weakly resistant to forger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 a digital signature, I take a little bit of information about me and/or my messag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sign, I encrypt it with m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key (asymmetric cipher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bout which key is revealed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 my public key, anyone can authoritatively determine that I signed i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wo important applications to discus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ing ke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enticating delivered I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ublic Key Certificates Build Trus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 public key and information about its owner that a trusted party digitally signs is called a 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public key certificat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 trusted party, the certification authority (CA), guarantees that this is really that owner’s public ke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 certificate is like a passport and the CA is like your government state department (or notary public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 CA can be an external service provider, an industry or government agenc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TU X.509 public key infrastructure stand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he signer is trusted by you and supports you in trusting someone el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Trust may be built organically using the “</a:t>
            </a:r>
            <a:r>
              <a:rPr b="1" i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web of trust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” mod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(open pgp, key signing parties, key servers..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1160"/>
            <a:ext cx="876312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Using Signatures for Authentica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mpute a fixed length binary string from an arbitrarily long message, its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essage diges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ryptographic hash function insures that no 2 messages will have the same diges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crypt a message, compute its digest, decrypt the signed digest, and compar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s process validates the authenticity of the message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Using message digests is an option in the standar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anity Check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rong encryption is possible with both symmetric and asymmetric ciphe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ute force attacks are computationally infeas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formation is secure unless you have the key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ey attacks could eavesdrop on key transmission, intercept the key and deliver a fake key, or steal the key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ems it’s all about managing the key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ch I claim is about establishing a web of trust  and using good quality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he Key Management Problem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HDL standards do not say how users and tools manage key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ou, as the IP provider, may have numerous key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per tool vendor, tool, tool rev, user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per model, per model revision,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You manage these keys inhouse and delivers some of them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ol Vendor has the same problems and one mor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tially many keys from many IP provid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ls must be delivered to customers with secured set of keys avail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at does it take to make this manageable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he Secure Keychain Concept 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In the standard, keys are identified by the tuple of owner and nam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Secure keychain is an encrypted persistent database that accesses a key by its identifier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Ability to import, remove, and export keys (maybe some other housekeeping utilities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Only the keychain manager enabled tools can access the database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The concept has a role as a standalone program, part of encryption tool suite, and part of a compliant EDA desig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 Second Look at the Flow</a:t>
            </a:r>
            <a:br>
              <a:rPr sz="3000"/>
            </a:b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For Producing Protected IP</a:t>
            </a:r>
            <a:endParaRPr b="1" lang="en-US" sz="3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53720" y="16416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8680" y="5105520"/>
            <a:ext cx="105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016080" y="1990800"/>
            <a:ext cx="1143000" cy="1066680"/>
            <a:chOff x="3016080" y="1990800"/>
            <a:chExt cx="1143000" cy="1066680"/>
          </a:xfrm>
        </p:grpSpPr>
        <p:grpSp>
          <p:nvGrpSpPr>
            <p:cNvPr id="177" name=""/>
            <p:cNvGrpSpPr/>
            <p:nvPr/>
          </p:nvGrpSpPr>
          <p:grpSpPr>
            <a:xfrm>
              <a:off x="3092400" y="1990800"/>
              <a:ext cx="1066680" cy="1066680"/>
              <a:chOff x="3092400" y="1990800"/>
              <a:chExt cx="1066680" cy="1066680"/>
            </a:xfrm>
          </p:grpSpPr>
          <p:sp>
            <p:nvSpPr>
              <p:cNvPr id="178" name=""/>
              <p:cNvSpPr/>
              <p:nvPr/>
            </p:nvSpPr>
            <p:spPr>
              <a:xfrm>
                <a:off x="3092400" y="1990800"/>
                <a:ext cx="1066680" cy="1066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92400" y="22957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92400" y="27529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92400" y="229572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016080" y="237168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tect me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25520" y="1955880"/>
            <a:ext cx="914400" cy="1101240"/>
            <a:chOff x="425520" y="1955880"/>
            <a:chExt cx="914400" cy="1101240"/>
          </a:xfrm>
        </p:grpSpPr>
        <p:sp>
          <p:nvSpPr>
            <p:cNvPr id="184" name=""/>
            <p:cNvSpPr/>
            <p:nvPr/>
          </p:nvSpPr>
          <p:spPr>
            <a:xfrm>
              <a:off x="425520" y="1990440"/>
              <a:ext cx="914400" cy="106668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520" y="19558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44480" y="2143080"/>
            <a:ext cx="1143000" cy="762120"/>
            <a:chOff x="1644480" y="2143080"/>
            <a:chExt cx="1143000" cy="762120"/>
          </a:xfrm>
        </p:grpSpPr>
        <p:sp>
          <p:nvSpPr>
            <p:cNvPr id="187" name=""/>
            <p:cNvSpPr/>
            <p:nvPr/>
          </p:nvSpPr>
          <p:spPr>
            <a:xfrm>
              <a:off x="1644480" y="2143080"/>
              <a:ext cx="11430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61120" y="2219400"/>
              <a:ext cx="1009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kup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tec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r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616280" y="2143080"/>
            <a:ext cx="1143000" cy="762120"/>
            <a:chOff x="4616280" y="2143080"/>
            <a:chExt cx="1143000" cy="762120"/>
          </a:xfrm>
        </p:grpSpPr>
        <p:sp>
          <p:nvSpPr>
            <p:cNvPr id="190" name=""/>
            <p:cNvSpPr/>
            <p:nvPr/>
          </p:nvSpPr>
          <p:spPr>
            <a:xfrm>
              <a:off x="4616280" y="2143080"/>
              <a:ext cx="11430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92240" y="229536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140520" y="1990800"/>
            <a:ext cx="1066680" cy="1066680"/>
            <a:chOff x="6140520" y="1990800"/>
            <a:chExt cx="1066680" cy="1066680"/>
          </a:xfrm>
        </p:grpSpPr>
        <p:sp>
          <p:nvSpPr>
            <p:cNvPr id="193" name=""/>
            <p:cNvSpPr/>
            <p:nvPr/>
          </p:nvSpPr>
          <p:spPr>
            <a:xfrm>
              <a:off x="6140520" y="1990800"/>
              <a:ext cx="106668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40520" y="2295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0520" y="2752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0520" y="229572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40520" y="2295720"/>
              <a:ext cx="1066680" cy="4572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7665840" y="18288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9920" y="25239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87480" y="2523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59080" y="2523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59280" y="25239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07200" y="2523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720800" y="4048200"/>
            <a:ext cx="1143000" cy="761760"/>
            <a:chOff x="1720800" y="4048200"/>
            <a:chExt cx="1143000" cy="761760"/>
          </a:xfrm>
        </p:grpSpPr>
        <p:sp>
          <p:nvSpPr>
            <p:cNvPr id="205" name=""/>
            <p:cNvSpPr/>
            <p:nvPr/>
          </p:nvSpPr>
          <p:spPr>
            <a:xfrm>
              <a:off x="1720800" y="4048200"/>
              <a:ext cx="114300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97480" y="412416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ne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y(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778200" y="3895560"/>
            <a:ext cx="685800" cy="1067040"/>
          </a:xfrm>
          <a:prstGeom prst="can">
            <a:avLst>
              <a:gd name="adj" fmla="val 25000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63800" y="4429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114800" y="2904840"/>
            <a:ext cx="1035000" cy="9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3040" y="167652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key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495680" y="3962520"/>
            <a:ext cx="3585960" cy="1675800"/>
            <a:chOff x="4495680" y="3962520"/>
            <a:chExt cx="3585960" cy="1675800"/>
          </a:xfrm>
        </p:grpSpPr>
        <p:sp>
          <p:nvSpPr>
            <p:cNvPr id="212" name=""/>
            <p:cNvSpPr/>
            <p:nvPr/>
          </p:nvSpPr>
          <p:spPr>
            <a:xfrm>
              <a:off x="7391520" y="4876560"/>
              <a:ext cx="685800" cy="76176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3320" y="51051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962520"/>
              <a:ext cx="1067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43600" y="4114800"/>
              <a:ext cx="101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6934320" y="4723920"/>
              <a:ext cx="45720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495680" y="43434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Brief Statu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rst Look at The Flow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cryption Technology Concep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ey Managemen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Look at the Flow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amples of the Protect Directiv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Few Missing Detail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mmendations for EDA Tool and IP Provider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400" spc="-1" strike="noStrike">
                <a:solidFill>
                  <a:srgbClr val="0000ff"/>
                </a:solidFill>
                <a:latin typeface="Arial"/>
              </a:rPr>
              <a:t>Validate Design Too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03480" y="9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47920" y="1219320"/>
            <a:ext cx="5638680" cy="4452480"/>
            <a:chOff x="1447920" y="1219320"/>
            <a:chExt cx="5638680" cy="4452480"/>
          </a:xfrm>
        </p:grpSpPr>
        <p:grpSp>
          <p:nvGrpSpPr>
            <p:cNvPr id="221" name=""/>
            <p:cNvGrpSpPr/>
            <p:nvPr/>
          </p:nvGrpSpPr>
          <p:grpSpPr>
            <a:xfrm>
              <a:off x="3581280" y="1752480"/>
              <a:ext cx="1600200" cy="990720"/>
              <a:chOff x="3581280" y="1752480"/>
              <a:chExt cx="1600200" cy="990720"/>
            </a:xfrm>
          </p:grpSpPr>
          <p:sp>
            <p:nvSpPr>
              <p:cNvPr id="222" name=""/>
              <p:cNvSpPr/>
              <p:nvPr/>
            </p:nvSpPr>
            <p:spPr>
              <a:xfrm>
                <a:off x="3581280" y="1752480"/>
                <a:ext cx="160020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56160" y="1904760"/>
                <a:ext cx="1448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li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ign T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248520" y="1219320"/>
              <a:ext cx="838080" cy="76176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4480" y="2514600"/>
              <a:ext cx="685800" cy="9144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3276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57600" y="3962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33920" y="327672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tim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3920" y="3657600"/>
              <a:ext cx="609480" cy="15228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286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181480" y="167652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81480" y="2514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419720" y="2743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7920" y="1219320"/>
              <a:ext cx="1066680" cy="228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47920" y="1981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47920" y="166212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7920" y="1676520"/>
              <a:ext cx="1066680" cy="4572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47920" y="251460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7920" y="251460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6400" y="1219320"/>
              <a:ext cx="89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ress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5680" y="3657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38280" y="3886200"/>
              <a:ext cx="685800" cy="1066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2720" y="3886200"/>
              <a:ext cx="685800" cy="1066680"/>
            </a:xfrm>
            <a:prstGeom prst="can">
              <a:avLst>
                <a:gd name="adj" fmla="val 25000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7080" y="5029200"/>
              <a:ext cx="110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yCh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502920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ool Specif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yCh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806280" y="4267080"/>
              <a:ext cx="1222920" cy="457200"/>
              <a:chOff x="3806280" y="4267080"/>
              <a:chExt cx="1222920" cy="457200"/>
            </a:xfrm>
          </p:grpSpPr>
          <p:sp>
            <p:nvSpPr>
              <p:cNvPr id="247" name=""/>
              <p:cNvSpPr/>
              <p:nvPr/>
            </p:nvSpPr>
            <p:spPr>
              <a:xfrm>
                <a:off x="3809880" y="4267080"/>
                <a:ext cx="121932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06280" y="4343400"/>
                <a:ext cx="1206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xport/Im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3124080" y="4495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29200" y="44956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4952880" y="2742840"/>
              <a:ext cx="9144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Validate EDA Design Too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If necessary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export keys from your local keychain and import them into a design tool specific local keychai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alify the customer experience with your IP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n validation tests on models using your protected IP  with that design to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alify the too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pect all tool outputs for exposure of IP, look at runtime environment for implementation weakn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liver local keychain securely to vendor for hardening into a tool release(its default keychain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ption to deliver a tool specific keychain with IP to directly customer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ends on the strength of protection of the local keychai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hoose Wisely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ecure keychain is just a concept to discuss principl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n IP Provider, to give keys to my vendors I migh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a key in a file, zip it, and email it…bad idea that often wor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it to a memory stick and Fedex it or hand carry it…bett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PKI or web of trust to establish secure communica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tool provider handling my customers keys I migh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ows a tester to copy it to a work directory that anyone can rea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it to a open file that is shipped in “customer_keys” directo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 best practices for handling secured communications and deliver with secure keycha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ndard has sound mechanisms, but anything can be defeated by careless actions and weak 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imple Secret Key IP Protection Scenario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ata_keyowner="ACME IP Provider", data_method="aes192-cbc"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P source text ..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imple Secret Key IP Protection Scenario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_protected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crypt_agent="Encryptomatic",encrypt_agent_info="2.3.4a"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ata_keyowner="ACME IP Provider", data_method="aes192-cbc"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coding = (enctype="base64", line_length=40, bytes=4006), data_block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coded encrypted IP ..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_protecte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efault IP Protection Scenario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P source text ..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7520" y="3276720"/>
            <a:ext cx="871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ryption tool selected key an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only be decrypted by related tools that share key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user generation or exchange of keys, no referencing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le EDA tool suites would use same de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mm…tool might enable the CAD group to configure de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efault IP Protection Scenario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_protected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crypt_agent="Encryptomatic", encrypt_agent_info="2.3.4a" `protect data_keyowner="Electrowizz Tool Co", data_keyname="crypto-101", data_method="des-cbc"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coding = (enctype="base64", line_length=40, bytes=4006), data_block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encoded encrypted IP ...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_protecte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Envelope Protection Scenario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key_keyowner="ACME IP Owner", key_name=”For Joe Designer”,key_method="rsa", key_block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ata_method="aes192-cbc"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P source text ..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ey_* directives indicate digital envelop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Envelope Protection Scenario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begin_protecte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encrypt_agent="Encryptomatic", encrypt_agent_info="2.3.4a"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key_keyowner="ACME IP Owner", key_name=”For Joe Designer”,key_method="rsa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encoding = (enctype="base64", line_length=40, bytes=256), key_bloc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coded encrypted session key ..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data_method="aes192-cbc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encoding = (enctype="base64", line_length=40, bytes=4006), data_bloc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ncoded encrypted IP ..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`protect end_protecte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ultiple Envelop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key_keyowner="ACME IP User1", key_method="rsa", key_block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key_keyowner="ACME IP User2", key_method="elgamal", key_block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key_keyowner="ACME IP User3", key_method="aes192-cbc", key_block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ata_method="aes192-cbc"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P source text ..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P Protection Goal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liver HDL-based IP to potential customers you do not completely trus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st turnaround from design to deliver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w cost to protec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ake money while protecting your investmen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 Signed Digital Envelop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key_keyowner="ACME IP User", key_method="rsa", key_block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ata_method="aes192-cbc"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igest_keyowner="ACME IP Author", digest_key_method="rsa"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digest_method="sha1", digest_block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begin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P source text ..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`protect en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Other Protect Directives in the Standard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Viewpor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s an aspect of your opaque IP for us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mature aspect of the stand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censi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 a license check to access I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sioned with marginal secur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coding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oose method of encoding binary ciphertext for textual repres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s and/or automatic annotation by encryption too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tandard Detail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 is the only required cipher metho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metric algorithm and highly exportab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can be broken by brute for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A-1 and MD5 are only required cryptographic hash functions for computing message digest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are considered to be very good; SHA-1 is the better o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h have been broken, but spoofing IP is not a practical vulnerabi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vision is made in the syntax for virtually all known and important ciphers, cryptographic hash functions, and encoder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" y="11160"/>
            <a:ext cx="876312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High Quality EDA Tools for IP Protection Should…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mplement the standard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vide additional market-driven ciphers, cryptographic hash functions, encoder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vide utilities for key generation, keychain management, and encryp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mploy best practices for developing encryption tool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ploy tools within the applicable law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vide a process for establishing secure communication with IP provider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llaborate on developing best practice for IP protec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Recommendation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dvocate your requirements to the EDA vendor communit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earn how vendors will safeguard your keys in their house and in the field when the tools are in u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ualify tools – tool-specific defaults, interoperability, performance, direct attack, runtime information compromi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se good counsel on export laws, use of encryption, etc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ke sure compromise doesn’t originate in your hou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nd you’ll make more money with your HDL-based IP!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UST ME ;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Backup Materia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emendous amount of info on the web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yptographic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export la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xperiment with Open PGP standard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SF’s GnuPG  is a good choi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export restrictions on it to my knowledge (except known sponsors of terro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ymmetric Ciph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 is a NIST standard, a 64 bit block cipher, with 56 bit ke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workhorse with no known structural attacks, brute force methods have cracked in ~22 hours ( ~30 2.2GHz Opteron years over 5 months was known level of effort at one time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t is exportable to non-terrorist countries (but you want a legal opinion, not mine!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terim improvement is triple-DES (which is 3 times slower)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ymmetric Ciph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ES is the new published NIST standard based on 128 bit blocks and 128, 256, or 512 bit key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t was selected from a large field of candidates in a competitive proces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t is unlikely to be cracked in our lifetim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symmetric Ciph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SA is most commonly used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eys of &gt;1024 bits are quite secure, 2048 should give security for decad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ome Approaches to IP Protec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ick and Mortar Isolation - the Design Cent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usting the Customer - Contractual Protec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quivalent Models - an abstraction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y all involve compromise in cost, quality, lead time, or effectiveness!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cryption – a lossless transformation rendering IP unreadabl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ution: poor implementation could give false hop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1160"/>
            <a:ext cx="876312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Verilog And VHDL Have Developed A Standard For IP Protection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Based on well-known standardized methods for strong encryption, encoding, and authenti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rkup of unprotected HDL source at the token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Flexibility to meet issues outside the standards, e.g., international legal consideration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IEEE Verilog 1364 - 2005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Accellera VHDL 2006 - pending approval 7/2006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inor differences reflect normal syntax considerations and learning curv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teady-State Flow At IP Vendo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3720" y="16416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971800" y="2286000"/>
            <a:ext cx="1143000" cy="1066680"/>
            <a:chOff x="2971800" y="2286000"/>
            <a:chExt cx="1143000" cy="1066680"/>
          </a:xfrm>
        </p:grpSpPr>
        <p:grpSp>
          <p:nvGrpSpPr>
            <p:cNvPr id="97" name=""/>
            <p:cNvGrpSpPr/>
            <p:nvPr/>
          </p:nvGrpSpPr>
          <p:grpSpPr>
            <a:xfrm>
              <a:off x="3048120" y="2286000"/>
              <a:ext cx="1066680" cy="1066680"/>
              <a:chOff x="3048120" y="2286000"/>
              <a:chExt cx="1066680" cy="1066680"/>
            </a:xfrm>
          </p:grpSpPr>
          <p:sp>
            <p:nvSpPr>
              <p:cNvPr id="98" name=""/>
              <p:cNvSpPr/>
              <p:nvPr/>
            </p:nvSpPr>
            <p:spPr>
              <a:xfrm>
                <a:off x="3048120" y="2286000"/>
                <a:ext cx="1066680" cy="106668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048120" y="25909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48120" y="304812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8120" y="259092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2971800" y="266688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tect me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80880" y="2251080"/>
            <a:ext cx="914400" cy="1101240"/>
            <a:chOff x="380880" y="2251080"/>
            <a:chExt cx="914400" cy="1101240"/>
          </a:xfrm>
        </p:grpSpPr>
        <p:sp>
          <p:nvSpPr>
            <p:cNvPr id="104" name=""/>
            <p:cNvSpPr/>
            <p:nvPr/>
          </p:nvSpPr>
          <p:spPr>
            <a:xfrm>
              <a:off x="380880" y="2285640"/>
              <a:ext cx="914400" cy="106668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3880" y="2251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00200" y="2438280"/>
            <a:ext cx="1143000" cy="762120"/>
            <a:chOff x="1600200" y="2438280"/>
            <a:chExt cx="1143000" cy="762120"/>
          </a:xfrm>
        </p:grpSpPr>
        <p:sp>
          <p:nvSpPr>
            <p:cNvPr id="107" name=""/>
            <p:cNvSpPr/>
            <p:nvPr/>
          </p:nvSpPr>
          <p:spPr>
            <a:xfrm>
              <a:off x="1600200" y="2438280"/>
              <a:ext cx="11430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6840" y="2514600"/>
              <a:ext cx="1009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kup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tec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r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572000" y="2438280"/>
            <a:ext cx="1143000" cy="762120"/>
            <a:chOff x="4572000" y="2438280"/>
            <a:chExt cx="1143000" cy="762120"/>
          </a:xfrm>
        </p:grpSpPr>
        <p:sp>
          <p:nvSpPr>
            <p:cNvPr id="110" name=""/>
            <p:cNvSpPr/>
            <p:nvPr/>
          </p:nvSpPr>
          <p:spPr>
            <a:xfrm>
              <a:off x="4572000" y="2438280"/>
              <a:ext cx="114300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47960" y="2590560"/>
              <a:ext cx="98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095880" y="2286000"/>
            <a:ext cx="1066680" cy="1066680"/>
            <a:chOff x="6095880" y="2286000"/>
            <a:chExt cx="1066680" cy="1066680"/>
          </a:xfrm>
        </p:grpSpPr>
        <p:sp>
          <p:nvSpPr>
            <p:cNvPr id="113" name=""/>
            <p:cNvSpPr/>
            <p:nvPr/>
          </p:nvSpPr>
          <p:spPr>
            <a:xfrm>
              <a:off x="6095880" y="2286000"/>
              <a:ext cx="1066680" cy="1066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25909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30481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259092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95880" y="2590920"/>
              <a:ext cx="1066680" cy="4572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621560" y="25146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62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981240" y="933480"/>
            <a:ext cx="723960" cy="5790960"/>
          </a:xfrm>
          <a:custGeom>
            <a:avLst/>
            <a:gdLst>
              <a:gd name="textAreaLeft" fmla="*/ 0 w 723960"/>
              <a:gd name="textAreaRight" fmla="*/ 261360 w 72396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0"/>
                </a:lnTo>
                <a:cubicBezTo>
                  <a:pt x="10800" y="10130"/>
                  <a:pt x="16200" y="11030"/>
                  <a:pt x="21600" y="11030"/>
                </a:cubicBezTo>
                <a:cubicBezTo>
                  <a:pt x="16200" y="11030"/>
                  <a:pt x="10800" y="11930"/>
                  <a:pt x="10800" y="128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520" y="41911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if business/legal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he Steady-State Flow At IP Vendo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velop your HDL mod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rkup sections of the model with encryption directive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tionally sanitize source, obsfucate it,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crypt the model onc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any standards-compliant encryption too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liver the IP to your customer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rectly, in a design kit, via a 3rd party, 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peat last 3 steps if legal/business considerations dictate different encryption methodology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761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The Customer Experienc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4038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works in his sho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P is only decrypted within the tool and just for its intended purpo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tool is obligated not to reveal information that would compromise protected I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encrypted IP is otherwise virtually impossible to crack (OK, we don’t know what the NSA can do :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03480" y="9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47920" y="1219320"/>
            <a:ext cx="5638680" cy="2743200"/>
            <a:chOff x="1447920" y="1219320"/>
            <a:chExt cx="5638680" cy="2743200"/>
          </a:xfrm>
        </p:grpSpPr>
        <p:grpSp>
          <p:nvGrpSpPr>
            <p:cNvPr id="132" name=""/>
            <p:cNvGrpSpPr/>
            <p:nvPr/>
          </p:nvGrpSpPr>
          <p:grpSpPr>
            <a:xfrm>
              <a:off x="3581280" y="1752480"/>
              <a:ext cx="1600200" cy="990720"/>
              <a:chOff x="3581280" y="1752480"/>
              <a:chExt cx="1600200" cy="990720"/>
            </a:xfrm>
          </p:grpSpPr>
          <p:sp>
            <p:nvSpPr>
              <p:cNvPr id="133" name=""/>
              <p:cNvSpPr/>
              <p:nvPr/>
            </p:nvSpPr>
            <p:spPr>
              <a:xfrm>
                <a:off x="3581280" y="1752480"/>
                <a:ext cx="1600200" cy="99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56160" y="1904760"/>
                <a:ext cx="1448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mpli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ign T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248520" y="1219320"/>
              <a:ext cx="838080" cy="761760"/>
            </a:xfrm>
            <a:prstGeom prst="flowChartMulti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2514600"/>
              <a:ext cx="685800" cy="9144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57600" y="32767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57600" y="3962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33920" y="327672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untime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33920" y="3657600"/>
              <a:ext cx="609480" cy="15228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4600" y="2286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181480" y="1676520"/>
              <a:ext cx="10670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251460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419720" y="2743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1219320"/>
              <a:ext cx="1066680" cy="2286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19810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166212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7920" y="1676520"/>
              <a:ext cx="1066680" cy="457200"/>
            </a:xfrm>
            <a:prstGeom prst="rect">
              <a:avLst/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2514600"/>
              <a:ext cx="10666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7920" y="251460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3880" y="121932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95680" y="3657600"/>
              <a:ext cx="609840" cy="1522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Symmetric Cipher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secret key is used to convert plaintext to ciphertex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ciphertext can be sent over an insecure channel without concern of compromis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same secret key must used to decrypt ciphertext back into plaintex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e secret key is delivered in some out of band communication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ure bi-directional exchange of messages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ymmetric ciphers may be implemented in hardware or software and are generally quite fast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 Ross</cp:lastModifiedBy>
  <dcterms:modified xsi:type="dcterms:W3CDTF">2006-07-20T23:15:41Z</dcterms:modified>
  <cp:revision>14</cp:revision>
  <dc:subject/>
  <dc:title>A Standards-based Approach to      IP Protection for HDLs</dc:title>
</cp:coreProperties>
</file>