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6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A4F51CA9-88FC-4F69-A1A2-7583248F149B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Summary and Evolu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Summi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 Automation Conference 200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n Francisco, Californ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ly 25, 200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Expanded Tree (from Specification)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ross_4_2_tree.txt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ibs, .pkg, .ebd fi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yword hierarchy, grouping, scoping, and subparame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peated keywords and subparame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lus major version history for IBIS addi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lus predefined sel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ides a partial syntactical summa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d version in IBIS Version 4.2 specificat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BIS Evolution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ross_4_2_evol.pdf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laps, reformats tre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yering” columns of IBIS from Version 1.1 through 4.2 shows functional evolu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p-level groupings for keywo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lights significant [* Spec] subparameters and *_type selections  – a key aspect of IB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volution of all other subparame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st predefined selections in tree not show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ther notable changes giv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BIS Organization and Consistencie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e header for .ibs, .pkg, .eb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roup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nformation and Specification (header and throughout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inout (under Component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ackage (under Component and Package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odel (and submodel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lectrical Board Descrip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cal section or grouping consistencies and rules for functionality groupings (e.g., multi-lingual section, series elements, test load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unctionality sometimes touches several ar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Name, Functional Consistenci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n keywords (with [* Pin *] – lower case subparameters as (sometimes optional) column headings (except R_pin, L_pin, C_pin), and usually list pin numb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age keywords [* Package *] or under R_pin, L_pin, C_pin colum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other subparameter names start with upper-case (except dV/dt_r and dV/dt_f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*, L*, C* for passive elements, usually V* for volt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on names or strings re-used (e.g., POWER, GND, Pullup, Pulldown, ext_ref, ref, etc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always a few excep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Many Consistencies Not Show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-min-max rules (by magnitude or P/V/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ral keyword and subparameter forma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parameters positioned before scoped keywords or tab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ery few keyword ordering rules at top-level or within keyword scop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numerical subparameter “=“ rule, otherwise white sp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 system, base units, multipli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 always requ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more consistencies and also specific excep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xpansion Syntax Op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main consistent (at least locally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Keyword or Subparameter choice?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Format style?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Name options?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stency simplifies rules and understanding and promotes adop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osing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cuments summarize IBIS and its evolution leading to 150 pag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hows name and structural consistency and intera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ICM separate document – syntax departures block IBIS merge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sion 5.x (column) layer and tree expan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Link IBIS and ICM, EMC rules, power delivery, more multi-lingual refinements, more specs., etc.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ore layering and blending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6-07-02T04:50:42Z</dcterms:modified>
  <cp:revision>612</cp:revision>
  <dc:subject/>
  <dc:title>IBIS</dc:title>
</cp:coreProperties>
</file>