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6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EA98DE00-40F3-4C4F-BC84-EE3C1E43E44E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Buffers for Advanced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PICE to IBIS Testing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Summi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 Automation Conference 200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n Francisco, Californ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ly 25, 200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CL (PECL) Buffer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295280"/>
            <a:ext cx="86868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PU_REF  12        EN  3       14  PC_R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        ^            V        ^           PC_REF -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        |            |        |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+---------+------+     |    +---+---+       + 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|         |      |     |    |   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/         /      |     |   DPC     RPC    RTERM=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550  \    550  \      |     |    |   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/         /      |     |    + 34    + 36    +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\         \    |/      |    |   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|         +----|  Q3   |   PCSW    PCRSW  RTERM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|         |    |\      |    |   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|         |      +---ENSW---+-------+-------+------&lt;&gt; 1 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+ 8     9 +      30     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|/           \|              GCSW    GCR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IN  2 &gt;--+---|  Q1     Q2  |---+ 10    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|\     7     /|   |           + 33    +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+----+----+     |       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   |        PU_REF       DGC     R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(2 MA)      - 1.32    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   |                  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   +---------------+------+------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      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                   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                   13  GC_R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1219320"/>
            <a:ext cx="1600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1219320"/>
            <a:ext cx="1600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6095880"/>
            <a:ext cx="1600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3429000"/>
            <a:ext cx="8380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4038480"/>
            <a:ext cx="7621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1828800"/>
            <a:ext cx="2819520" cy="37339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3505320"/>
            <a:ext cx="60948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828800"/>
            <a:ext cx="2590920" cy="3733920"/>
          </a:xfrm>
          <a:prstGeom prst="rect">
            <a:avLst/>
          </a:prstGeom>
          <a:noFill/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3124080"/>
            <a:ext cx="2590920" cy="12956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1219320"/>
            <a:ext cx="7621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ECL (PECL) Configuration Control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.SUBCKT ECLTEST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371600"/>
            <a:ext cx="79246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ON-OFF CONFIGURATION SWIT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(1 OR ABOVE = ON, 0 = 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VGC     1     GND CL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VPC     1     POWER CL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VGCR    0     INTERNAL GND CLAMP RESISTOR (3K oh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VPCR    0     INTERNAL POWER CLAMP RESISTOR (2K oh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VTERM   0     INTERNAL 50 OHM TERMINATOR TO VCC -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VEN = 1      VEN = 1,0       VEN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Output_ECL   I/O_ECL,        Input_E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           3-state_E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                   Control   Voltage      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            I/O    Inputs   References    Switches (1 = 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            ---   --------  ----------  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SUBCKT ECLTEST   1      2  3     12 13 14    23 24  25  26 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            I/O    IN EN     PU GC PC    GC PC GCR PCR  R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                                               3K  2K  50_2V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4724280"/>
            <a:ext cx="3049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876920"/>
            <a:ext cx="1981080" cy="60948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4876920"/>
            <a:ext cx="144792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4876920"/>
            <a:ext cx="99072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124080"/>
            <a:ext cx="380988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886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2133720"/>
            <a:ext cx="5105520" cy="914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3048120"/>
            <a:ext cx="0" cy="18288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31240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Enable (ECL/PECL voltage levels require EN voltage shifts so that “0” is of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3623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19051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Gill Sans MT"/>
              </a:rPr>
              <a:t>Diode Clamps, 2 k</a:t>
            </a:r>
            <a:r>
              <a:rPr b="1" lang="en-US" sz="1800" spc="-1" strike="noStrike">
                <a:solidFill>
                  <a:srgbClr val="00cc99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cc99"/>
                </a:solidFill>
                <a:latin typeface="Gill Sans MT"/>
              </a:rPr>
              <a:t> and 3 k</a:t>
            </a:r>
            <a:r>
              <a:rPr b="1" lang="en-US" sz="1800" spc="-1" strike="noStrike">
                <a:solidFill>
                  <a:srgbClr val="00cc99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cc99"/>
                </a:solidFill>
                <a:latin typeface="Gill Sans MT"/>
              </a:rPr>
              <a:t> ODTs, and 50 </a:t>
            </a:r>
            <a:r>
              <a:rPr b="1" lang="en-US" sz="1800" spc="-1" strike="noStrike">
                <a:solidFill>
                  <a:srgbClr val="00cc99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cc99"/>
                </a:solidFill>
                <a:latin typeface="Gill Sans MT"/>
              </a:rPr>
              <a:t> Internal Term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5715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/O, Input and 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E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57150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oltage Re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5715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Gill Sans MT"/>
              </a:rPr>
              <a:t>Clamps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Gill Sans MT"/>
              </a:rPr>
              <a:t>and ODT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xtraction Tes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MOSTEST and ECLTEST for advanced extraction tes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ll Model_type configuration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Voltage reference setting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lamps and internal OD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Double counting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Truncation of tables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Differential models though subcircuit call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Typ-Min-Max alignmen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 any s2ibis tool consider all these cases?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Otherwise need several passes and hand calculation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cove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ubmodel modes (for example: DDR2 ODT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re-emphasis - [Driver Schedule] partition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nfigurable CMOS &amp; ECL Buffe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buffers for all Model_types, voltages, clamps and on-die terminators (ODT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rkeley SPICE to support all SP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Level 2 CMOS, standard bipolar ECL &amp; simple diod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umerical nod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yntax-neutral multiplier switched conductan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86ecc"/>
                </a:solidFill>
                <a:latin typeface="Gill Sans MT"/>
              </a:rPr>
              <a:t>GPDSW   30  31  POLY(2) (30,31) (21,0)   0 0 0 0 1000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RPDSW   30  31  1G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3" marL="1487880" indent="-21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ill Sans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pen:   R = 1 G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487880" indent="-21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ill Sans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osed: G = 1000 S   (0.00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xternally set 0 and 1 voltage assignmen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Could be parameterized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cases through s2ibis and scrip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MOS Buffer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19320"/>
            <a:ext cx="77724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                 EN  3        14  PC_R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                     V        ^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PU_REF  12               |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     ^               |    +---+--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     |               |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+-----+-----+         |   DPC     R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|           |         |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|--+        |--+         | 34 +       + 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+--o|  M2   +--o|  M4        |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|   |--+    |   |--+--PUSW   |  PCSW    PCR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|      |    |     32   |     |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IN  2 &gt;--+   10 +----+       30 +---ENSW---+-------+------&lt;&gt; 1 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|      |    |     31   |      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|   |--+    |   |--+--PDSW      GCSW    GCR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+---|  M1   +---|  M3         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|--+        |--+           33 +       + 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|           |          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+-----+-----+             DGC     R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     |                    |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     V                    +---+--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PD_REF  11           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                              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                                           13  GC_R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133720"/>
            <a:ext cx="2590920" cy="31240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676520"/>
            <a:ext cx="1600200" cy="3886200"/>
          </a:xfrm>
          <a:prstGeom prst="rect">
            <a:avLst/>
          </a:prstGeom>
          <a:noFill/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3124080"/>
            <a:ext cx="1600200" cy="12193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124080"/>
            <a:ext cx="99072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523880"/>
            <a:ext cx="1600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5791320"/>
            <a:ext cx="1600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3352680"/>
            <a:ext cx="83844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1143000"/>
            <a:ext cx="1600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5410080"/>
            <a:ext cx="1600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3352680"/>
            <a:ext cx="76176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18288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Gill Sans MT"/>
              </a:rPr>
              <a:t>Diode Clamps, 50 </a:t>
            </a:r>
            <a:r>
              <a:rPr b="1" lang="en-US" sz="1800" spc="-1" strike="noStrike">
                <a:solidFill>
                  <a:srgbClr val="00cc99"/>
                </a:solidFill>
                <a:latin typeface="Symbol"/>
                <a:ea typeface="Symbol"/>
              </a:rPr>
              <a:t></a:t>
            </a:r>
            <a:r>
              <a:rPr b="1" lang="en-US" sz="1800" spc="-1" strike="noStrike">
                <a:solidFill>
                  <a:srgbClr val="00cc99"/>
                </a:solidFill>
                <a:latin typeface="Gill Sans MT"/>
              </a:rPr>
              <a:t>ODTs and confiturations swi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914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Enable and Model_type configuration swi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143000"/>
            <a:ext cx="7621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CMOS Configuration Control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.SUBCKT CMOSTEST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95280"/>
            <a:ext cx="74678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ON-OFF CONFIGURATION SWIT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(1 OR ABOVE = ON, 0 = 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VPD     1     PULL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VPU     1     PULL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VGC     1     GND CL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VPC     1     POWER CL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VGCR    0     INTERNAL GND CLAMP RESISTOR (50 oh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VPCR    0     INTERNAL POWER CLAMP RESISTOR (50 oh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VPD   VPU    VEN = 1      VEN = 1,0         VEN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1     1     Output       3-state, I/O      Input, Ter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1     0     Open_drain   I/O_open_drain    Input, Ter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0     1     Open_source  I/O_open_source   Input, Ter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X     X                                    Input, Ter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                   Control     Voltage      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            I/O    Inputs     References    Switches (1 = 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            ---   --------   -----------   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SUBCKT CMOSTEST  1      2  3     11 12 13 14   21 22 23 24  25 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            I/O    IN EN     PD PU GC PC   PD PU GC PC GCR P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276720"/>
            <a:ext cx="586728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4343400"/>
            <a:ext cx="3808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5334120"/>
            <a:ext cx="6094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5257800"/>
            <a:ext cx="3049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3276720"/>
            <a:ext cx="36576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276360" y="3505320"/>
            <a:ext cx="7596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057400"/>
            <a:ext cx="22860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438280"/>
            <a:ext cx="5257800" cy="7621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5334120"/>
            <a:ext cx="1371600" cy="4572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2819520"/>
            <a:ext cx="762120" cy="2514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243828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Diode Clamps and 50 </a:t>
            </a: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 OD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98108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Model_type plus Enabl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32767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nable with Model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59436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/O, Input and 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5334120"/>
            <a:ext cx="12956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5334120"/>
            <a:ext cx="1218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5943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oltage Re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59436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Model_type, </a:t>
            </a:r>
            <a:r>
              <a:rPr b="1" lang="en-US" sz="1800" spc="-1" strike="noStrike">
                <a:solidFill>
                  <a:srgbClr val="00cc99"/>
                </a:solidFill>
                <a:latin typeface="Gill Sans MT"/>
              </a:rPr>
              <a:t>Clamps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Gill Sans MT"/>
              </a:rPr>
              <a:t>and ODT Conf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witches (Berkeley SPICE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514600"/>
            <a:ext cx="6705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CONFIGURATION CONTROL SWITCHES---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                 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Pulldown and Pullup             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PDSW   30  31  POLY(2) (30,31) (21,0)   0 0 0 0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PDSW   30  31  1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PUSW   32  30  POLY(2) (32,30) (22,0)   0 0 0 0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PUSW   32  30  1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Gnd Clamp and Power Cl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GCSW    1  33  POLY(2)  (1,33) (23,0)   0 0 0 0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GCSW    1  33  1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PCSW   34   1  POLY(2)  (34,1) (24,0)   0 0 0 0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PCSW   34   1  1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Gnd Clamp Resistor and Power Clamp Resi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GCRSW   1  35  POLY(2)  (1,35) (25,0)   0 0 0 0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GCRSW   1  35  1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PCRSW  36   1  POLY(2)  (36,1) (26,0)   0 0 0 0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PCRSW  36   1  1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E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NSW   30   1  POLY(2)  (30,1) (3,0)    0 0 0 0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NSW   30   1  1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143000"/>
            <a:ext cx="6248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                       Control     Voltage       Configu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                I/O    Inputs     References    Switches (1 = 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                ---   --------   -----------   ----------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SUBCKT CMOSTEST  1      2  3     11 12 13 14   21 22 23 24  25 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                I/O    IN EN     PD PU GC PC   PD PU GC PC GCR P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971800"/>
            <a:ext cx="68580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1905120"/>
            <a:ext cx="53352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905120"/>
            <a:ext cx="2286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5791320"/>
            <a:ext cx="68580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2286000"/>
            <a:ext cx="685800" cy="350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419720" y="2286000"/>
            <a:ext cx="3808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3962520"/>
            <a:ext cx="685800" cy="16002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1905120"/>
            <a:ext cx="1066680" cy="38088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495320" y="2286000"/>
            <a:ext cx="1295640" cy="16765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Pulldown]s for Several Model_type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0200" y="2819520"/>
            <a:ext cx="1828800" cy="13716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981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Gill Sans MT"/>
              </a:rPr>
              <a:t>Power and Gnd Cla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2438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2057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/O and 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1600200"/>
            <a:ext cx="1981080" cy="2362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19112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 substrate diode in PMOS for I/O and Output versus Open_drain (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Diode and ODT – Test I-V Processing and SPICE to IBIS Method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14400" y="1219320"/>
          <a:ext cx="4594320" cy="276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4594320" cy="27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657600" y="2971800"/>
          <a:ext cx="4594320" cy="276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971800"/>
                    <a:ext cx="459432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257800" y="16765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[Power Clamp] chopped at V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2209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[Gnd Clamp] chopped at V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1676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V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1981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3276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Total I-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42670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[Power Clamp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8862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[Gnd Clamp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57150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Better tables based on “DEC” (Deviate, Extrapolate, Calcul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1911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One method based on chopping the I-V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Diode and ODT – Corresponding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BIS Model Plot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14800" y="2895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8769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Chopped – can cause double counting of ODT currents in some EDA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1981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DEC” IBIS plots show extended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DEC and Some Other Choices from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Ross, 9/2005 ODT Presentation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520" y="1447920"/>
          <a:ext cx="3962160" cy="22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962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648320" y="1455840"/>
          <a:ext cx="3962160" cy="2257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455840"/>
                    <a:ext cx="396216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33520" y="3886200"/>
          <a:ext cx="3944880" cy="2308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886200"/>
                    <a:ext cx="394488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664160" y="3886200"/>
          <a:ext cx="3946320" cy="2309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4160" y="3886200"/>
                    <a:ext cx="394632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838080" y="1600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lip and Extend 52.8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60020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fault DEC  94.2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and 12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038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Gnd Clamp]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4038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Power Clamp]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2286000"/>
            <a:ext cx="1143000" cy="533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724280"/>
            <a:ext cx="1143000" cy="533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2286000"/>
            <a:ext cx="1143000" cy="533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4724280"/>
            <a:ext cx="1143000" cy="533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6-07-28T06:07:17Z</dcterms:modified>
  <cp:revision>690</cp:revision>
  <dc:subject/>
  <dc:title>IBIS</dc:title>
</cp:coreProperties>
</file>