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0DF-2630-43DC-BC44-C752BA42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5CF-ED1F-41CB-B69F-0CE005D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881-A7BB-401A-8D80-434188C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FEE-EEB4-48BC-BCD8-E278EF63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94A-CB6E-4311-827E-0475905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88F-F7B4-432D-908B-DA078159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81C3-D339-47EA-BCE5-5EB2C974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C36C-8705-4138-8713-132F787D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CBD-6B75-4F99-8F8D-63E5320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59F7-DA5E-4F81-892B-25602E2F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AB7-86CA-4BC8-ACA1-0C7862B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8C9-D265-4E5B-BDC3-432CBCC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94C-A303-4CEF-9B50-DD6A4B9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B4DE-F72D-4429-8FAE-F20CC50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4B3C-F7F3-4DE9-B631-8DF9D8A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4EFA-B095-4266-870C-BD859D81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B773-A8B9-424F-B01A-37881DE4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35E-AF8F-4730-BA6E-AA00C16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0EC-ADEE-40F1-8402-098B19DD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785-D5B9-4393-8DA4-97A7B82C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C5F-1689-48D7-AFA1-1BC1047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7AF-E949-4092-9FE8-4DF00CF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B44-216F-48C1-B2BC-4D079A2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EE3-C320-4450-9421-3395E88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30160" y="6357600"/>
            <a:ext cx="557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318B-6801-4CC0-A88F-D1D8704BF25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00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05640" y="527040"/>
            <a:ext cx="2165400" cy="88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C98-9A1C-4785-98EA-54F6B18A80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05640" y="527040"/>
            <a:ext cx="2165400" cy="88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" y="4286160"/>
            <a:ext cx="9140760" cy="257184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257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BIS in the Frequency Domai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71640" y="37623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ichael Mirma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tel Corpo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C IBIS Summit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ly 25,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ssues with C_comp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1920" y="914040"/>
            <a:ext cx="8609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_comp is dependent on more than frequenc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55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Voltage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55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Buffer state (high, low, high-impedance)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55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ee presentations from Giacotto, Mirmak, Muranyi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Flat” C_comp may be effectively useless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55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Based on edge rate </a:t>
            </a:r>
            <a:r>
              <a:rPr b="0" lang="en-US" sz="2200" spc="-1" strike="noStrike" u="sng">
                <a:solidFill>
                  <a:srgbClr val="0860a8"/>
                </a:solidFill>
                <a:uFillTx/>
                <a:latin typeface="Verdana"/>
              </a:rPr>
              <a:t>and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switching frequency (Area 4)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55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e.g., USB switches at 1.5 MHz and above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4543560"/>
            <a:ext cx="7505640" cy="112392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his is a specification-level problem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C_comp tables?  Equations?  AM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EEF-BA8A-41B4-955F-A7EDF7F17C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352760" y="2203560"/>
            <a:ext cx="4562640" cy="2149200"/>
            <a:chOff x="4352760" y="2203560"/>
            <a:chExt cx="4562640" cy="21492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352760" y="2203560"/>
              <a:ext cx="456264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128720" y="3687120"/>
              <a:ext cx="149760" cy="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4040" y="272880"/>
            <a:ext cx="8637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rea 3: Buffer Impedance &amp; Passive Model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7520" y="694800"/>
            <a:ext cx="84567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lated to C_comp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_comp is a limited expression of buffer reactance or imaginary portion of total impedanc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-V tables are the real portion of total impedance, taken at D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47680" y="2498760"/>
            <a:ext cx="3902040" cy="100872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erform a FD sweep an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reate a passive model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atch behavi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5360" y="3583080"/>
            <a:ext cx="3321000" cy="1765080"/>
            <a:chOff x="225360" y="3583080"/>
            <a:chExt cx="3321000" cy="17650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225360" y="3583080"/>
              <a:ext cx="332100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08760" y="4410000"/>
              <a:ext cx="400320" cy="25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390920" y="3657600"/>
            <a:ext cx="4581720" cy="232416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616280" y="3773520"/>
            <a:ext cx="4205520" cy="2041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29160" y="4210200"/>
            <a:ext cx="799920" cy="885600"/>
          </a:xfrm>
          <a:custGeom>
            <a:avLst/>
            <a:gdLst>
              <a:gd name="textAreaLeft" fmla="*/ 124920 w 799920"/>
              <a:gd name="textAreaRight" fmla="*/ 700200 w 799920"/>
              <a:gd name="textAreaTop" fmla="*/ 221400 h 885600"/>
              <a:gd name="textAreaBottom" fmla="*/ 664200 h 88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705600" y="543240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BIS Equivalent Circu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clamps omitted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9B2-47E0-45C5-80E8-470B22CE98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4040" y="272880"/>
            <a:ext cx="8637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roblems with FD Passive Model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698040"/>
            <a:ext cx="84564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call C_comp issues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Values of R, C change with state, voltage, frequenc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Multiple circuit model may be needed; how to transition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Passive modeling even of RX buffers questionable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See transistor theory: AC model and </a:t>
            </a:r>
            <a:r>
              <a:rPr b="0" i="1" lang="en-US" sz="2000" spc="-1" strike="noStrike" u="sng">
                <a:solidFill>
                  <a:srgbClr val="aa014c"/>
                </a:solidFill>
                <a:uFillTx/>
                <a:latin typeface="Verdana"/>
              </a:rPr>
              <a:t>dependent sources</a:t>
            </a: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Also, for TX, see A. Muranyi on gate modul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5442120"/>
            <a:ext cx="8420400" cy="50472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Need new fundamental buffer circuit model for IBI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7840800" y="3137040"/>
            <a:ext cx="284040" cy="156960"/>
          </a:xfrm>
          <a:prstGeom prst="rect">
            <a:avLst/>
          </a:prstGeom>
          <a:noFill/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913280" y="3224160"/>
            <a:ext cx="2938320" cy="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8138880" y="3166920"/>
            <a:ext cx="75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Dra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266600" y="3800520"/>
            <a:ext cx="471240" cy="52200"/>
            <a:chOff x="7266600" y="3800520"/>
            <a:chExt cx="471240" cy="52200"/>
          </a:xfrm>
        </p:grpSpPr>
        <p:sp>
          <p:nvSpPr>
            <p:cNvPr id="245" name=""/>
            <p:cNvSpPr/>
            <p:nvPr/>
          </p:nvSpPr>
          <p:spPr>
            <a:xfrm>
              <a:off x="7266600" y="3852720"/>
              <a:ext cx="47124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66600" y="3800520"/>
              <a:ext cx="47124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497720" y="3218040"/>
            <a:ext cx="0" cy="5727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7496280" y="3860640"/>
            <a:ext cx="0" cy="91764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623480" y="4376880"/>
            <a:ext cx="471240" cy="52200"/>
            <a:chOff x="4623480" y="4376880"/>
            <a:chExt cx="471240" cy="52200"/>
          </a:xfrm>
        </p:grpSpPr>
        <p:sp>
          <p:nvSpPr>
            <p:cNvPr id="250" name=""/>
            <p:cNvSpPr/>
            <p:nvPr/>
          </p:nvSpPr>
          <p:spPr>
            <a:xfrm>
              <a:off x="4623480" y="4429080"/>
              <a:ext cx="47124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3480" y="4376880"/>
              <a:ext cx="47124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840200" y="4443480"/>
            <a:ext cx="0" cy="62208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4840200" y="4052880"/>
            <a:ext cx="0" cy="31104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23080" y="3235320"/>
            <a:ext cx="0" cy="26352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65680" y="3608280"/>
            <a:ext cx="470880" cy="52560"/>
            <a:chOff x="3865680" y="3608280"/>
            <a:chExt cx="470880" cy="52560"/>
          </a:xfrm>
        </p:grpSpPr>
        <p:sp>
          <p:nvSpPr>
            <p:cNvPr id="256" name=""/>
            <p:cNvSpPr/>
            <p:nvPr/>
          </p:nvSpPr>
          <p:spPr>
            <a:xfrm>
              <a:off x="3865680" y="3660840"/>
              <a:ext cx="47088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65680" y="3608280"/>
              <a:ext cx="47088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83120" y="3652920"/>
            <a:ext cx="0" cy="6141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649920" y="3490920"/>
            <a:ext cx="173880" cy="339480"/>
            <a:chOff x="6649920" y="3490920"/>
            <a:chExt cx="173880" cy="339480"/>
          </a:xfrm>
        </p:grpSpPr>
        <p:sp>
          <p:nvSpPr>
            <p:cNvPr id="260" name=""/>
            <p:cNvSpPr/>
            <p:nvPr/>
          </p:nvSpPr>
          <p:spPr>
            <a:xfrm flipH="1">
              <a:off x="6664320" y="3490920"/>
              <a:ext cx="15948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6663600" y="3546360"/>
              <a:ext cx="15948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663240" y="3602520"/>
              <a:ext cx="15984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6662160" y="3657960"/>
              <a:ext cx="15948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650280" y="3718800"/>
              <a:ext cx="15948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6649920" y="3774240"/>
              <a:ext cx="159840" cy="56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083120" y="3220920"/>
            <a:ext cx="0" cy="3747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7852680" y="3738600"/>
            <a:ext cx="979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drain-bod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3144960" y="3232080"/>
            <a:ext cx="0" cy="3873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3143160" y="3676680"/>
            <a:ext cx="0" cy="110160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00520" y="3616200"/>
            <a:ext cx="470880" cy="52560"/>
            <a:chOff x="2900520" y="3616200"/>
            <a:chExt cx="470880" cy="52560"/>
          </a:xfrm>
        </p:grpSpPr>
        <p:sp>
          <p:nvSpPr>
            <p:cNvPr id="271" name=""/>
            <p:cNvSpPr/>
            <p:nvPr/>
          </p:nvSpPr>
          <p:spPr>
            <a:xfrm>
              <a:off x="2900520" y="3668760"/>
              <a:ext cx="47088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00520" y="3616200"/>
              <a:ext cx="470880" cy="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021760" y="3457440"/>
            <a:ext cx="907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gate-bod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516040" y="3137040"/>
            <a:ext cx="282600" cy="156960"/>
          </a:xfrm>
          <a:prstGeom prst="rect">
            <a:avLst/>
          </a:prstGeom>
          <a:noFill/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778640" y="3098880"/>
            <a:ext cx="107640" cy="261720"/>
            <a:chOff x="4778640" y="3098880"/>
            <a:chExt cx="107640" cy="261720"/>
          </a:xfrm>
        </p:grpSpPr>
        <p:sp>
          <p:nvSpPr>
            <p:cNvPr id="276" name=""/>
            <p:cNvSpPr/>
            <p:nvPr/>
          </p:nvSpPr>
          <p:spPr>
            <a:xfrm>
              <a:off x="4778640" y="3098880"/>
              <a:ext cx="0" cy="26172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86280" y="3098880"/>
              <a:ext cx="0" cy="26172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380480" y="3205080"/>
            <a:ext cx="936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gate-dra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5064120"/>
            <a:ext cx="282600" cy="157320"/>
          </a:xfrm>
          <a:prstGeom prst="rect">
            <a:avLst/>
          </a:prstGeom>
          <a:noFill/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5016960" y="4881600"/>
            <a:ext cx="18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Body (Substra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133800" y="4789440"/>
            <a:ext cx="4378320" cy="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2801880" y="3219480"/>
            <a:ext cx="1957320" cy="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4094280" y="4051440"/>
            <a:ext cx="3405240" cy="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3936960" y="4275000"/>
            <a:ext cx="284040" cy="157320"/>
          </a:xfrm>
          <a:prstGeom prst="rect">
            <a:avLst/>
          </a:prstGeom>
          <a:noFill/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1828440" y="3130560"/>
            <a:ext cx="65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G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4154040" y="3672000"/>
            <a:ext cx="997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gate-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10480" y="3825360"/>
            <a:ext cx="0" cy="22716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6849360" y="3438360"/>
            <a:ext cx="560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5477040" y="3753000"/>
            <a:ext cx="0" cy="29844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96040" y="3767040"/>
            <a:ext cx="0" cy="28440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296040" y="3211560"/>
            <a:ext cx="0" cy="26352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5477040" y="3211560"/>
            <a:ext cx="0" cy="263520"/>
          </a:xfrm>
          <a:prstGeom prst="line">
            <a:avLst/>
          </a:prstGeom>
          <a:ln w="284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272200" y="3468600"/>
            <a:ext cx="396360" cy="319320"/>
            <a:chOff x="5272200" y="3468600"/>
            <a:chExt cx="396360" cy="319320"/>
          </a:xfrm>
        </p:grpSpPr>
        <p:sp>
          <p:nvSpPr>
            <p:cNvPr id="294" name=""/>
            <p:cNvSpPr/>
            <p:nvPr/>
          </p:nvSpPr>
          <p:spPr>
            <a:xfrm>
              <a:off x="5272200" y="3468600"/>
              <a:ext cx="396360" cy="319320"/>
            </a:xfrm>
            <a:prstGeom prst="flowChartDecision">
              <a:avLst/>
            </a:pr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4080" y="3546360"/>
              <a:ext cx="12600" cy="1915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103800" y="3460680"/>
            <a:ext cx="396720" cy="320760"/>
            <a:chOff x="6103800" y="3460680"/>
            <a:chExt cx="396720" cy="320760"/>
          </a:xfrm>
        </p:grpSpPr>
        <p:sp>
          <p:nvSpPr>
            <p:cNvPr id="297" name=""/>
            <p:cNvSpPr/>
            <p:nvPr/>
          </p:nvSpPr>
          <p:spPr>
            <a:xfrm>
              <a:off x="6103800" y="3460680"/>
              <a:ext cx="396720" cy="320760"/>
            </a:xfrm>
            <a:prstGeom prst="flowChartDecision">
              <a:avLst/>
            </a:pr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5680" y="3538800"/>
              <a:ext cx="12600" cy="19224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05160" y="4303800"/>
            <a:ext cx="1040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source-bod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460480" y="3235320"/>
            <a:ext cx="6883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536800" y="3630600"/>
            <a:ext cx="7675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mb</a:t>
            </a: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860a8"/>
                </a:solidFill>
                <a:latin typeface="Times New Roman"/>
              </a:rPr>
              <a:t>b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4425840"/>
            <a:ext cx="85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543960" y="4006800"/>
            <a:ext cx="1991160" cy="131076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ommon HF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ircuit mod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for transis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(some resistan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mitted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522-B8F7-4E12-AB2C-11C8C87041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rea 4: Edge Rate vs. Switching Frequ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760" y="800280"/>
            <a:ext cx="82375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ximum frequency” is a vague te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Must distinguish between switching and </a:t>
            </a:r>
            <a:r>
              <a:rPr b="0" i="1" lang="en-US" sz="1800" spc="-1" strike="noStrike" u="sng">
                <a:solidFill>
                  <a:srgbClr val="aa014c"/>
                </a:solidFill>
                <a:uFillTx/>
                <a:latin typeface="Verdana"/>
              </a:rPr>
              <a:t>harmonic cont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Energy spectral density (Fknee) from edge rate is a useful me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 extreme example (alteration of USB scenario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A 100 kHz interface with ~650 ps edge r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V-t tables should be 5 </a:t>
            </a:r>
            <a:r>
              <a:rPr b="0" i="1" lang="el-GR" sz="1800" spc="-1" strike="noStrike">
                <a:solidFill>
                  <a:srgbClr val="aa014c"/>
                </a:solidFill>
                <a:latin typeface="Verdana"/>
              </a:rPr>
              <a:t>μ</a:t>
            </a: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s or shorter in du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aa014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BUT knee frequency ~530-770 MHz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04640" y="3238560"/>
          <a:ext cx="7898040" cy="28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238560"/>
                    <a:ext cx="78980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600440" y="3308400"/>
            <a:ext cx="1800" cy="24876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470480"/>
            <a:ext cx="495360" cy="1295280"/>
          </a:xfrm>
          <a:prstGeom prst="ellipse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3291840" y="3727440"/>
            <a:ext cx="122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witch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7456320" y="4413240"/>
            <a:ext cx="1049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pectr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ns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ollof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6338880" y="2647800"/>
            <a:ext cx="2382840" cy="146556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ich frequency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nge is “right” for C_comp or impedance-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el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D18-3C11-452A-8F08-FD7D7E1634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dge Rate and Switch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800280"/>
            <a:ext cx="82375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lassic example: System Management Bus (SMBus)*  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Operating frequency: 10-100 kH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Rise, fall time maxima between 300 - 1000 ns; no mini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Bus capacitive load maximum per segment: 400 pF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Slow edge rate means lumped load design rules can be used for lines up to 250” in length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374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simulations required so long as bus load limit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What happens with a “fast” buffer (5 ns edge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374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connects over 5” in length become distribut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374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ust use sim tool, plus spec becomes inappropri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A problem for IBIS &amp; modeling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What load should be used for Ramp, V-t, Vmeas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74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Loads for lumped assumption good for distributed system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46120" y="5067360"/>
            <a:ext cx="7962840" cy="844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Buffer design, buffer model AND specifica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must be consistent with interface need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26F-0426-459D-BD4A-9A7C545B4A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6800" y="762120"/>
            <a:ext cx="8675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BIS usage changes with FD analysis, increasing frequencies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550"/>
              </a:spcBef>
              <a:buClr>
                <a:srgbClr val="aa014c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a014c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Consumers must use models appropriately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bserve maximum edge rate, switching frequency limit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ognize bounds on fundamental IBIS circuit mod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Model &amp; tool makers must keep frequency in mind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550"/>
              </a:spcBef>
              <a:buClr>
                <a:srgbClr val="aa014c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a014c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What behaviors need to be expressed?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550"/>
              </a:spcBef>
              <a:buClr>
                <a:srgbClr val="aa014c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Are today’s keywords expressive enough? (e.g. C_comp)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550"/>
              </a:spcBef>
              <a:buClr>
                <a:srgbClr val="aa014c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aa014c"/>
                </a:solidFill>
                <a:latin typeface="Verdana"/>
              </a:rPr>
              <a:t>AMS: What specific equations, data sets need inclusion in model examples and templates?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781200" y="4464000"/>
            <a:ext cx="7470720" cy="1478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roposal: Change to complex impedanc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model for buffers using AMS. Use nativ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IBIS for interface pass/fail criteria a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measurement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DAA-D319-491C-B5DD-AADD57D186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E421-F5EA-401F-9F77-525DFC4E8C3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gend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requency Domain and Related Aspec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ea 1: Maximum Switching Frequenc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ea 2: C_comp Stabil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ea 3: Buffer Impedance and Passive Model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ea 4: Edge Rate vs. Switching Frequenc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126684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029-B26A-4C06-BF55-CA28283D59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requency Domain Analysi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771480"/>
            <a:ext cx="82375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 frequency domain (FD) analysis, modeling options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e increasingly popula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face speeds approaching microwave reg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Microwave methods migrating into SI wor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D analysis, popular for resonance/reflection detection, tends to be faster than time domai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ools, industry specifications now defining “channel-based” methods and requirement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a014c"/>
                </a:solidFill>
                <a:latin typeface="Verdana"/>
              </a:rPr>
              <a:t>Serial ATA, PCI Express* loss requir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-parameters for interconnects (e.g., ICM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542880" y="4800600"/>
            <a:ext cx="7962840" cy="952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ow well does IBIS perform in these kind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application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321-4DC0-4E22-B0E9-FF370740A9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Key Areas for IBIS and F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809640"/>
            <a:ext cx="82375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Several key areas should be considered when using IBIS in FD applications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13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Maximum switching frequency of the buffer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13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Variability of C_comp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13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Passive modeling of buffer impedance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13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Edge rate vs. switching frequency distinction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4210200"/>
            <a:ext cx="7962840" cy="148572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All these areas must be understood and check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o ensure IBIS is applicable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hese should be familiar to long-time user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628-E922-404C-AC31-30530763D1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rea 1: Maximum Switching Frequ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9080" y="780840"/>
            <a:ext cx="8480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The maximum </a:t>
            </a:r>
            <a:r>
              <a:rPr b="0" i="1" lang="en-US" sz="2200" spc="-1" strike="noStrike" u="sng">
                <a:solidFill>
                  <a:srgbClr val="0860a8"/>
                </a:solidFill>
                <a:uFillTx/>
                <a:latin typeface="Verdana"/>
              </a:rPr>
              <a:t>switching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frequency for an IBIS model is: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V-t </a:t>
            </a:r>
            <a:r>
              <a:rPr b="0" i="1" lang="en-US" sz="2200" spc="-1" strike="noStrike">
                <a:solidFill>
                  <a:srgbClr val="0860a8"/>
                </a:solidFill>
                <a:latin typeface="Verdana"/>
              </a:rPr>
              <a:t>data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must start and end with settled DC voltages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Enables matching to I-V load-line intercept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witching buffer more slowly than V-t duration avoids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“switching into an unfinished edge”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ome tools may be intelligent enough to cut V-t table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data to include only transition information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4848120"/>
            <a:ext cx="7962840" cy="96228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to “overclock” an IBIS model can lea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o unpredictable resul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87440" y="1174680"/>
                <a:ext cx="6093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q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bl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uration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cond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D76-C4B7-44BE-BEBF-B984EAC761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witching into an unfinished edge (review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971640"/>
            <a:ext cx="7067520" cy="480996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100160"/>
            <a:ext cx="6611760" cy="4489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95920" y="4524120"/>
            <a:ext cx="1244520" cy="12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ourtesy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Arpad Muranyi,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June 2003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Ad Hoc presentation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4933800"/>
            <a:ext cx="2847960" cy="209880"/>
          </a:xfrm>
          <a:prstGeom prst="rect">
            <a:avLst/>
          </a:prstGeom>
          <a:solidFill>
            <a:srgbClr val="fdf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048200" y="4734000"/>
            <a:ext cx="2581200" cy="209520"/>
          </a:xfrm>
          <a:prstGeom prst="rect">
            <a:avLst/>
          </a:prstGeom>
          <a:solidFill>
            <a:srgbClr val="fdf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0" y="4781520"/>
            <a:ext cx="2629080" cy="304920"/>
          </a:xfrm>
          <a:prstGeom prst="rect">
            <a:avLst/>
          </a:prstGeom>
          <a:solidFill>
            <a:srgbClr val="fdf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Times New Roman"/>
              </a:rPr>
              <a:t>Jump occurs with IBI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Times New Roman"/>
              </a:rPr>
              <a:t>but not with transistor mode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44480" y="2079720"/>
            <a:ext cx="1927080" cy="119124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ura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rom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inappropri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equenc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B5D-818A-4FE1-845E-A4BEF63DFB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ssues with Switching Frequ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8237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ot technically “in frequency domain” 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684360" indent="-436680">
              <a:spcBef>
                <a:spcPts val="499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Not analyzing buffer with periodic sinusoids but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For some interfaces, buffers may have limited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amp rates to reduce radiation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lvl="2" marL="684360" indent="-436680">
              <a:spcBef>
                <a:spcPts val="499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Nearest-neighbor coupling and EMI</a:t>
            </a: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684360" indent="-436680">
              <a:spcBef>
                <a:spcPts val="499"/>
              </a:spcBef>
              <a:buClr>
                <a:srgbClr val="aa014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a014c"/>
                </a:solidFill>
                <a:latin typeface="Verdana"/>
              </a:rPr>
              <a:t>e.g. memory buses with high parallel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81040" y="3828960"/>
            <a:ext cx="7962840" cy="20862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he maximum switching frequency is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determined by the IBIS model data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In the long term, IBIS overclocking is a tool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equation and/or specification problem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90F-4814-4AC4-BE87-B0F913410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rea 2: C_comp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86080" y="1247400"/>
            <a:ext cx="37400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ffer capacitance is, in part, frequency-depen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ingle value for C_comp may not be universally appropriate for all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we define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imit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region where a single value of C_comp </a:t>
            </a:r>
            <a:r>
              <a:rPr b="0" lang="en-US" sz="1800" spc="-1" strike="noStrike" u="sng">
                <a:solidFill>
                  <a:srgbClr val="0860a8"/>
                </a:solidFill>
                <a:uFillTx/>
                <a:latin typeface="Verdana"/>
              </a:rPr>
              <a:t>i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ppropriat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33360" y="1019160"/>
            <a:ext cx="4353120" cy="420048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4880" y="1733400"/>
            <a:ext cx="4267080" cy="3697560"/>
            <a:chOff x="704880" y="1733400"/>
            <a:chExt cx="4267080" cy="36975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704880" y="1733400"/>
              <a:ext cx="4267080" cy="36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flipV="1">
              <a:off x="3165840" y="4898880"/>
              <a:ext cx="1398600" cy="45216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1137960" y="4768200"/>
              <a:ext cx="1071000" cy="521640"/>
            </a:xfrm>
            <a:prstGeom prst="line">
              <a:avLst/>
            </a:prstGeom>
            <a:ln w="2844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2960" y="5037840"/>
              <a:ext cx="182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55400" y="50569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e86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3120" y="5037840"/>
              <a:ext cx="184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2640" y="49874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e86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96840" y="2402640"/>
              <a:ext cx="0" cy="2252520"/>
            </a:xfrm>
            <a:prstGeom prst="line">
              <a:avLst/>
            </a:prstGeom>
            <a:ln w="381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0680" y="20826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e86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760" y="124128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USB Buffer in the Frequency Doma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133960" y="4124160"/>
            <a:ext cx="3828960" cy="112428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Slice across th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C_comp profi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05040" y="207648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943360" y="220032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200400" y="230508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86240" y="246708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33760" y="267660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591000" y="290520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619440" y="311472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09880" y="3238560"/>
            <a:ext cx="542880" cy="4665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962520" y="3390840"/>
            <a:ext cx="542880" cy="4669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48E-C428-40B3-92BB-DBB9408E78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rea 2: C_comp at 0.3 V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gnoring voltage, C_comp is st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33360" y="762120"/>
            <a:ext cx="8458200" cy="5153040"/>
          </a:xfrm>
          <a:prstGeom prst="rect">
            <a:avLst/>
          </a:pr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6520" y="952560"/>
          <a:ext cx="81010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952560"/>
                    <a:ext cx="81010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809960" y="1066680"/>
            <a:ext cx="0" cy="4038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914200" y="3067200"/>
            <a:ext cx="1876680" cy="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6240600" y="955800"/>
            <a:ext cx="244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elow 100 kHz, C_com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 flat at 14.7 pF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240600" y="2041560"/>
            <a:ext cx="244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 single valu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 appropri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 this ran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 Other names and brands may be claimed as the property of ot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75F-E15C-49C7-B15A-BF4755B902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14:06Z</dcterms:created>
  <dc:creator>Michael Mirmak</dc:creator>
  <dc:description/>
  <dc:language>en-US</dc:language>
  <cp:lastModifiedBy>Michael Mirmak</cp:lastModifiedBy>
  <dcterms:modified xsi:type="dcterms:W3CDTF">2006-07-24T00:39:17Z</dcterms:modified>
  <cp:revision>72</cp:revision>
  <dc:subject/>
  <dc:title>IBIS in the Frequency Domain</dc:title>
</cp:coreProperties>
</file>