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3EF-0D18-42C4-AE55-B7D01BCC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D8A-BD5F-413A-B98B-F1EE5228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E2E-A8E2-4E97-BA81-59868118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A86-056D-49E0-ACE1-7A0FACFE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33D6-C7FA-455F-BC27-46185F3C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187-BF2C-42B3-BB43-67D100E1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9A8B-3A5B-4D47-8D6D-541D4584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B84D-C424-412C-86B4-1B416363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81FD-38D7-49FE-9AFD-393FA018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852D-E3B4-4A38-9F37-E0256ACE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4172-55CA-4A61-92CA-8B2B7CF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EA0-D685-4038-A084-DF54A7D2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0ED-DAC9-4F81-A7F5-76E8D30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A4CE-DFEB-4241-B155-D2467DA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5C2D-17F0-4524-8E4A-308C72CE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491F-CCE6-45FB-B1F1-ACB4F0F0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7E3D-AC0F-4950-88EC-F8B2685C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49E-7285-4D3D-8435-0937DE0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7FD-6004-4E6E-B6D2-C1F2877D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F90-84C3-47FB-8E69-9FCEB61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576-F641-4695-93E8-4D848D66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721-F6F5-4CD5-8265-79B9278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E23-4D13-44C3-B7B0-F7E58531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4EE-CDE7-4C1C-816C-C4F1640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C4B-E6B1-459F-B284-0791071B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05680" y="181080"/>
            <a:ext cx="1833480" cy="21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-stds.org/ibis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 200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5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eda-stds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C79F-3EF8-40ED-93E6-A38CE2C99D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050-BB6F-498A-9223-9046CD2819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43080" y="1066680"/>
            <a:ext cx="843912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pecification approved Jun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Golden Parser completed and avail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anks to Jon Powell for considerable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hip and Parser Lic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urrently, membership stands at 28 – meets objec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argeting one additional ICM parser lic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n-track to close 2006 with sur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23960" y="5384880"/>
            <a:ext cx="7620120" cy="65700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 trends are healthy for 2006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CD0-7F54-43AC-92EC-8EB5233048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IRD Queu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723960" y="5384880"/>
            <a:ext cx="7620120" cy="65700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focus is on closing the IBIS 5.0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480" y="1209600"/>
            <a:ext cx="88772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821160" indent="-372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IRDs for IBIS 5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74.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EMI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95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Power Integrity Analysis using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103.1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[Model Spec] DDR2 Over/Undersh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IRD97.2/98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Gate Modulation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4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[External Model] under [Circuit Cal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400" spc="-1" strike="noStrike">
                <a:solidFill>
                  <a:srgbClr val="00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ICM-IBIS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4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User-Defined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5C4-9119-46C5-9483-77BF8DE35D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H="1">
            <a:off x="860400" y="3105000"/>
            <a:ext cx="7920" cy="6224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832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724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2084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120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1560" y="39132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336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832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8120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98320" y="3760920"/>
            <a:ext cx="1082880" cy="152280"/>
            <a:chOff x="598320" y="3760920"/>
            <a:chExt cx="1082880" cy="152280"/>
          </a:xfrm>
        </p:grpSpPr>
        <p:sp>
          <p:nvSpPr>
            <p:cNvPr id="108" name=""/>
            <p:cNvSpPr/>
            <p:nvPr/>
          </p:nvSpPr>
          <p:spPr>
            <a:xfrm>
              <a:off x="59832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98320" y="3817800"/>
              <a:ext cx="1082880" cy="90360"/>
              <a:chOff x="598320" y="3817800"/>
              <a:chExt cx="1082880" cy="9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9832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1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4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8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31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14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9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8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6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347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31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14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97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81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1681200" y="3760920"/>
            <a:ext cx="1085760" cy="152280"/>
            <a:chOff x="1681200" y="3760920"/>
            <a:chExt cx="1085760" cy="152280"/>
          </a:xfrm>
        </p:grpSpPr>
        <p:sp>
          <p:nvSpPr>
            <p:cNvPr id="125" name=""/>
            <p:cNvSpPr/>
            <p:nvPr/>
          </p:nvSpPr>
          <p:spPr>
            <a:xfrm>
              <a:off x="168120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681200" y="3817800"/>
              <a:ext cx="1085760" cy="90360"/>
              <a:chOff x="1681200" y="3817800"/>
              <a:chExt cx="1085760" cy="90360"/>
            </a:xfrm>
          </p:grpSpPr>
          <p:sp>
            <p:nvSpPr>
              <p:cNvPr id="127" name=""/>
              <p:cNvSpPr/>
              <p:nvPr/>
            </p:nvSpPr>
            <p:spPr>
              <a:xfrm>
                <a:off x="168120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64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478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317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49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984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82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65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49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2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160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99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83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66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808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05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46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696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732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7680" y="39132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9840" y="3913200"/>
            <a:ext cx="363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696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984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66960" y="376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66960" y="3760920"/>
            <a:ext cx="1082880" cy="152280"/>
            <a:chOff x="2766960" y="3760920"/>
            <a:chExt cx="1082880" cy="152280"/>
          </a:xfrm>
        </p:grpSpPr>
        <p:sp>
          <p:nvSpPr>
            <p:cNvPr id="154" name=""/>
            <p:cNvSpPr/>
            <p:nvPr/>
          </p:nvSpPr>
          <p:spPr>
            <a:xfrm>
              <a:off x="276696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766960" y="3817800"/>
              <a:ext cx="1082880" cy="90360"/>
              <a:chOff x="2766960" y="3817800"/>
              <a:chExt cx="1082880" cy="9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276696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50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332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16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99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83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66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49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3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16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99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82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66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49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3849840" y="3760920"/>
            <a:ext cx="1085760" cy="152280"/>
            <a:chOff x="3849840" y="3760920"/>
            <a:chExt cx="1085760" cy="152280"/>
          </a:xfrm>
        </p:grpSpPr>
        <p:sp>
          <p:nvSpPr>
            <p:cNvPr id="171" name=""/>
            <p:cNvSpPr/>
            <p:nvPr/>
          </p:nvSpPr>
          <p:spPr>
            <a:xfrm>
              <a:off x="384984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849840" y="3817800"/>
              <a:ext cx="1085760" cy="90360"/>
              <a:chOff x="3849840" y="3817800"/>
              <a:chExt cx="1085760" cy="90360"/>
            </a:xfrm>
          </p:grpSpPr>
          <p:sp>
            <p:nvSpPr>
              <p:cNvPr id="173" name=""/>
              <p:cNvSpPr/>
              <p:nvPr/>
            </p:nvSpPr>
            <p:spPr>
              <a:xfrm>
                <a:off x="384984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33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16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004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83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50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34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1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0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8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68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51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356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635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960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960" y="5916600"/>
            <a:ext cx="149400" cy="1522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440" y="560232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62360" y="591012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7292520" y="2911320"/>
            <a:ext cx="15264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7440" y="5264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73400" y="586116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BIS Summit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080" y="5565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1680" y="5567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4480" y="555624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57600" y="378468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6240" y="462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35600" y="391176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9416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812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8480" y="391176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4064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5600" y="4064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8120" y="4064040"/>
            <a:ext cx="1086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935600" y="3759120"/>
            <a:ext cx="1076400" cy="152280"/>
            <a:chOff x="4935600" y="3759120"/>
            <a:chExt cx="1076400" cy="152280"/>
          </a:xfrm>
        </p:grpSpPr>
        <p:sp>
          <p:nvSpPr>
            <p:cNvPr id="211" name=""/>
            <p:cNvSpPr/>
            <p:nvPr/>
          </p:nvSpPr>
          <p:spPr>
            <a:xfrm>
              <a:off x="49356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935600" y="3816000"/>
              <a:ext cx="1076400" cy="90360"/>
              <a:chOff x="4935600" y="3816000"/>
              <a:chExt cx="1076400" cy="90360"/>
            </a:xfrm>
          </p:grpSpPr>
          <p:sp>
            <p:nvSpPr>
              <p:cNvPr id="213" name=""/>
              <p:cNvSpPr/>
              <p:nvPr/>
            </p:nvSpPr>
            <p:spPr>
              <a:xfrm>
                <a:off x="49356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18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00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84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66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4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32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14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98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6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460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28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12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6012000" y="3759120"/>
            <a:ext cx="1085760" cy="152280"/>
            <a:chOff x="6012000" y="3759120"/>
            <a:chExt cx="1085760" cy="152280"/>
          </a:xfrm>
        </p:grpSpPr>
        <p:sp>
          <p:nvSpPr>
            <p:cNvPr id="228" name=""/>
            <p:cNvSpPr/>
            <p:nvPr/>
          </p:nvSpPr>
          <p:spPr>
            <a:xfrm>
              <a:off x="60120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012000" y="3816000"/>
              <a:ext cx="1085760" cy="90360"/>
              <a:chOff x="6012000" y="3816000"/>
              <a:chExt cx="1085760" cy="90360"/>
            </a:xfrm>
          </p:grpSpPr>
          <p:sp>
            <p:nvSpPr>
              <p:cNvPr id="230" name=""/>
              <p:cNvSpPr/>
              <p:nvPr/>
            </p:nvSpPr>
            <p:spPr>
              <a:xfrm>
                <a:off x="60120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955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786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2625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3457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2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131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96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801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633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46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303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138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97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579096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7760" y="3911760"/>
            <a:ext cx="366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460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24960" y="391176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97760" y="4064040"/>
            <a:ext cx="1089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`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7760" y="3759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97760" y="3759120"/>
            <a:ext cx="1082520" cy="152280"/>
            <a:chOff x="7097760" y="3759120"/>
            <a:chExt cx="1082520" cy="152280"/>
          </a:xfrm>
        </p:grpSpPr>
        <p:sp>
          <p:nvSpPr>
            <p:cNvPr id="252" name=""/>
            <p:cNvSpPr/>
            <p:nvPr/>
          </p:nvSpPr>
          <p:spPr>
            <a:xfrm>
              <a:off x="709776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097760" y="3816000"/>
              <a:ext cx="1082520" cy="90360"/>
              <a:chOff x="7097760" y="3816000"/>
              <a:chExt cx="1082520" cy="90360"/>
            </a:xfrm>
          </p:grpSpPr>
          <p:sp>
            <p:nvSpPr>
              <p:cNvPr id="254" name=""/>
              <p:cNvSpPr/>
              <p:nvPr/>
            </p:nvSpPr>
            <p:spPr>
              <a:xfrm>
                <a:off x="709776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80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40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76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30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13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97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80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63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46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3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01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96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180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7966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97760" y="378936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760" y="4070520"/>
            <a:ext cx="7964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80120" y="2722680"/>
            <a:ext cx="7462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raft IBIS 5.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670120" y="33544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6280" y="5299200"/>
            <a:ext cx="228600" cy="190440"/>
          </a:xfrm>
          <a:prstGeom prst="pentagon">
            <a:avLst/>
          </a:prstGeom>
          <a:solidFill>
            <a:srgbClr val="66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2320" y="585792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BIS Summit 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27160" y="3013200"/>
            <a:ext cx="12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IA/ANSI 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3080" y="1019160"/>
            <a:ext cx="69339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ittee focus for the nea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plete IBIS 4.2 GEIA/ANSI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lean ICM-Touchstone® links (new s-parameter format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ng Term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omplete all IBIS 5.0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280" y="4232160"/>
            <a:ext cx="22356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4320" y="4287960"/>
            <a:ext cx="149400" cy="15228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35520" y="42591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4120" y="428148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9960" y="4232160"/>
            <a:ext cx="228600" cy="190440"/>
          </a:xfrm>
          <a:prstGeom prst="pentagon">
            <a:avLst/>
          </a:prstGeom>
          <a:solidFill>
            <a:srgbClr val="66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3480" y="4249800"/>
            <a:ext cx="14940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67320" y="42228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566040" y="3430080"/>
            <a:ext cx="0" cy="2797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5800" y="4619520"/>
            <a:ext cx="3848040" cy="1557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5.0 shifts 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within 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rather than IBIS keywor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7DE-2DF6-4252-A2D2-2B190CFD3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6-07-20T18:24:19Z</dcterms:modified>
  <cp:revision>374</cp:revision>
  <dc:subject>DAC IBIS Summit 2006</dc:subject>
  <dc:title>IBIS Chair's Report and Roadmap</dc:title>
</cp:coreProperties>
</file>