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371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96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57200" y="657180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81811EB-C9E9-4206-9239-44EFDEB4765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40920" y="6634080"/>
            <a:ext cx="1149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Cisco RTG HSD Libr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FF76C2D-F358-4729-9BB3-82A85DE4E8E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992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2384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BIS Quality Design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 Summit 25 July 200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abont@cisc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www.vhdl.org/pub/ibis/quality_wip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IBIS Quality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37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chk plus a few manual che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manual che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manual checks plus simulation correl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manual checks plus measurement correl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manual checks plus all correl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BIS Quality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ctness check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checked, quality unknow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es ibisch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chk plus basic manual che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chk plus all manual che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and note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surement correla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ulation correla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m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486400"/>
            <a:ext cx="3048120" cy="520560"/>
          </a:xfrm>
          <a:prstGeom prst="rect">
            <a:avLst/>
          </a:prstGeom>
          <a:noFill/>
          <a:ln w="19080">
            <a:solidFill>
              <a:srgbClr val="027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2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we change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2000"/>
          </a:bodyPr>
          <a:p>
            <a:pPr marL="265680" indent="-2656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1616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l 0 should be reserved for files not checked or not passing ibisch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1616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ment and simulation are decoupled from chec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1616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rves room for higher levels of chec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1616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ld system is in use (not extensively thoug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1616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ld system is compatible with IBIS Accuracy Specif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8:18:00Z</dcterms:created>
  <dc:creator>Mike LaBonte</dc:creator>
  <dc:description/>
  <dc:language>en-US</dc:language>
  <cp:lastModifiedBy>Mike LaBonte</cp:lastModifiedBy>
  <dcterms:modified xsi:type="dcterms:W3CDTF">2006-07-14T19:42:27Z</dcterms:modified>
  <cp:revision>8</cp:revision>
  <dc:subject/>
  <dc:title>IBIS Quality Designations</dc:title>
</cp:coreProperties>
</file>