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9285-4A3D-4848-A12E-3D4A53908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08E5-711E-4D10-B9A2-6C680D58B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3EBE-7B62-4C20-B25F-834E371E9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A8AB-9094-4DEA-A459-54064ACE3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52C-8E53-4B07-ADB8-A160CBD04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72B3-9125-4FCF-AEE6-31B036E3B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28C5-0B9A-45D1-9552-5310AD59B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52CB-116E-4F58-B01E-FC3574D02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9FAF-4FE0-4DF2-A168-7A0B5C026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569E-A290-4FDE-ADDD-2547575EC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8F8B-AB4B-4718-9593-E914DB98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9DFA-B321-43D4-B231-A8716968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440" y="66290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7B1-D6BF-4CF0-94E2-33A085C2DA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38880" y="664380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ntor Graphics 200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ff"/>
                </a:solidFill>
                <a:latin typeface="Arial Black"/>
              </a:rPr>
              <a:t>New Needs for Measurements </a:t>
            </a:r>
            <a:br>
              <a:rPr sz="3800"/>
            </a:br>
            <a:r>
              <a:rPr b="0" lang="en-US" sz="3800" spc="-1" strike="noStrike">
                <a:solidFill>
                  <a:srgbClr val="66ffff"/>
                </a:solidFill>
                <a:latin typeface="Arial Black"/>
              </a:rPr>
              <a:t>and Parameter Passing in IBIS</a:t>
            </a:r>
            <a:br>
              <a:rPr sz="3800"/>
            </a:br>
            <a:br>
              <a:rPr sz="3800"/>
            </a:br>
            <a:r>
              <a:rPr b="0" lang="en-US" sz="2400" spc="-1" strike="noStrike">
                <a:solidFill>
                  <a:srgbClr val="66ffff"/>
                </a:solidFill>
                <a:latin typeface="Arial Black"/>
              </a:rPr>
              <a:t>IBIS Open Forum,</a:t>
            </a:r>
            <a:r>
              <a:rPr b="0" lang="en-US" sz="3800" spc="-1" strike="noStrike">
                <a:solidFill>
                  <a:srgbClr val="66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 Black"/>
              </a:rPr>
              <a:t>July 2006</a:t>
            </a:r>
            <a:br>
              <a:rPr sz="3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51814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an C Dod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chitect, High Speed Tool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DD Divis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Measurement Support in IBIS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ally IBIS has supported measurement by adding new keywor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Vinh, Vinh_ac, Vinh_d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are all aware of the difficulties keeping IBIS up to date to meet new measurement requir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es to new measurement keywords inclu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reating or adopting an IBIS measurement languag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telligent AMS* models that make their own measurement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4240" y="5791320"/>
            <a:ext cx="644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*Analog VHDL, Analog Verilog, VHDL-AMS, Verilog AMS or possibly ‘C’ language mode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0D37-A63B-41CB-ACA7-B2F3180146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New IBIS measurements and SI tools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ally SI tools have supported IBIS measurements through specialized c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s the SI tool to be enhanced before support for the new keyword becomes avail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lternatives to adding new IBIS measurement keywords can be complemented by enhancing SI tools to dynamically add new measur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each new measurement were accompanied by the following information it would allow the SI tools to deploy a user friendly interfac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 results: keyword, description, usage, data type and valid ran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 AMS parameters: keyword, description, usage, data type and valid data entry ran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69C5-6A66-4A07-9818-C4AB436B4E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Hypothetical Example of a Result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notonicity, specified by Vt integral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yword: “monotonic_vti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: “Maximum non-monotonicity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ge: Constrained simulation resul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type: floating point numb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id Range: less than 0.02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e (from simulation): 0.17 - Violation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F78E-9DFC-4A5D-9501-791B80280C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Hypothetical Example of an AMS Parameter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notonicity, specified by Vt integral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yword: “monotonic_vti_max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: “Maximum non-monotonicity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ge: Maximum value constrai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type: floating point numb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Entry Valid Range: 0 to 2.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ault Value: 0.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ed Value (from Constraint Spreadsheet): 0.02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763C-E536-4515-BF99-777792BE8D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The Big Questions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the IBIS Open Forum wish to investigate alternatives to continuing to add measurement keyword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the IBIS Open Forum wish to add to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lingual extensions to support better integration with SI tool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6527-82C6-4D16-9AE4-6AD7B3961F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666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2562-A5DA-4964-B6AE-C49C644834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IBIS Parameter Passing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 Select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s selection of one model from a  list of available mode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pular for changing terminati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efficient if there are lots of values as each alternative requires a full instantiation of a mod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HDL-AMS and Verilog AMS Multi-lingual parame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supplies parameter nam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MS source provides parameter name, data type and default valu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798A-150D-4005-B758-195F60BCD2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Needs for Measurements and Parameter Passing in IBIS,   IBIS Open Forum,   July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E8B4-32F3-4804-939B-2A371227A3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6:00:00Z</dcterms:created>
  <dc:creator/>
  <dc:description/>
  <dc:language>en-US</dc:language>
  <cp:lastModifiedBy/>
  <cp:lastPrinted>1901-01-01T06:00:00Z</cp:lastPrinted>
  <dcterms:modified xsi:type="dcterms:W3CDTF">2006-07-24T07:03:04Z</dcterms:modified>
  <cp:revision>2</cp:revision>
  <dc:subject/>
  <dc:title>New Needs for Measurements  and Parameter Passing in IBIS  IBIS Open Forum, July 2006 </dc:title>
</cp:coreProperties>
</file>