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E87-B007-42A4-B682-C83E0610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AFA-E3B1-4BE5-9E51-47D10D40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C05-FA62-44AA-A354-72CDEF4E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43E-CFA9-4736-B9BF-721237CE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6EA-D627-45EB-8D15-4000509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D92-432B-4A72-85DD-5D3CF87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41C-05E4-46AD-9CC5-7424EFC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666-ED82-4D1C-BBB5-DBC3D2AE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09A-FC9D-4073-98D1-42FC1B38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223-26A5-4E2D-BE07-D92B43A9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1E6-C253-4AC9-B4E9-97AEC11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6CD-A4B9-48CE-BA5B-EF1DE9F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6D8-B9A2-4588-8B86-D3BF1A78C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Kellee Crisafu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988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685800"/>
            <a:ext cx="71629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hat would you like the IBIS Model Wi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o help you with?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ell us what features you w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- Step me through the pin entry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ive me some help starting my VI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ease take a moment to think about how you create IBIS models and write down your ideas below, then give this form to Matt Flora or Kellee Crisafulli before you le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772400" y="1676520"/>
            <a:ext cx="103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98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6840" y="1447920"/>
            <a:ext cx="575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improve the quality an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BIS models for the high-speed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429000"/>
            <a:ext cx="52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tools to create IBI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methods of verifying th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98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61880" y="3429000"/>
            <a:ext cx="602532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price for the tool kit is  $4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e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Lynx will provide the tool ki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char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miconductor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IBIS models, provided th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made available free of charge to the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64040" y="1295280"/>
            <a:ext cx="521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crease the availability and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BIS models to the electrical engine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Lynx has created a tool k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eation of IBIS mode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988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49520" y="1828800"/>
            <a:ext cx="7730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What’s in the tool k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sual IBIS edi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built in IBIS rules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im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run the IB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-built schema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est 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hematic edi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reate any type of load circuit des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ver 800 IBIS models that can be used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98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600" y="7621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ual IBIS Editor and rules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5372280" cy="422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6095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958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105160" y="16002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7960" y="12193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33360" y="99072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vie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9680" y="13716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 ch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9320" y="297180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CII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9680" y="49528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 check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743440" cy="4600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143000" cy="988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2160" y="106668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example schem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19160" y="1828800"/>
            <a:ext cx="3429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723920" y="23623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23920" y="426708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16002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1160" y="213372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l up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1640" y="4038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 capac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988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5760" y="106668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457960" cy="4019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5562720" y="26668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2286000"/>
            <a:ext cx="13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IB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/typ/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371600" y="1371600"/>
            <a:ext cx="4572000" cy="1676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914400"/>
            <a:ext cx="13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/typ/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988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960" y="1676520"/>
            <a:ext cx="6863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What’s planned for future relea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BIS Model Wi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will query you fo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the device then walk you through the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IBIS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ckage Model Wi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will provide a  first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model for standard packages and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into the IBIS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yperLynx IBIS Developers Tool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98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97920" y="2133720"/>
            <a:ext cx="5321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w do I get my own cop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take a request form and fax or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o the address sh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email your reques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pport@hyperlyn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7T19:01:20Z</dcterms:created>
  <dc:creator>Kellee Crisafulli</dc:creator>
  <dc:description/>
  <dc:language>en-US</dc:language>
  <cp:lastModifiedBy>Kellee Crisafulli</cp:lastModifiedBy>
  <cp:lastPrinted>1998-01-07T23:33:52Z</cp:lastPrinted>
  <dcterms:modified xsi:type="dcterms:W3CDTF">1998-01-08T00:44:26Z</dcterms:modified>
  <cp:revision>17</cp:revision>
  <dc:subject/>
  <dc:title>HyperLynx IBIS Developers Tool Kit     Kellee Crisafulli</dc:title>
</cp:coreProperties>
</file>